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AAAF1-13B7-4332-91B4-974BD889E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92FB-7AC2-460F-974A-E78BB796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ECBA9-0C72-4E89-86F4-83A26AE20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34B2-F790-4D3A-8C27-11718CFDF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2B87-3754-420C-9024-1B1CDC98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A19A7-CD0E-4674-970D-31CC05CB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7464-B852-430D-B82A-1FECE5C9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339D-17FA-4739-A9A0-8C74F4250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AAA8-DF40-4986-A8AF-949570E1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4C7A-402A-4973-9096-5DD7B30F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373E-0183-4E97-B85A-EC3AF80D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BEF9-E2D8-434B-B295-FA5986324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A6F7-A5AA-4F8A-B68A-01E7DA80D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rm-u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3200" spc="-1" strike="noStrike">
                <a:solidFill>
                  <a:srgbClr val="000000"/>
                </a:solidFill>
                <a:latin typeface="Times New Roman"/>
              </a:rPr>
              <a:t>During lunchtime recess,  the green jersey kickball team 14 runs were scored out of the 20 students who got up to kick.  They want to keep track of their record.  Record their performance as a decimal fraction and percentage.</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imal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ction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centage _____</a:t>
            </a:r>
            <a:endParaRPr b="0" lang="en-US" sz="2000" spc="-1" strike="noStrike">
              <a:solidFill>
                <a:srgbClr val="000000"/>
              </a:solidFill>
              <a:latin typeface="Times New Roman"/>
            </a:endParaRPr>
          </a:p>
        </p:txBody>
      </p:sp>
      <p:pic>
        <p:nvPicPr>
          <p:cNvPr id="42" name="" descr=""/>
          <p:cNvPicPr/>
          <p:nvPr/>
        </p:nvPicPr>
        <p:blipFill>
          <a:blip r:embed="rId1"/>
          <a:stretch/>
        </p:blipFill>
        <p:spPr>
          <a:xfrm>
            <a:off x="4724280" y="4038480"/>
            <a:ext cx="2743200" cy="2271960"/>
          </a:xfrm>
          <a:prstGeom prst="rect">
            <a:avLst/>
          </a:prstGeom>
          <a:ln w="0">
            <a:noFill/>
          </a:ln>
        </p:spPr>
      </p:pic>
      <p:sp>
        <p:nvSpPr>
          <p:cNvPr id="43" name=""/>
          <p:cNvSpPr/>
          <p:nvPr/>
        </p:nvSpPr>
        <p:spPr>
          <a:xfrm>
            <a:off x="3062160" y="1258920"/>
            <a:ext cx="617760" cy="223920"/>
          </a:xfrm>
          <a:custGeom>
            <a:avLst/>
            <a:gdLst/>
            <a:ahLst/>
            <a:rect l="l" t="t" r="r" b="b"/>
            <a:pathLst>
              <a:path w="1713" h="622">
                <a:moveTo>
                  <a:pt x="8706" y="3721"/>
                </a:moveTo>
                <a:cubicBezTo>
                  <a:pt x="8648" y="3736"/>
                  <a:pt x="8574" y="3765"/>
                  <a:pt x="8533" y="3820"/>
                </a:cubicBezTo>
                <a:cubicBezTo>
                  <a:pt x="8533" y="3828"/>
                  <a:pt x="8533" y="3837"/>
                  <a:pt x="8533" y="3845"/>
                </a:cubicBezTo>
                <a:cubicBezTo>
                  <a:pt x="8634" y="3879"/>
                  <a:pt x="8783" y="3919"/>
                  <a:pt x="8682" y="4068"/>
                </a:cubicBezTo>
                <a:cubicBezTo>
                  <a:pt x="8615" y="4166"/>
                  <a:pt x="8521" y="4133"/>
                  <a:pt x="8508" y="4043"/>
                </a:cubicBezTo>
              </a:path>
              <a:path w="1713" h="622">
                <a:moveTo>
                  <a:pt x="8855" y="3696"/>
                </a:moveTo>
                <a:cubicBezTo>
                  <a:pt x="8790" y="3740"/>
                  <a:pt x="8849" y="3631"/>
                  <a:pt x="8806" y="3696"/>
                </a:cubicBezTo>
                <a:cubicBezTo>
                  <a:pt x="8738" y="3800"/>
                  <a:pt x="8741" y="3907"/>
                  <a:pt x="8855" y="3969"/>
                </a:cubicBezTo>
                <a:cubicBezTo>
                  <a:pt x="8896" y="3991"/>
                  <a:pt x="8950" y="3876"/>
                  <a:pt x="8954" y="3870"/>
                </a:cubicBezTo>
              </a:path>
              <a:path w="1713" h="622">
                <a:moveTo>
                  <a:pt x="9029" y="3696"/>
                </a:moveTo>
                <a:cubicBezTo>
                  <a:pt x="8967" y="3665"/>
                  <a:pt x="8961" y="3814"/>
                  <a:pt x="8954" y="3894"/>
                </a:cubicBezTo>
                <a:cubicBezTo>
                  <a:pt x="9052" y="3894"/>
                  <a:pt x="9217" y="3798"/>
                  <a:pt x="9153" y="3646"/>
                </a:cubicBezTo>
                <a:cubicBezTo>
                  <a:pt x="9139" y="3613"/>
                  <a:pt x="9081" y="3621"/>
                  <a:pt x="9054" y="3621"/>
                </a:cubicBezTo>
              </a:path>
              <a:path w="1713" h="622">
                <a:moveTo>
                  <a:pt x="9327" y="3746"/>
                </a:moveTo>
                <a:cubicBezTo>
                  <a:pt x="9327" y="3754"/>
                  <a:pt x="9327" y="3762"/>
                  <a:pt x="9327" y="3770"/>
                </a:cubicBezTo>
                <a:cubicBezTo>
                  <a:pt x="9365" y="3744"/>
                  <a:pt x="9340" y="3656"/>
                  <a:pt x="9401" y="3621"/>
                </a:cubicBezTo>
                <a:cubicBezTo>
                  <a:pt x="9426" y="3613"/>
                  <a:pt x="9450" y="3605"/>
                  <a:pt x="9475" y="3597"/>
                </a:cubicBezTo>
              </a:path>
              <a:path w="1713" h="622">
                <a:moveTo>
                  <a:pt x="9624" y="3746"/>
                </a:moveTo>
                <a:cubicBezTo>
                  <a:pt x="9707" y="3725"/>
                  <a:pt x="9734" y="3669"/>
                  <a:pt x="9773" y="3597"/>
                </a:cubicBezTo>
                <a:cubicBezTo>
                  <a:pt x="9659" y="3572"/>
                  <a:pt x="9593" y="3594"/>
                  <a:pt x="9599" y="3746"/>
                </a:cubicBezTo>
                <a:cubicBezTo>
                  <a:pt x="9604" y="3869"/>
                  <a:pt x="9725" y="3785"/>
                  <a:pt x="9773" y="3770"/>
                </a:cubicBezTo>
              </a:path>
              <a:path w="1713" h="622">
                <a:moveTo>
                  <a:pt x="10145" y="3646"/>
                </a:moveTo>
                <a:cubicBezTo>
                  <a:pt x="10114" y="3552"/>
                  <a:pt x="9968" y="3660"/>
                  <a:pt x="9922" y="3696"/>
                </a:cubicBezTo>
                <a:cubicBezTo>
                  <a:pt x="9897" y="3721"/>
                  <a:pt x="9872" y="3745"/>
                  <a:pt x="9847" y="3770"/>
                </a:cubicBezTo>
                <a:cubicBezTo>
                  <a:pt x="9932" y="3883"/>
                  <a:pt x="10059" y="3904"/>
                  <a:pt x="10170" y="3770"/>
                </a:cubicBezTo>
                <a:cubicBezTo>
                  <a:pt x="10187" y="3729"/>
                  <a:pt x="10203" y="3687"/>
                  <a:pt x="10220" y="3646"/>
                </a:cubicBezTo>
              </a:path>
              <a:path w="1713" h="622">
                <a:moveTo>
                  <a:pt x="10195" y="3497"/>
                </a:moveTo>
                <a:cubicBezTo>
                  <a:pt x="10195" y="3656"/>
                  <a:pt x="10182" y="3819"/>
                  <a:pt x="10220" y="39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367160" y="3768840"/>
            <a:ext cx="507960" cy="187200"/>
          </a:xfrm>
          <a:custGeom>
            <a:avLst/>
            <a:gdLst/>
            <a:ahLst/>
            <a:rect l="l" t="t" r="r" b="b"/>
            <a:pathLst>
              <a:path w="1415" h="521">
                <a:moveTo>
                  <a:pt x="12129" y="10964"/>
                </a:moveTo>
                <a:cubicBezTo>
                  <a:pt x="12268" y="10937"/>
                  <a:pt x="12392" y="10909"/>
                  <a:pt x="12526" y="10864"/>
                </a:cubicBezTo>
              </a:path>
              <a:path w="1415" h="521">
                <a:moveTo>
                  <a:pt x="12526" y="10864"/>
                </a:moveTo>
                <a:lnTo>
                  <a:pt x="12526" y="10864"/>
                </a:lnTo>
              </a:path>
              <a:path w="1415" h="521">
                <a:moveTo>
                  <a:pt x="13271" y="10492"/>
                </a:moveTo>
                <a:cubicBezTo>
                  <a:pt x="13234" y="10671"/>
                  <a:pt x="13219" y="10782"/>
                  <a:pt x="13246" y="10964"/>
                </a:cubicBezTo>
                <a:cubicBezTo>
                  <a:pt x="13475" y="10949"/>
                  <a:pt x="13555" y="10817"/>
                  <a:pt x="13543" y="10567"/>
                </a:cubicBezTo>
                <a:cubicBezTo>
                  <a:pt x="13538" y="10462"/>
                  <a:pt x="13477" y="10479"/>
                  <a:pt x="13395" y="104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384720" y="3776760"/>
            <a:ext cx="795240" cy="393480"/>
          </a:xfrm>
          <a:custGeom>
            <a:avLst/>
            <a:gdLst/>
            <a:ahLst/>
            <a:rect l="l" t="t" r="r" b="b"/>
            <a:pathLst>
              <a:path w="2209" h="1093">
                <a:moveTo>
                  <a:pt x="10046" y="10790"/>
                </a:moveTo>
                <a:cubicBezTo>
                  <a:pt x="9924" y="10818"/>
                  <a:pt x="9800" y="10831"/>
                  <a:pt x="9674" y="10840"/>
                </a:cubicBezTo>
              </a:path>
              <a:path w="2209" h="1093">
                <a:moveTo>
                  <a:pt x="9575" y="10790"/>
                </a:moveTo>
                <a:cubicBezTo>
                  <a:pt x="9584" y="10753"/>
                  <a:pt x="9602" y="10729"/>
                  <a:pt x="9624" y="10691"/>
                </a:cubicBezTo>
                <a:cubicBezTo>
                  <a:pt x="9594" y="10601"/>
                  <a:pt x="9484" y="10751"/>
                  <a:pt x="9451" y="10840"/>
                </a:cubicBezTo>
                <a:cubicBezTo>
                  <a:pt x="9353" y="11102"/>
                  <a:pt x="9436" y="11372"/>
                  <a:pt x="9723" y="11162"/>
                </a:cubicBezTo>
                <a:cubicBezTo>
                  <a:pt x="9859" y="11063"/>
                  <a:pt x="9998" y="10823"/>
                  <a:pt x="9798" y="10716"/>
                </a:cubicBezTo>
                <a:cubicBezTo>
                  <a:pt x="9714" y="10671"/>
                  <a:pt x="9659" y="10704"/>
                  <a:pt x="9575" y="10716"/>
                </a:cubicBezTo>
              </a:path>
              <a:path w="2209" h="1093">
                <a:moveTo>
                  <a:pt x="10170" y="11237"/>
                </a:moveTo>
                <a:cubicBezTo>
                  <a:pt x="10145" y="11237"/>
                  <a:pt x="10137" y="11237"/>
                  <a:pt x="10145" y="11261"/>
                </a:cubicBezTo>
                <a:cubicBezTo>
                  <a:pt x="10160" y="11252"/>
                  <a:pt x="10279" y="11157"/>
                  <a:pt x="10244" y="11112"/>
                </a:cubicBezTo>
                <a:cubicBezTo>
                  <a:pt x="10236" y="11112"/>
                  <a:pt x="10228" y="11112"/>
                  <a:pt x="10220" y="11112"/>
                </a:cubicBezTo>
              </a:path>
              <a:path w="2209" h="1093">
                <a:moveTo>
                  <a:pt x="10468" y="10691"/>
                </a:moveTo>
                <a:cubicBezTo>
                  <a:pt x="10468" y="10724"/>
                  <a:pt x="10468" y="10757"/>
                  <a:pt x="10468" y="10790"/>
                </a:cubicBezTo>
                <a:cubicBezTo>
                  <a:pt x="10468" y="10648"/>
                  <a:pt x="10457" y="10652"/>
                  <a:pt x="10592" y="10592"/>
                </a:cubicBezTo>
                <a:cubicBezTo>
                  <a:pt x="10652" y="10565"/>
                  <a:pt x="10726" y="10530"/>
                  <a:pt x="10790" y="10517"/>
                </a:cubicBezTo>
                <a:cubicBezTo>
                  <a:pt x="10806" y="10702"/>
                  <a:pt x="10735" y="10983"/>
                  <a:pt x="10691" y="11187"/>
                </a:cubicBezTo>
                <a:cubicBezTo>
                  <a:pt x="10671" y="11278"/>
                  <a:pt x="10645" y="11261"/>
                  <a:pt x="10716" y="11261"/>
                </a:cubicBezTo>
              </a:path>
              <a:path w="2209" h="1093">
                <a:moveTo>
                  <a:pt x="11187" y="10492"/>
                </a:moveTo>
                <a:cubicBezTo>
                  <a:pt x="11108" y="10650"/>
                  <a:pt x="11038" y="10879"/>
                  <a:pt x="11038" y="11063"/>
                </a:cubicBezTo>
                <a:cubicBezTo>
                  <a:pt x="11046" y="11096"/>
                  <a:pt x="11055" y="11129"/>
                  <a:pt x="11063" y="11162"/>
                </a:cubicBezTo>
                <a:cubicBezTo>
                  <a:pt x="11294" y="11109"/>
                  <a:pt x="11363" y="10904"/>
                  <a:pt x="11336" y="10666"/>
                </a:cubicBezTo>
                <a:cubicBezTo>
                  <a:pt x="11324" y="10561"/>
                  <a:pt x="11238" y="10517"/>
                  <a:pt x="11162" y="10492"/>
                </a:cubicBezTo>
              </a:path>
              <a:path w="2209" h="1093">
                <a:moveTo>
                  <a:pt x="10220" y="11261"/>
                </a:moveTo>
                <a:cubicBezTo>
                  <a:pt x="10266" y="11246"/>
                  <a:pt x="10226" y="11232"/>
                  <a:pt x="10220" y="11311"/>
                </a:cubicBezTo>
                <a:cubicBezTo>
                  <a:pt x="10220" y="11319"/>
                  <a:pt x="10220" y="11328"/>
                  <a:pt x="10220" y="11336"/>
                </a:cubicBezTo>
                <a:cubicBezTo>
                  <a:pt x="10252" y="11317"/>
                  <a:pt x="10422" y="11166"/>
                  <a:pt x="10269" y="11137"/>
                </a:cubicBezTo>
                <a:cubicBezTo>
                  <a:pt x="10210" y="11126"/>
                  <a:pt x="10155" y="11291"/>
                  <a:pt x="10145" y="11311"/>
                </a:cubicBezTo>
                <a:cubicBezTo>
                  <a:pt x="10160" y="11355"/>
                  <a:pt x="10201" y="11329"/>
                  <a:pt x="10220" y="11286"/>
                </a:cubicBezTo>
                <a:cubicBezTo>
                  <a:pt x="10220" y="11278"/>
                  <a:pt x="10220" y="11269"/>
                  <a:pt x="10220" y="11261"/>
                </a:cubicBezTo>
              </a:path>
              <a:path w="2209" h="1093">
                <a:moveTo>
                  <a:pt x="10269" y="11435"/>
                </a:moveTo>
                <a:cubicBezTo>
                  <a:pt x="10269" y="11402"/>
                  <a:pt x="10269" y="11369"/>
                  <a:pt x="10269" y="11336"/>
                </a:cubicBezTo>
              </a:path>
              <a:path w="2209" h="1093">
                <a:moveTo>
                  <a:pt x="10666" y="11509"/>
                </a:moveTo>
                <a:cubicBezTo>
                  <a:pt x="10705" y="11509"/>
                  <a:pt x="10760" y="11519"/>
                  <a:pt x="10790" y="11485"/>
                </a:cubicBezTo>
                <a:cubicBezTo>
                  <a:pt x="10797" y="11477"/>
                  <a:pt x="10859" y="11443"/>
                  <a:pt x="10864" y="11435"/>
                </a:cubicBezTo>
                <a:cubicBezTo>
                  <a:pt x="10879" y="11412"/>
                  <a:pt x="10873" y="11361"/>
                  <a:pt x="10889" y="11336"/>
                </a:cubicBezTo>
                <a:cubicBezTo>
                  <a:pt x="10917" y="11294"/>
                  <a:pt x="10908" y="11257"/>
                  <a:pt x="10939" y="11237"/>
                </a:cubicBezTo>
                <a:cubicBezTo>
                  <a:pt x="10933" y="11237"/>
                  <a:pt x="10893" y="11315"/>
                  <a:pt x="10889" y="11385"/>
                </a:cubicBezTo>
                <a:cubicBezTo>
                  <a:pt x="10887" y="11423"/>
                  <a:pt x="10907" y="11531"/>
                  <a:pt x="10939" y="11559"/>
                </a:cubicBezTo>
                <a:cubicBezTo>
                  <a:pt x="10968" y="11584"/>
                  <a:pt x="11022" y="11584"/>
                  <a:pt x="11063" y="11584"/>
                </a:cubicBezTo>
                <a:cubicBezTo>
                  <a:pt x="11148" y="11584"/>
                  <a:pt x="11183" y="11569"/>
                  <a:pt x="11261" y="11534"/>
                </a:cubicBezTo>
                <a:cubicBezTo>
                  <a:pt x="11353" y="11492"/>
                  <a:pt x="11350" y="11454"/>
                  <a:pt x="11385" y="11385"/>
                </a:cubicBezTo>
                <a:cubicBezTo>
                  <a:pt x="11421" y="11314"/>
                  <a:pt x="11435" y="11256"/>
                  <a:pt x="11460" y="11187"/>
                </a:cubicBezTo>
                <a:cubicBezTo>
                  <a:pt x="11479" y="11134"/>
                  <a:pt x="11490" y="11091"/>
                  <a:pt x="11509" y="11038"/>
                </a:cubicBezTo>
                <a:cubicBezTo>
                  <a:pt x="11509" y="11045"/>
                  <a:pt x="11501" y="11148"/>
                  <a:pt x="11534" y="11112"/>
                </a:cubicBezTo>
                <a:cubicBezTo>
                  <a:pt x="11556" y="11069"/>
                  <a:pt x="11560" y="11057"/>
                  <a:pt x="11584" y="11038"/>
                </a:cubicBezTo>
                <a:cubicBezTo>
                  <a:pt x="11533" y="11051"/>
                  <a:pt x="11538" y="11062"/>
                  <a:pt x="11509" y="11112"/>
                </a:cubicBezTo>
                <a:cubicBezTo>
                  <a:pt x="11549" y="11096"/>
                  <a:pt x="11664" y="10961"/>
                  <a:pt x="11559" y="11038"/>
                </a:cubicBezTo>
                <a:cubicBezTo>
                  <a:pt x="11548" y="11046"/>
                  <a:pt x="11456" y="11138"/>
                  <a:pt x="11534"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330800" y="3867120"/>
            <a:ext cx="108000" cy="7920"/>
          </a:xfrm>
          <a:custGeom>
            <a:avLst/>
            <a:gdLst/>
            <a:ahLst/>
            <a:rect l="l" t="t" r="r" b="b"/>
            <a:pathLst>
              <a:path w="299" h="26">
                <a:moveTo>
                  <a:pt x="12030" y="10765"/>
                </a:moveTo>
                <a:cubicBezTo>
                  <a:pt x="12137" y="10757"/>
                  <a:pt x="12233" y="10724"/>
                  <a:pt x="12328" y="10765"/>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 name=""/>
          <p:cNvSpPr/>
          <p:nvPr/>
        </p:nvSpPr>
        <p:spPr>
          <a:xfrm>
            <a:off x="4562640" y="3759120"/>
            <a:ext cx="144360" cy="223920"/>
          </a:xfrm>
          <a:custGeom>
            <a:avLst/>
            <a:gdLst/>
            <a:ahLst/>
            <a:rect l="l" t="t" r="r" b="b"/>
            <a:pathLst>
              <a:path w="398" h="621">
                <a:moveTo>
                  <a:pt x="12675" y="10468"/>
                </a:moveTo>
                <a:cubicBezTo>
                  <a:pt x="12810" y="10481"/>
                  <a:pt x="12888" y="10469"/>
                  <a:pt x="13022" y="10443"/>
                </a:cubicBezTo>
                <a:cubicBezTo>
                  <a:pt x="13030" y="10443"/>
                  <a:pt x="13039" y="10443"/>
                  <a:pt x="13047" y="10443"/>
                </a:cubicBezTo>
                <a:cubicBezTo>
                  <a:pt x="13065" y="10652"/>
                  <a:pt x="12814" y="11163"/>
                  <a:pt x="12998" y="11063"/>
                </a:cubicBezTo>
                <a:cubicBezTo>
                  <a:pt x="13023" y="11022"/>
                  <a:pt x="13047" y="10980"/>
                  <a:pt x="13072" y="109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894200" y="3687840"/>
            <a:ext cx="214200" cy="304560"/>
          </a:xfrm>
          <a:custGeom>
            <a:avLst/>
            <a:gdLst/>
            <a:ahLst/>
            <a:rect l="l" t="t" r="r" b="b"/>
            <a:pathLst>
              <a:path w="596" h="845">
                <a:moveTo>
                  <a:pt x="13717" y="10244"/>
                </a:moveTo>
                <a:cubicBezTo>
                  <a:pt x="13622" y="10291"/>
                  <a:pt x="13584" y="10430"/>
                  <a:pt x="13593" y="10542"/>
                </a:cubicBezTo>
                <a:cubicBezTo>
                  <a:pt x="13601" y="10550"/>
                  <a:pt x="13610" y="10559"/>
                  <a:pt x="13618" y="10567"/>
                </a:cubicBezTo>
                <a:cubicBezTo>
                  <a:pt x="13761" y="10464"/>
                  <a:pt x="13757" y="10468"/>
                  <a:pt x="13742" y="10294"/>
                </a:cubicBezTo>
                <a:cubicBezTo>
                  <a:pt x="13742" y="10286"/>
                  <a:pt x="13742" y="10277"/>
                  <a:pt x="13742" y="10269"/>
                </a:cubicBezTo>
                <a:cubicBezTo>
                  <a:pt x="13910" y="10295"/>
                  <a:pt x="14042" y="10388"/>
                  <a:pt x="14039" y="10592"/>
                </a:cubicBezTo>
                <a:cubicBezTo>
                  <a:pt x="14038" y="10674"/>
                  <a:pt x="13864" y="11030"/>
                  <a:pt x="13891" y="11088"/>
                </a:cubicBezTo>
                <a:cubicBezTo>
                  <a:pt x="13899" y="11080"/>
                  <a:pt x="13907" y="11071"/>
                  <a:pt x="13915" y="11063"/>
                </a:cubicBezTo>
              </a:path>
              <a:path w="596" h="845">
                <a:moveTo>
                  <a:pt x="14139" y="10815"/>
                </a:moveTo>
                <a:cubicBezTo>
                  <a:pt x="14104" y="10850"/>
                  <a:pt x="14091" y="10872"/>
                  <a:pt x="14089" y="10914"/>
                </a:cubicBezTo>
                <a:cubicBezTo>
                  <a:pt x="14125" y="10905"/>
                  <a:pt x="14243" y="10866"/>
                  <a:pt x="14163" y="108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571760" y="4286160"/>
            <a:ext cx="635040" cy="268200"/>
          </a:xfrm>
          <a:custGeom>
            <a:avLst/>
            <a:gdLst/>
            <a:ahLst/>
            <a:rect l="l" t="t" r="r" b="b"/>
            <a:pathLst>
              <a:path w="1762" h="745">
                <a:moveTo>
                  <a:pt x="4762" y="12154"/>
                </a:moveTo>
                <a:cubicBezTo>
                  <a:pt x="4696" y="12087"/>
                  <a:pt x="4653" y="12063"/>
                  <a:pt x="4564" y="12030"/>
                </a:cubicBezTo>
                <a:cubicBezTo>
                  <a:pt x="4424" y="12108"/>
                  <a:pt x="4338" y="12251"/>
                  <a:pt x="4366" y="12427"/>
                </a:cubicBezTo>
                <a:cubicBezTo>
                  <a:pt x="4402" y="12648"/>
                  <a:pt x="4621" y="12736"/>
                  <a:pt x="4787" y="12576"/>
                </a:cubicBezTo>
                <a:cubicBezTo>
                  <a:pt x="4902" y="12465"/>
                  <a:pt x="4912" y="12171"/>
                  <a:pt x="4762" y="12080"/>
                </a:cubicBezTo>
                <a:cubicBezTo>
                  <a:pt x="4685" y="12033"/>
                  <a:pt x="4574" y="12055"/>
                  <a:pt x="4490" y="12055"/>
                </a:cubicBezTo>
              </a:path>
              <a:path w="1762" h="745">
                <a:moveTo>
                  <a:pt x="5060" y="12452"/>
                </a:moveTo>
                <a:cubicBezTo>
                  <a:pt x="5041" y="12509"/>
                  <a:pt x="5032" y="12516"/>
                  <a:pt x="5035" y="12551"/>
                </a:cubicBezTo>
                <a:cubicBezTo>
                  <a:pt x="5062" y="12529"/>
                  <a:pt x="5130" y="12430"/>
                  <a:pt x="5060" y="12477"/>
                </a:cubicBezTo>
              </a:path>
              <a:path w="1762" h="745">
                <a:moveTo>
                  <a:pt x="5234" y="12105"/>
                </a:moveTo>
                <a:cubicBezTo>
                  <a:pt x="5234" y="12158"/>
                  <a:pt x="5245" y="12001"/>
                  <a:pt x="5283" y="11981"/>
                </a:cubicBezTo>
                <a:cubicBezTo>
                  <a:pt x="5357" y="11941"/>
                  <a:pt x="5474" y="11932"/>
                  <a:pt x="5556" y="11906"/>
                </a:cubicBezTo>
                <a:cubicBezTo>
                  <a:pt x="5636" y="12064"/>
                  <a:pt x="5587" y="12253"/>
                  <a:pt x="5556" y="12427"/>
                </a:cubicBezTo>
                <a:cubicBezTo>
                  <a:pt x="5537" y="12501"/>
                  <a:pt x="5529" y="12560"/>
                  <a:pt x="5531" y="12502"/>
                </a:cubicBezTo>
              </a:path>
              <a:path w="1762" h="745">
                <a:moveTo>
                  <a:pt x="5904" y="11906"/>
                </a:moveTo>
                <a:cubicBezTo>
                  <a:pt x="5875" y="12021"/>
                  <a:pt x="5797" y="12150"/>
                  <a:pt x="5779" y="12278"/>
                </a:cubicBezTo>
                <a:cubicBezTo>
                  <a:pt x="5761" y="12407"/>
                  <a:pt x="5789" y="12473"/>
                  <a:pt x="5854" y="12576"/>
                </a:cubicBezTo>
                <a:cubicBezTo>
                  <a:pt x="6014" y="12466"/>
                  <a:pt x="6170" y="12348"/>
                  <a:pt x="6102" y="12129"/>
                </a:cubicBezTo>
                <a:cubicBezTo>
                  <a:pt x="6078" y="12052"/>
                  <a:pt x="5980" y="11890"/>
                  <a:pt x="5879" y="11906"/>
                </a:cubicBezTo>
                <a:cubicBezTo>
                  <a:pt x="5844" y="11941"/>
                  <a:pt x="5831" y="11963"/>
                  <a:pt x="5829"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384280" y="4330800"/>
            <a:ext cx="204840" cy="117360"/>
          </a:xfrm>
          <a:custGeom>
            <a:avLst/>
            <a:gdLst/>
            <a:ahLst/>
            <a:rect l="l" t="t" r="r" b="b"/>
            <a:pathLst>
              <a:path w="571" h="324">
                <a:moveTo>
                  <a:pt x="6821" y="12129"/>
                </a:moveTo>
                <a:cubicBezTo>
                  <a:pt x="6797" y="12035"/>
                  <a:pt x="6687" y="12075"/>
                  <a:pt x="6648" y="12154"/>
                </a:cubicBezTo>
                <a:cubicBezTo>
                  <a:pt x="6626" y="12262"/>
                  <a:pt x="6613" y="12289"/>
                  <a:pt x="6648" y="12353"/>
                </a:cubicBezTo>
                <a:cubicBezTo>
                  <a:pt x="6739" y="12334"/>
                  <a:pt x="6912" y="12256"/>
                  <a:pt x="6796" y="12129"/>
                </a:cubicBezTo>
                <a:cubicBezTo>
                  <a:pt x="6780" y="12129"/>
                  <a:pt x="6763" y="12129"/>
                  <a:pt x="6747" y="12129"/>
                </a:cubicBezTo>
              </a:path>
              <a:path w="571" h="324">
                <a:moveTo>
                  <a:pt x="7020" y="12229"/>
                </a:moveTo>
                <a:cubicBezTo>
                  <a:pt x="7020" y="12245"/>
                  <a:pt x="7020" y="12262"/>
                  <a:pt x="7020" y="12278"/>
                </a:cubicBezTo>
                <a:cubicBezTo>
                  <a:pt x="7005" y="12206"/>
                  <a:pt x="6975" y="12143"/>
                  <a:pt x="7045" y="12080"/>
                </a:cubicBezTo>
                <a:cubicBezTo>
                  <a:pt x="7115" y="12033"/>
                  <a:pt x="7134" y="12016"/>
                  <a:pt x="7193" y="120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786040" y="4224240"/>
            <a:ext cx="500040" cy="285840"/>
          </a:xfrm>
          <a:custGeom>
            <a:avLst/>
            <a:gdLst/>
            <a:ahLst/>
            <a:rect l="l" t="t" r="r" b="b"/>
            <a:pathLst>
              <a:path w="1390" h="794">
                <a:moveTo>
                  <a:pt x="7987" y="11782"/>
                </a:moveTo>
                <a:cubicBezTo>
                  <a:pt x="7872" y="11899"/>
                  <a:pt x="7760" y="12181"/>
                  <a:pt x="7739" y="12353"/>
                </a:cubicBezTo>
                <a:cubicBezTo>
                  <a:pt x="7747" y="12394"/>
                  <a:pt x="7756" y="12436"/>
                  <a:pt x="7764" y="12477"/>
                </a:cubicBezTo>
                <a:cubicBezTo>
                  <a:pt x="7997" y="12515"/>
                  <a:pt x="8213" y="12369"/>
                  <a:pt x="8235" y="12080"/>
                </a:cubicBezTo>
                <a:cubicBezTo>
                  <a:pt x="8249" y="11889"/>
                  <a:pt x="8066" y="11744"/>
                  <a:pt x="7888" y="11782"/>
                </a:cubicBezTo>
                <a:cubicBezTo>
                  <a:pt x="7880" y="11790"/>
                  <a:pt x="7871" y="11799"/>
                  <a:pt x="7863" y="11807"/>
                </a:cubicBezTo>
              </a:path>
              <a:path w="1390" h="794">
                <a:moveTo>
                  <a:pt x="8582" y="12328"/>
                </a:moveTo>
                <a:cubicBezTo>
                  <a:pt x="8553" y="12358"/>
                  <a:pt x="8542" y="12372"/>
                  <a:pt x="8533" y="12402"/>
                </a:cubicBezTo>
                <a:cubicBezTo>
                  <a:pt x="8553" y="12387"/>
                  <a:pt x="8647" y="12283"/>
                  <a:pt x="8558" y="12328"/>
                </a:cubicBezTo>
                <a:cubicBezTo>
                  <a:pt x="8550" y="12336"/>
                  <a:pt x="8541" y="12345"/>
                  <a:pt x="8533" y="12353"/>
                </a:cubicBezTo>
              </a:path>
              <a:path w="1390" h="794">
                <a:moveTo>
                  <a:pt x="8781" y="11931"/>
                </a:moveTo>
                <a:cubicBezTo>
                  <a:pt x="8804" y="11954"/>
                  <a:pt x="8812" y="11958"/>
                  <a:pt x="8806" y="11981"/>
                </a:cubicBezTo>
                <a:cubicBezTo>
                  <a:pt x="8843" y="11968"/>
                  <a:pt x="8886" y="11885"/>
                  <a:pt x="8905" y="11832"/>
                </a:cubicBezTo>
                <a:cubicBezTo>
                  <a:pt x="8924" y="11779"/>
                  <a:pt x="9042" y="11759"/>
                  <a:pt x="9103" y="11733"/>
                </a:cubicBezTo>
                <a:cubicBezTo>
                  <a:pt x="9135" y="11891"/>
                  <a:pt x="9086" y="12017"/>
                  <a:pt x="9054" y="12179"/>
                </a:cubicBezTo>
                <a:cubicBezTo>
                  <a:pt x="9036" y="12287"/>
                  <a:pt x="9028" y="12294"/>
                  <a:pt x="9029" y="123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955960" y="4626000"/>
            <a:ext cx="473040" cy="419040"/>
          </a:xfrm>
          <a:custGeom>
            <a:avLst/>
            <a:gdLst/>
            <a:ahLst/>
            <a:rect l="l" t="t" r="r" b="b"/>
            <a:pathLst>
              <a:path w="1316" h="1167">
                <a:moveTo>
                  <a:pt x="8235" y="12948"/>
                </a:moveTo>
                <a:cubicBezTo>
                  <a:pt x="8313" y="12948"/>
                  <a:pt x="8381" y="12951"/>
                  <a:pt x="8458" y="12923"/>
                </a:cubicBezTo>
                <a:cubicBezTo>
                  <a:pt x="8491" y="12907"/>
                  <a:pt x="8525" y="12890"/>
                  <a:pt x="8558" y="12874"/>
                </a:cubicBezTo>
                <a:cubicBezTo>
                  <a:pt x="8584" y="13022"/>
                  <a:pt x="8516" y="13145"/>
                  <a:pt x="8483" y="13295"/>
                </a:cubicBezTo>
                <a:cubicBezTo>
                  <a:pt x="8483" y="13303"/>
                  <a:pt x="8483" y="13312"/>
                  <a:pt x="8483" y="13320"/>
                </a:cubicBezTo>
              </a:path>
              <a:path w="1316" h="1167">
                <a:moveTo>
                  <a:pt x="8880" y="12874"/>
                </a:moveTo>
                <a:cubicBezTo>
                  <a:pt x="8788" y="12976"/>
                  <a:pt x="8756" y="13082"/>
                  <a:pt x="8781" y="13221"/>
                </a:cubicBezTo>
                <a:cubicBezTo>
                  <a:pt x="8889" y="13196"/>
                  <a:pt x="9087" y="13107"/>
                  <a:pt x="8979" y="12948"/>
                </a:cubicBezTo>
                <a:cubicBezTo>
                  <a:pt x="8907" y="12842"/>
                  <a:pt x="8857" y="12847"/>
                  <a:pt x="8806" y="12898"/>
                </a:cubicBezTo>
              </a:path>
              <a:path w="1316" h="1167">
                <a:moveTo>
                  <a:pt x="8285" y="13519"/>
                </a:moveTo>
                <a:cubicBezTo>
                  <a:pt x="8467" y="13462"/>
                  <a:pt x="8673" y="13454"/>
                  <a:pt x="8855" y="13395"/>
                </a:cubicBezTo>
                <a:cubicBezTo>
                  <a:pt x="8928" y="13358"/>
                  <a:pt x="8961" y="13313"/>
                  <a:pt x="8954" y="13370"/>
                </a:cubicBezTo>
              </a:path>
              <a:path w="1316" h="1167">
                <a:moveTo>
                  <a:pt x="8285" y="13543"/>
                </a:moveTo>
                <a:cubicBezTo>
                  <a:pt x="8272" y="13695"/>
                  <a:pt x="8236" y="13840"/>
                  <a:pt x="8210" y="13990"/>
                </a:cubicBezTo>
                <a:cubicBezTo>
                  <a:pt x="8210" y="14015"/>
                  <a:pt x="8210" y="14023"/>
                  <a:pt x="8210" y="13990"/>
                </a:cubicBezTo>
              </a:path>
              <a:path w="1316" h="1167">
                <a:moveTo>
                  <a:pt x="8607" y="13593"/>
                </a:moveTo>
                <a:cubicBezTo>
                  <a:pt x="8517" y="13717"/>
                  <a:pt x="8472" y="13818"/>
                  <a:pt x="8483" y="13965"/>
                </a:cubicBezTo>
                <a:cubicBezTo>
                  <a:pt x="8575" y="13955"/>
                  <a:pt x="8768" y="13908"/>
                  <a:pt x="8731" y="13767"/>
                </a:cubicBezTo>
                <a:cubicBezTo>
                  <a:pt x="8718" y="13718"/>
                  <a:pt x="8582" y="13628"/>
                  <a:pt x="8582" y="13667"/>
                </a:cubicBezTo>
              </a:path>
              <a:path w="1316" h="1167">
                <a:moveTo>
                  <a:pt x="8930" y="13543"/>
                </a:moveTo>
                <a:cubicBezTo>
                  <a:pt x="8841" y="13587"/>
                  <a:pt x="8808" y="13739"/>
                  <a:pt x="8830" y="13841"/>
                </a:cubicBezTo>
                <a:cubicBezTo>
                  <a:pt x="8847" y="13866"/>
                  <a:pt x="8863" y="13890"/>
                  <a:pt x="8880" y="13915"/>
                </a:cubicBezTo>
                <a:cubicBezTo>
                  <a:pt x="8989" y="13845"/>
                  <a:pt x="9139" y="13716"/>
                  <a:pt x="8954" y="13593"/>
                </a:cubicBezTo>
                <a:cubicBezTo>
                  <a:pt x="8893" y="13593"/>
                  <a:pt x="8877" y="13584"/>
                  <a:pt x="8855" y="13618"/>
                </a:cubicBezTo>
              </a:path>
              <a:path w="1316" h="1167">
                <a:moveTo>
                  <a:pt x="9351" y="12998"/>
                </a:moveTo>
                <a:cubicBezTo>
                  <a:pt x="9300" y="12971"/>
                  <a:pt x="9440" y="12955"/>
                  <a:pt x="9475" y="12948"/>
                </a:cubicBezTo>
                <a:cubicBezTo>
                  <a:pt x="9500" y="12948"/>
                  <a:pt x="9508" y="12948"/>
                  <a:pt x="9525" y="129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697200" y="4081320"/>
            <a:ext cx="142920" cy="71640"/>
          </a:xfrm>
          <a:custGeom>
            <a:avLst/>
            <a:gdLst/>
            <a:ahLst/>
            <a:rect l="l" t="t" r="r" b="b"/>
            <a:pathLst>
              <a:path w="398" h="199">
                <a:moveTo>
                  <a:pt x="10269" y="11336"/>
                </a:moveTo>
                <a:cubicBezTo>
                  <a:pt x="10269" y="11374"/>
                  <a:pt x="10253" y="11440"/>
                  <a:pt x="10294" y="11460"/>
                </a:cubicBezTo>
                <a:cubicBezTo>
                  <a:pt x="10302" y="11460"/>
                  <a:pt x="10311" y="11460"/>
                  <a:pt x="10319" y="11460"/>
                </a:cubicBezTo>
                <a:cubicBezTo>
                  <a:pt x="10329" y="11489"/>
                  <a:pt x="10352" y="11505"/>
                  <a:pt x="10393" y="11509"/>
                </a:cubicBezTo>
                <a:cubicBezTo>
                  <a:pt x="10433" y="11513"/>
                  <a:pt x="10447" y="11534"/>
                  <a:pt x="10492" y="11534"/>
                </a:cubicBezTo>
                <a:cubicBezTo>
                  <a:pt x="10533" y="11534"/>
                  <a:pt x="10575" y="11534"/>
                  <a:pt x="10616" y="11534"/>
                </a:cubicBezTo>
                <a:cubicBezTo>
                  <a:pt x="10628" y="11499"/>
                  <a:pt x="10623" y="11509"/>
                  <a:pt x="10666" y="11509"/>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 name=""/>
          <p:cNvSpPr/>
          <p:nvPr/>
        </p:nvSpPr>
        <p:spPr>
          <a:xfrm>
            <a:off x="3697200" y="4081320"/>
            <a:ext cx="142920" cy="61920"/>
          </a:xfrm>
          <a:custGeom>
            <a:avLst/>
            <a:gdLst/>
            <a:ahLst/>
            <a:rect l="l" t="t" r="r" b="b"/>
            <a:pathLst>
              <a:path w="398" h="174">
                <a:moveTo>
                  <a:pt x="10269" y="11336"/>
                </a:moveTo>
                <a:lnTo>
                  <a:pt x="10269" y="11336"/>
                </a:lnTo>
              </a:path>
              <a:path w="398" h="174">
                <a:moveTo>
                  <a:pt x="10269" y="11336"/>
                </a:moveTo>
                <a:lnTo>
                  <a:pt x="10269" y="11336"/>
                </a:lnTo>
              </a:path>
              <a:path w="398" h="174">
                <a:moveTo>
                  <a:pt x="10269" y="11336"/>
                </a:moveTo>
                <a:lnTo>
                  <a:pt x="10269" y="11336"/>
                </a:lnTo>
              </a:path>
              <a:path w="398" h="174">
                <a:moveTo>
                  <a:pt x="10666" y="11509"/>
                </a:moveTo>
                <a:lnTo>
                  <a:pt x="10666" y="11509"/>
                </a:ln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 name=""/>
          <p:cNvSpPr/>
          <p:nvPr/>
        </p:nvSpPr>
        <p:spPr>
          <a:xfrm>
            <a:off x="1874880" y="4626000"/>
            <a:ext cx="2411280" cy="411120"/>
          </a:xfrm>
          <a:custGeom>
            <a:avLst/>
            <a:gdLst/>
            <a:ahLst/>
            <a:rect l="l" t="t" r="r" b="b"/>
            <a:pathLst>
              <a:path w="6698" h="1142">
                <a:moveTo>
                  <a:pt x="5209" y="13667"/>
                </a:moveTo>
                <a:lnTo>
                  <a:pt x="5209" y="13667"/>
                </a:lnTo>
              </a:path>
              <a:path w="6698" h="1142">
                <a:moveTo>
                  <a:pt x="5209" y="13990"/>
                </a:moveTo>
                <a:lnTo>
                  <a:pt x="5209" y="13990"/>
                </a:lnTo>
                <a:lnTo>
                  <a:pt x="5209" y="13990"/>
                </a:lnTo>
              </a:path>
              <a:path w="6698" h="1142">
                <a:moveTo>
                  <a:pt x="9451" y="12849"/>
                </a:moveTo>
                <a:cubicBezTo>
                  <a:pt x="9451" y="12857"/>
                  <a:pt x="9451" y="12866"/>
                  <a:pt x="9451" y="12874"/>
                </a:cubicBezTo>
              </a:path>
              <a:path w="6698" h="1142">
                <a:moveTo>
                  <a:pt x="9525" y="13146"/>
                </a:moveTo>
                <a:lnTo>
                  <a:pt x="9525" y="13146"/>
                </a:lnTo>
                <a:lnTo>
                  <a:pt x="9525" y="13146"/>
                </a:lnTo>
              </a:path>
              <a:path w="6698" h="1142">
                <a:moveTo>
                  <a:pt x="9525" y="13146"/>
                </a:moveTo>
                <a:lnTo>
                  <a:pt x="9525" y="13146"/>
                </a:lnTo>
              </a:path>
              <a:path w="6698" h="1142">
                <a:moveTo>
                  <a:pt x="11261" y="13295"/>
                </a:moveTo>
                <a:cubicBezTo>
                  <a:pt x="11460" y="13202"/>
                  <a:pt x="11700" y="13051"/>
                  <a:pt x="11906"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66960" y="4599000"/>
            <a:ext cx="741240" cy="465120"/>
          </a:xfrm>
          <a:custGeom>
            <a:avLst/>
            <a:gdLst/>
            <a:ahLst/>
            <a:rect l="l" t="t" r="r" b="b"/>
            <a:pathLst>
              <a:path w="2060" h="1291">
                <a:moveTo>
                  <a:pt x="5184" y="13816"/>
                </a:moveTo>
                <a:cubicBezTo>
                  <a:pt x="5209" y="13816"/>
                  <a:pt x="5234" y="13816"/>
                  <a:pt x="5259" y="13816"/>
                </a:cubicBezTo>
              </a:path>
              <a:path w="2060" h="1291">
                <a:moveTo>
                  <a:pt x="5407" y="13146"/>
                </a:moveTo>
                <a:cubicBezTo>
                  <a:pt x="5407" y="13122"/>
                  <a:pt x="5407" y="13114"/>
                  <a:pt x="5432" y="13122"/>
                </a:cubicBezTo>
                <a:cubicBezTo>
                  <a:pt x="5499" y="13188"/>
                  <a:pt x="5424" y="13261"/>
                  <a:pt x="5358" y="13320"/>
                </a:cubicBezTo>
                <a:cubicBezTo>
                  <a:pt x="5427" y="13320"/>
                  <a:pt x="5488" y="13303"/>
                  <a:pt x="5556" y="13295"/>
                </a:cubicBezTo>
              </a:path>
              <a:path w="2060" h="1291">
                <a:moveTo>
                  <a:pt x="5482" y="13667"/>
                </a:moveTo>
                <a:cubicBezTo>
                  <a:pt x="5526" y="13658"/>
                  <a:pt x="5560" y="13643"/>
                  <a:pt x="5606" y="13643"/>
                </a:cubicBezTo>
                <a:cubicBezTo>
                  <a:pt x="5564" y="13794"/>
                  <a:pt x="5464" y="13828"/>
                  <a:pt x="5383" y="13940"/>
                </a:cubicBezTo>
                <a:cubicBezTo>
                  <a:pt x="5391" y="13940"/>
                  <a:pt x="5399" y="13940"/>
                  <a:pt x="5407" y="13940"/>
                </a:cubicBezTo>
                <a:cubicBezTo>
                  <a:pt x="5514" y="13928"/>
                  <a:pt x="5587" y="13895"/>
                  <a:pt x="5680" y="13841"/>
                </a:cubicBezTo>
              </a:path>
              <a:path w="2060" h="1291">
                <a:moveTo>
                  <a:pt x="5904" y="13320"/>
                </a:moveTo>
                <a:cubicBezTo>
                  <a:pt x="5953" y="13295"/>
                  <a:pt x="5991" y="13295"/>
                  <a:pt x="6052" y="13295"/>
                </a:cubicBezTo>
              </a:path>
              <a:path w="2060" h="1291">
                <a:moveTo>
                  <a:pt x="5879" y="13494"/>
                </a:moveTo>
                <a:cubicBezTo>
                  <a:pt x="5920" y="13494"/>
                  <a:pt x="5962" y="13494"/>
                  <a:pt x="6003" y="13494"/>
                </a:cubicBezTo>
              </a:path>
              <a:path w="2060" h="1291">
                <a:moveTo>
                  <a:pt x="6449" y="12973"/>
                </a:moveTo>
                <a:cubicBezTo>
                  <a:pt x="6547" y="12934"/>
                  <a:pt x="6642" y="12909"/>
                  <a:pt x="6747" y="12898"/>
                </a:cubicBezTo>
                <a:cubicBezTo>
                  <a:pt x="6692" y="12996"/>
                  <a:pt x="6607" y="13084"/>
                  <a:pt x="6598" y="13196"/>
                </a:cubicBezTo>
                <a:cubicBezTo>
                  <a:pt x="6598" y="13204"/>
                  <a:pt x="6598" y="13213"/>
                  <a:pt x="6598" y="13221"/>
                </a:cubicBezTo>
              </a:path>
              <a:path w="2060" h="1291">
                <a:moveTo>
                  <a:pt x="6300" y="13395"/>
                </a:moveTo>
                <a:cubicBezTo>
                  <a:pt x="6467" y="13386"/>
                  <a:pt x="6630" y="13353"/>
                  <a:pt x="6796" y="13345"/>
                </a:cubicBezTo>
                <a:cubicBezTo>
                  <a:pt x="6838" y="13343"/>
                  <a:pt x="6835" y="13336"/>
                  <a:pt x="6846" y="13370"/>
                </a:cubicBezTo>
              </a:path>
              <a:path w="2060" h="1291">
                <a:moveTo>
                  <a:pt x="6350" y="13593"/>
                </a:moveTo>
                <a:cubicBezTo>
                  <a:pt x="6350" y="13568"/>
                  <a:pt x="6350" y="13560"/>
                  <a:pt x="6350" y="13543"/>
                </a:cubicBezTo>
                <a:cubicBezTo>
                  <a:pt x="6340" y="13619"/>
                  <a:pt x="6269" y="13770"/>
                  <a:pt x="6276" y="13841"/>
                </a:cubicBezTo>
                <a:cubicBezTo>
                  <a:pt x="6322" y="13841"/>
                  <a:pt x="6348" y="13829"/>
                  <a:pt x="6375" y="13791"/>
                </a:cubicBezTo>
              </a:path>
              <a:path w="2060" h="1291">
                <a:moveTo>
                  <a:pt x="6722" y="13543"/>
                </a:moveTo>
                <a:cubicBezTo>
                  <a:pt x="6722" y="13535"/>
                  <a:pt x="6722" y="13527"/>
                  <a:pt x="6722" y="13519"/>
                </a:cubicBezTo>
                <a:cubicBezTo>
                  <a:pt x="6643" y="13519"/>
                  <a:pt x="6648" y="13571"/>
                  <a:pt x="6623" y="13643"/>
                </a:cubicBezTo>
                <a:cubicBezTo>
                  <a:pt x="6600" y="13710"/>
                  <a:pt x="6589" y="13728"/>
                  <a:pt x="6623" y="13767"/>
                </a:cubicBezTo>
                <a:cubicBezTo>
                  <a:pt x="6713" y="13796"/>
                  <a:pt x="6789" y="13808"/>
                  <a:pt x="6821" y="13692"/>
                </a:cubicBezTo>
                <a:cubicBezTo>
                  <a:pt x="6838" y="13630"/>
                  <a:pt x="6777" y="13558"/>
                  <a:pt x="6722" y="13543"/>
                </a:cubicBezTo>
                <a:cubicBezTo>
                  <a:pt x="6705" y="13543"/>
                  <a:pt x="6689" y="13543"/>
                  <a:pt x="6672" y="13543"/>
                </a:cubicBezTo>
              </a:path>
              <a:path w="2060" h="1291">
                <a:moveTo>
                  <a:pt x="6052" y="13965"/>
                </a:moveTo>
                <a:cubicBezTo>
                  <a:pt x="6116" y="13994"/>
                  <a:pt x="6198" y="14031"/>
                  <a:pt x="6276" y="14039"/>
                </a:cubicBezTo>
                <a:cubicBezTo>
                  <a:pt x="6434" y="14054"/>
                  <a:pt x="6628" y="14023"/>
                  <a:pt x="6772" y="13965"/>
                </a:cubicBezTo>
                <a:cubicBezTo>
                  <a:pt x="6894" y="13916"/>
                  <a:pt x="6997" y="13882"/>
                  <a:pt x="7094" y="13791"/>
                </a:cubicBezTo>
                <a:cubicBezTo>
                  <a:pt x="7168" y="13721"/>
                  <a:pt x="7230" y="13623"/>
                  <a:pt x="7243" y="13519"/>
                </a:cubicBezTo>
                <a:cubicBezTo>
                  <a:pt x="7257" y="13406"/>
                  <a:pt x="7250" y="13279"/>
                  <a:pt x="7218" y="13171"/>
                </a:cubicBezTo>
                <a:cubicBezTo>
                  <a:pt x="7193" y="13087"/>
                  <a:pt x="7163" y="12980"/>
                  <a:pt x="7094" y="12923"/>
                </a:cubicBezTo>
                <a:cubicBezTo>
                  <a:pt x="7035" y="12874"/>
                  <a:pt x="6978" y="12796"/>
                  <a:pt x="6896" y="12774"/>
                </a:cubicBezTo>
                <a:cubicBezTo>
                  <a:pt x="6817" y="12753"/>
                  <a:pt x="6702" y="12815"/>
                  <a:pt x="6623" y="12824"/>
                </a:cubicBezTo>
                <a:cubicBezTo>
                  <a:pt x="6545" y="12833"/>
                  <a:pt x="6418" y="12873"/>
                  <a:pt x="6350" y="12923"/>
                </a:cubicBezTo>
                <a:cubicBezTo>
                  <a:pt x="6252" y="12995"/>
                  <a:pt x="6221" y="13094"/>
                  <a:pt x="6176" y="13196"/>
                </a:cubicBezTo>
                <a:cubicBezTo>
                  <a:pt x="6121" y="13321"/>
                  <a:pt x="6111" y="13414"/>
                  <a:pt x="6077" y="13543"/>
                </a:cubicBezTo>
                <a:cubicBezTo>
                  <a:pt x="6052" y="13638"/>
                  <a:pt x="6052" y="13718"/>
                  <a:pt x="6052" y="13816"/>
                </a:cubicBezTo>
                <a:cubicBezTo>
                  <a:pt x="6052" y="13886"/>
                  <a:pt x="6067" y="13961"/>
                  <a:pt x="6102" y="14015"/>
                </a:cubicBezTo>
                <a:cubicBezTo>
                  <a:pt x="6108" y="14024"/>
                  <a:pt x="6137" y="14038"/>
                  <a:pt x="6152" y="140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46640" y="4545000"/>
            <a:ext cx="206280" cy="403200"/>
          </a:xfrm>
          <a:custGeom>
            <a:avLst/>
            <a:gdLst/>
            <a:ahLst/>
            <a:rect l="l" t="t" r="r" b="b"/>
            <a:pathLst>
              <a:path w="571" h="1117">
                <a:moveTo>
                  <a:pt x="9699" y="12750"/>
                </a:moveTo>
                <a:cubicBezTo>
                  <a:pt x="9740" y="12736"/>
                  <a:pt x="9782" y="12714"/>
                  <a:pt x="9823" y="12700"/>
                </a:cubicBezTo>
                <a:cubicBezTo>
                  <a:pt x="9807" y="12792"/>
                  <a:pt x="9798" y="12876"/>
                  <a:pt x="9798" y="12973"/>
                </a:cubicBezTo>
                <a:cubicBezTo>
                  <a:pt x="9798" y="13008"/>
                  <a:pt x="9803" y="13007"/>
                  <a:pt x="9823" y="12948"/>
                </a:cubicBezTo>
              </a:path>
              <a:path w="571" h="1117">
                <a:moveTo>
                  <a:pt x="10046" y="12626"/>
                </a:moveTo>
                <a:cubicBezTo>
                  <a:pt x="10025" y="12757"/>
                  <a:pt x="9996" y="12787"/>
                  <a:pt x="10071" y="12874"/>
                </a:cubicBezTo>
                <a:cubicBezTo>
                  <a:pt x="10146" y="12787"/>
                  <a:pt x="10186" y="12700"/>
                  <a:pt x="10071" y="12650"/>
                </a:cubicBezTo>
              </a:path>
              <a:path w="571" h="1117">
                <a:moveTo>
                  <a:pt x="9575" y="13742"/>
                </a:moveTo>
                <a:cubicBezTo>
                  <a:pt x="9641" y="13704"/>
                  <a:pt x="9720" y="13680"/>
                  <a:pt x="9798" y="136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62240" y="4491000"/>
            <a:ext cx="108000" cy="189000"/>
          </a:xfrm>
          <a:custGeom>
            <a:avLst/>
            <a:gdLst/>
            <a:ahLst/>
            <a:rect l="l" t="t" r="r" b="b"/>
            <a:pathLst>
              <a:path w="299" h="522">
                <a:moveTo>
                  <a:pt x="11311" y="12626"/>
                </a:moveTo>
                <a:cubicBezTo>
                  <a:pt x="11291" y="12666"/>
                  <a:pt x="11282" y="12672"/>
                  <a:pt x="11286" y="12700"/>
                </a:cubicBezTo>
                <a:cubicBezTo>
                  <a:pt x="11286" y="12668"/>
                  <a:pt x="11270" y="12592"/>
                  <a:pt x="11311" y="12576"/>
                </a:cubicBezTo>
                <a:cubicBezTo>
                  <a:pt x="11381" y="12548"/>
                  <a:pt x="11491" y="12485"/>
                  <a:pt x="11559" y="12477"/>
                </a:cubicBezTo>
                <a:cubicBezTo>
                  <a:pt x="11567" y="12477"/>
                  <a:pt x="11576" y="12477"/>
                  <a:pt x="11584" y="12477"/>
                </a:cubicBezTo>
                <a:cubicBezTo>
                  <a:pt x="11584" y="12627"/>
                  <a:pt x="11564" y="12773"/>
                  <a:pt x="11559" y="12923"/>
                </a:cubicBezTo>
                <a:cubicBezTo>
                  <a:pt x="11559" y="12968"/>
                  <a:pt x="11556" y="12981"/>
                  <a:pt x="11584" y="129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490760" y="4714920"/>
            <a:ext cx="384120" cy="295200"/>
          </a:xfrm>
          <a:custGeom>
            <a:avLst/>
            <a:gdLst/>
            <a:ahLst/>
            <a:rect l="l" t="t" r="r" b="b"/>
            <a:pathLst>
              <a:path w="1068" h="819">
                <a:moveTo>
                  <a:pt x="4390" y="13146"/>
                </a:moveTo>
                <a:cubicBezTo>
                  <a:pt x="4378" y="13211"/>
                  <a:pt x="4289" y="13420"/>
                  <a:pt x="4291" y="13444"/>
                </a:cubicBezTo>
                <a:cubicBezTo>
                  <a:pt x="4299" y="13452"/>
                  <a:pt x="4308" y="13461"/>
                  <a:pt x="4316" y="13469"/>
                </a:cubicBezTo>
              </a:path>
              <a:path w="1068" h="819">
                <a:moveTo>
                  <a:pt x="4564" y="13146"/>
                </a:moveTo>
                <a:cubicBezTo>
                  <a:pt x="4572" y="13154"/>
                  <a:pt x="4581" y="13163"/>
                  <a:pt x="4589" y="13171"/>
                </a:cubicBezTo>
                <a:cubicBezTo>
                  <a:pt x="4538" y="13239"/>
                  <a:pt x="4563" y="13236"/>
                  <a:pt x="4638" y="13271"/>
                </a:cubicBezTo>
                <a:cubicBezTo>
                  <a:pt x="4692" y="13296"/>
                  <a:pt x="4730" y="13295"/>
                  <a:pt x="4787" y="13295"/>
                </a:cubicBezTo>
              </a:path>
              <a:path w="1068" h="819">
                <a:moveTo>
                  <a:pt x="4812" y="13097"/>
                </a:moveTo>
                <a:cubicBezTo>
                  <a:pt x="4778" y="13176"/>
                  <a:pt x="4759" y="13300"/>
                  <a:pt x="4738" y="13395"/>
                </a:cubicBezTo>
                <a:cubicBezTo>
                  <a:pt x="4738" y="13419"/>
                  <a:pt x="4738" y="13428"/>
                  <a:pt x="4738" y="13444"/>
                </a:cubicBezTo>
              </a:path>
              <a:path w="1068" h="819">
                <a:moveTo>
                  <a:pt x="4192" y="13494"/>
                </a:moveTo>
                <a:cubicBezTo>
                  <a:pt x="4131" y="13494"/>
                  <a:pt x="4255" y="13510"/>
                  <a:pt x="4316" y="13519"/>
                </a:cubicBezTo>
                <a:cubicBezTo>
                  <a:pt x="4454" y="13540"/>
                  <a:pt x="4602" y="13540"/>
                  <a:pt x="4738" y="13568"/>
                </a:cubicBezTo>
                <a:cubicBezTo>
                  <a:pt x="4799" y="13581"/>
                  <a:pt x="4808" y="13593"/>
                  <a:pt x="4862" y="13593"/>
                </a:cubicBezTo>
              </a:path>
              <a:path w="1068" h="819">
                <a:moveTo>
                  <a:pt x="4192" y="13643"/>
                </a:moveTo>
                <a:cubicBezTo>
                  <a:pt x="4244" y="13604"/>
                  <a:pt x="4299" y="13618"/>
                  <a:pt x="4366" y="13618"/>
                </a:cubicBezTo>
                <a:cubicBezTo>
                  <a:pt x="4435" y="13713"/>
                  <a:pt x="4257" y="13777"/>
                  <a:pt x="4192" y="13816"/>
                </a:cubicBezTo>
                <a:cubicBezTo>
                  <a:pt x="4175" y="13824"/>
                  <a:pt x="4159" y="13833"/>
                  <a:pt x="4142" y="13841"/>
                </a:cubicBezTo>
                <a:cubicBezTo>
                  <a:pt x="4204" y="13862"/>
                  <a:pt x="4292" y="13866"/>
                  <a:pt x="4390" y="13866"/>
                </a:cubicBezTo>
                <a:cubicBezTo>
                  <a:pt x="4415" y="13866"/>
                  <a:pt x="4423" y="13866"/>
                  <a:pt x="4440" y="13866"/>
                </a:cubicBezTo>
              </a:path>
              <a:path w="1068" h="819">
                <a:moveTo>
                  <a:pt x="4713" y="13692"/>
                </a:moveTo>
                <a:cubicBezTo>
                  <a:pt x="4643" y="13692"/>
                  <a:pt x="4625" y="13695"/>
                  <a:pt x="4589" y="13767"/>
                </a:cubicBezTo>
                <a:cubicBezTo>
                  <a:pt x="4535" y="13875"/>
                  <a:pt x="4555" y="13911"/>
                  <a:pt x="4663" y="13915"/>
                </a:cubicBezTo>
                <a:cubicBezTo>
                  <a:pt x="4759" y="13919"/>
                  <a:pt x="4771" y="13903"/>
                  <a:pt x="4812" y="13841"/>
                </a:cubicBezTo>
                <a:cubicBezTo>
                  <a:pt x="4827" y="13818"/>
                  <a:pt x="4856" y="13776"/>
                  <a:pt x="4837" y="13742"/>
                </a:cubicBezTo>
                <a:cubicBezTo>
                  <a:pt x="4821" y="13713"/>
                  <a:pt x="4766" y="13696"/>
                  <a:pt x="4738" y="13667"/>
                </a:cubicBezTo>
              </a:path>
              <a:path w="1068" h="819">
                <a:moveTo>
                  <a:pt x="5035" y="13370"/>
                </a:moveTo>
                <a:cubicBezTo>
                  <a:pt x="5101" y="13370"/>
                  <a:pt x="5150" y="13347"/>
                  <a:pt x="5209" y="133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7240" y="5116680"/>
            <a:ext cx="554040" cy="233280"/>
          </a:xfrm>
          <a:custGeom>
            <a:avLst/>
            <a:gdLst/>
            <a:ahLst/>
            <a:rect l="l" t="t" r="r" b="b"/>
            <a:pathLst>
              <a:path w="1539" h="646">
                <a:moveTo>
                  <a:pt x="5159" y="14213"/>
                </a:moveTo>
                <a:cubicBezTo>
                  <a:pt x="5287" y="14234"/>
                  <a:pt x="5376" y="14224"/>
                  <a:pt x="5507" y="14213"/>
                </a:cubicBezTo>
                <a:cubicBezTo>
                  <a:pt x="5532" y="14213"/>
                  <a:pt x="5556" y="14213"/>
                  <a:pt x="5581" y="14213"/>
                </a:cubicBezTo>
                <a:cubicBezTo>
                  <a:pt x="5581" y="14394"/>
                  <a:pt x="5483" y="14539"/>
                  <a:pt x="5432" y="14709"/>
                </a:cubicBezTo>
                <a:cubicBezTo>
                  <a:pt x="5426" y="14730"/>
                  <a:pt x="5414" y="14898"/>
                  <a:pt x="5383" y="14833"/>
                </a:cubicBezTo>
              </a:path>
              <a:path w="1539" h="646">
                <a:moveTo>
                  <a:pt x="5879" y="14288"/>
                </a:moveTo>
                <a:cubicBezTo>
                  <a:pt x="5762" y="14334"/>
                  <a:pt x="5712" y="14467"/>
                  <a:pt x="5680" y="14585"/>
                </a:cubicBezTo>
                <a:cubicBezTo>
                  <a:pt x="5658" y="14718"/>
                  <a:pt x="5645" y="14752"/>
                  <a:pt x="5680" y="14833"/>
                </a:cubicBezTo>
                <a:cubicBezTo>
                  <a:pt x="5832" y="14871"/>
                  <a:pt x="5908" y="14791"/>
                  <a:pt x="5953" y="14635"/>
                </a:cubicBezTo>
                <a:cubicBezTo>
                  <a:pt x="6004" y="14460"/>
                  <a:pt x="5978" y="14382"/>
                  <a:pt x="5829" y="14312"/>
                </a:cubicBezTo>
                <a:cubicBezTo>
                  <a:pt x="5812" y="14304"/>
                  <a:pt x="5796" y="14296"/>
                  <a:pt x="5779" y="14288"/>
                </a:cubicBezTo>
              </a:path>
              <a:path w="1539" h="646">
                <a:moveTo>
                  <a:pt x="6300" y="14288"/>
                </a:moveTo>
                <a:cubicBezTo>
                  <a:pt x="6186" y="14271"/>
                  <a:pt x="6193" y="14224"/>
                  <a:pt x="6102" y="14362"/>
                </a:cubicBezTo>
                <a:cubicBezTo>
                  <a:pt x="6065" y="14435"/>
                  <a:pt x="6048" y="14440"/>
                  <a:pt x="6052" y="14486"/>
                </a:cubicBezTo>
                <a:cubicBezTo>
                  <a:pt x="6183" y="14456"/>
                  <a:pt x="6238" y="14441"/>
                  <a:pt x="6251" y="14288"/>
                </a:cubicBezTo>
                <a:cubicBezTo>
                  <a:pt x="6251" y="14280"/>
                  <a:pt x="6251" y="14271"/>
                  <a:pt x="6251" y="14263"/>
                </a:cubicBezTo>
                <a:cubicBezTo>
                  <a:pt x="6408" y="14274"/>
                  <a:pt x="6485" y="14294"/>
                  <a:pt x="6449" y="14486"/>
                </a:cubicBezTo>
                <a:cubicBezTo>
                  <a:pt x="6424" y="14620"/>
                  <a:pt x="6250" y="14790"/>
                  <a:pt x="6251" y="14858"/>
                </a:cubicBezTo>
              </a:path>
              <a:path w="1539" h="646">
                <a:moveTo>
                  <a:pt x="6672" y="14660"/>
                </a:moveTo>
                <a:cubicBezTo>
                  <a:pt x="6646" y="14680"/>
                  <a:pt x="6582" y="14763"/>
                  <a:pt x="6573" y="14808"/>
                </a:cubicBezTo>
                <a:cubicBezTo>
                  <a:pt x="6573" y="14816"/>
                  <a:pt x="6573" y="14825"/>
                  <a:pt x="6573" y="14833"/>
                </a:cubicBezTo>
                <a:cubicBezTo>
                  <a:pt x="6660" y="14799"/>
                  <a:pt x="6752" y="14780"/>
                  <a:pt x="6648" y="147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44960" y="4830840"/>
            <a:ext cx="162000" cy="196920"/>
          </a:xfrm>
          <a:custGeom>
            <a:avLst/>
            <a:gdLst/>
            <a:ahLst/>
            <a:rect l="l" t="t" r="r" b="b"/>
            <a:pathLst>
              <a:path w="447" h="547">
                <a:moveTo>
                  <a:pt x="11286" y="13469"/>
                </a:moveTo>
                <a:cubicBezTo>
                  <a:pt x="11264" y="13551"/>
                  <a:pt x="11194" y="13865"/>
                  <a:pt x="11237" y="13965"/>
                </a:cubicBezTo>
                <a:cubicBezTo>
                  <a:pt x="11245" y="13948"/>
                  <a:pt x="11253" y="13932"/>
                  <a:pt x="11261" y="13915"/>
                </a:cubicBezTo>
              </a:path>
              <a:path w="447" h="547">
                <a:moveTo>
                  <a:pt x="11534" y="13469"/>
                </a:moveTo>
                <a:cubicBezTo>
                  <a:pt x="11527" y="13648"/>
                  <a:pt x="11492" y="13686"/>
                  <a:pt x="11609" y="13816"/>
                </a:cubicBezTo>
                <a:cubicBezTo>
                  <a:pt x="11706" y="13643"/>
                  <a:pt x="11744" y="13478"/>
                  <a:pt x="11509" y="13419"/>
                </a:cubicBezTo>
                <a:cubicBezTo>
                  <a:pt x="11484" y="13419"/>
                  <a:pt x="11460" y="13419"/>
                  <a:pt x="11435"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39960" y="4724280"/>
            <a:ext cx="27000" cy="160560"/>
          </a:xfrm>
          <a:custGeom>
            <a:avLst/>
            <a:gdLst/>
            <a:ahLst/>
            <a:rect l="l" t="t" r="r" b="b"/>
            <a:pathLst>
              <a:path w="75" h="447">
                <a:moveTo>
                  <a:pt x="5110" y="13122"/>
                </a:moveTo>
                <a:cubicBezTo>
                  <a:pt x="5118" y="13138"/>
                  <a:pt x="5127" y="13155"/>
                  <a:pt x="5135" y="13171"/>
                </a:cubicBezTo>
              </a:path>
              <a:path w="75" h="447">
                <a:moveTo>
                  <a:pt x="5184" y="13568"/>
                </a:moveTo>
                <a:lnTo>
                  <a:pt x="5184" y="13568"/>
                </a:lnTo>
                <a:lnTo>
                  <a:pt x="5184" y="13568"/>
                </a:lnTo>
              </a:path>
              <a:path w="75" h="447">
                <a:moveTo>
                  <a:pt x="5184" y="13568"/>
                </a:moveTo>
                <a:lnTo>
                  <a:pt x="5184" y="1356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63920" y="3633840"/>
            <a:ext cx="2197080" cy="1339920"/>
          </a:xfrm>
          <a:custGeom>
            <a:avLst/>
            <a:gdLst/>
            <a:ahLst/>
            <a:rect l="l" t="t" r="r" b="b"/>
            <a:pathLst>
              <a:path w="6103" h="3721">
                <a:moveTo>
                  <a:pt x="15726" y="10096"/>
                </a:moveTo>
                <a:cubicBezTo>
                  <a:pt x="15726" y="10104"/>
                  <a:pt x="15726" y="10112"/>
                  <a:pt x="15726" y="10120"/>
                </a:cubicBezTo>
              </a:path>
              <a:path w="6103" h="3721">
                <a:moveTo>
                  <a:pt x="9624" y="13444"/>
                </a:moveTo>
                <a:cubicBezTo>
                  <a:pt x="9632" y="13461"/>
                  <a:pt x="9641" y="13477"/>
                  <a:pt x="9649" y="13494"/>
                </a:cubicBezTo>
              </a:path>
              <a:path w="6103" h="3721">
                <a:moveTo>
                  <a:pt x="9723" y="13816"/>
                </a:moveTo>
                <a:lnTo>
                  <a:pt x="9723" y="13816"/>
                </a:lnTo>
                <a:lnTo>
                  <a:pt x="9723" y="13816"/>
                </a:lnTo>
              </a:path>
              <a:path w="6103" h="3721">
                <a:moveTo>
                  <a:pt x="9723" y="13816"/>
                </a:moveTo>
                <a:lnTo>
                  <a:pt x="9723" y="13816"/>
                </a:lnTo>
              </a:path>
              <a:path w="6103" h="3721">
                <a:moveTo>
                  <a:pt x="9922" y="13469"/>
                </a:moveTo>
                <a:cubicBezTo>
                  <a:pt x="9942" y="13586"/>
                  <a:pt x="9952" y="13699"/>
                  <a:pt x="9971" y="13816"/>
                </a:cubicBezTo>
              </a:path>
              <a:path w="6103" h="3721">
                <a:moveTo>
                  <a:pt x="10096" y="13618"/>
                </a:moveTo>
                <a:cubicBezTo>
                  <a:pt x="10116" y="13719"/>
                  <a:pt x="10103" y="13750"/>
                  <a:pt x="10170" y="13767"/>
                </a:cubicBezTo>
                <a:cubicBezTo>
                  <a:pt x="10273" y="13684"/>
                  <a:pt x="10328" y="13522"/>
                  <a:pt x="10145" y="13444"/>
                </a:cubicBezTo>
                <a:cubicBezTo>
                  <a:pt x="10120" y="13444"/>
                  <a:pt x="10096" y="13444"/>
                  <a:pt x="10071" y="13444"/>
                </a:cubicBezTo>
              </a:path>
              <a:path w="6103" h="3721">
                <a:moveTo>
                  <a:pt x="10517" y="13097"/>
                </a:moveTo>
                <a:cubicBezTo>
                  <a:pt x="10592" y="13072"/>
                  <a:pt x="10616" y="13064"/>
                  <a:pt x="10666" y="13047"/>
                </a:cubicBezTo>
              </a:path>
              <a:path w="6103" h="3721">
                <a:moveTo>
                  <a:pt x="10592" y="13271"/>
                </a:moveTo>
                <a:cubicBezTo>
                  <a:pt x="10641" y="13246"/>
                  <a:pt x="10691" y="13221"/>
                  <a:pt x="10740" y="13196"/>
                </a:cubicBezTo>
              </a:path>
              <a:path w="6103" h="3721">
                <a:moveTo>
                  <a:pt x="10740" y="13196"/>
                </a:moveTo>
                <a:lnTo>
                  <a:pt x="10740" y="1319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27720" y="1581120"/>
            <a:ext cx="2009520" cy="27000"/>
          </a:xfrm>
          <a:custGeom>
            <a:avLst/>
            <a:gdLst/>
            <a:ahLst/>
            <a:rect l="l" t="t" r="r" b="b"/>
            <a:pathLst>
              <a:path w="5582" h="76">
                <a:moveTo>
                  <a:pt x="12576" y="4465"/>
                </a:moveTo>
                <a:cubicBezTo>
                  <a:pt x="12901" y="4465"/>
                  <a:pt x="13223" y="4466"/>
                  <a:pt x="13543" y="4440"/>
                </a:cubicBezTo>
                <a:cubicBezTo>
                  <a:pt x="13732" y="4425"/>
                  <a:pt x="13927" y="4430"/>
                  <a:pt x="14114" y="4415"/>
                </a:cubicBezTo>
                <a:cubicBezTo>
                  <a:pt x="14246" y="4405"/>
                  <a:pt x="14379" y="4394"/>
                  <a:pt x="14511" y="4390"/>
                </a:cubicBezTo>
                <a:cubicBezTo>
                  <a:pt x="14820" y="4381"/>
                  <a:pt x="15122" y="4415"/>
                  <a:pt x="15429" y="4415"/>
                </a:cubicBezTo>
                <a:cubicBezTo>
                  <a:pt x="15639" y="4415"/>
                  <a:pt x="15842" y="4426"/>
                  <a:pt x="16049" y="4440"/>
                </a:cubicBezTo>
                <a:cubicBezTo>
                  <a:pt x="16256" y="4454"/>
                  <a:pt x="16464" y="4448"/>
                  <a:pt x="16669" y="4465"/>
                </a:cubicBezTo>
                <a:cubicBezTo>
                  <a:pt x="16916" y="4485"/>
                  <a:pt x="17175" y="4454"/>
                  <a:pt x="17413" y="4440"/>
                </a:cubicBezTo>
                <a:cubicBezTo>
                  <a:pt x="17612" y="4428"/>
                  <a:pt x="17810" y="4430"/>
                  <a:pt x="18008" y="4415"/>
                </a:cubicBezTo>
                <a:cubicBezTo>
                  <a:pt x="18057" y="4411"/>
                  <a:pt x="18107" y="4417"/>
                  <a:pt x="18157" y="4415"/>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6212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ctober 10, 2011</a:t>
            </a:r>
            <a:r>
              <a:rPr b="0" lang="en-US" sz="3600" spc="-1" strike="noStrike">
                <a:solidFill>
                  <a:srgbClr val="f6fcac"/>
                </a:solidFill>
                <a:latin typeface="Times New Roman"/>
              </a:rPr>
              <a:t>	</a:t>
            </a:r>
            <a:endParaRPr b="0" lang="en-US" sz="3600" spc="-1" strike="noStrike">
              <a:solidFill>
                <a:srgbClr val="000000"/>
              </a:solidFill>
              <a:latin typeface="Times New Roman"/>
            </a:endParaRPr>
          </a:p>
        </p:txBody>
      </p:sp>
      <p:sp>
        <p:nvSpPr>
          <p:cNvPr id="66" name="PlaceHolder 2"/>
          <p:cNvSpPr>
            <a:spLocks noGrp="1"/>
          </p:cNvSpPr>
          <p:nvPr>
            <p:ph type="subTitle"/>
          </p:nvPr>
        </p:nvSpPr>
        <p:spPr>
          <a:xfrm>
            <a:off x="685440" y="3941640"/>
            <a:ext cx="7467480" cy="1130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Objective:</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Converting, fractions, decimals, percents and </a:t>
            </a:r>
            <a:r>
              <a:rPr b="1" i="1" lang="en-US" sz="3600" spc="-1" strike="noStrike">
                <a:solidFill>
                  <a:srgbClr val="ff6600"/>
                </a:solidFill>
                <a:latin typeface="Times New Roman"/>
              </a:rPr>
              <a:t>ratios</a:t>
            </a:r>
            <a:r>
              <a:rPr b="1" lang="en-US" sz="3600" spc="-1" strike="noStrike">
                <a:solidFill>
                  <a:srgbClr val="ff6600"/>
                </a:solidFill>
                <a:latin typeface="Times New Roman"/>
              </a:rPr>
              <a:t>.</a:t>
            </a:r>
            <a:endParaRPr b="0" lang="en-US" sz="3600" spc="-1" strike="noStrike">
              <a:solidFill>
                <a:srgbClr val="000000"/>
              </a:solidFill>
              <a:latin typeface="Times New Roman"/>
            </a:endParaRPr>
          </a:p>
        </p:txBody>
      </p:sp>
      <p:sp>
        <p:nvSpPr>
          <p:cNvPr id="67" name=""/>
          <p:cNvSpPr/>
          <p:nvPr/>
        </p:nvSpPr>
        <p:spPr>
          <a:xfrm>
            <a:off x="6935760" y="460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5143680" y="5705640"/>
            <a:ext cx="947520" cy="72720"/>
          </a:xfrm>
          <a:custGeom>
            <a:avLst/>
            <a:gdLst/>
            <a:ahLst/>
            <a:rect l="l" t="t" r="r" b="b"/>
            <a:pathLst>
              <a:path w="2630" h="200">
                <a:moveTo>
                  <a:pt x="14288" y="15875"/>
                </a:moveTo>
                <a:cubicBezTo>
                  <a:pt x="14338" y="15977"/>
                  <a:pt x="14347" y="16031"/>
                  <a:pt x="14486" y="16024"/>
                </a:cubicBezTo>
                <a:cubicBezTo>
                  <a:pt x="14619" y="16017"/>
                  <a:pt x="14712" y="15941"/>
                  <a:pt x="14808" y="15875"/>
                </a:cubicBezTo>
                <a:cubicBezTo>
                  <a:pt x="14896" y="16010"/>
                  <a:pt x="14926" y="16083"/>
                  <a:pt x="15131" y="16049"/>
                </a:cubicBezTo>
                <a:cubicBezTo>
                  <a:pt x="15210" y="16036"/>
                  <a:pt x="15271" y="15983"/>
                  <a:pt x="15329" y="15949"/>
                </a:cubicBezTo>
                <a:cubicBezTo>
                  <a:pt x="15444" y="16026"/>
                  <a:pt x="15550" y="16075"/>
                  <a:pt x="15726" y="16049"/>
                </a:cubicBezTo>
                <a:cubicBezTo>
                  <a:pt x="15878" y="16027"/>
                  <a:pt x="15927" y="15968"/>
                  <a:pt x="16049" y="15900"/>
                </a:cubicBezTo>
                <a:cubicBezTo>
                  <a:pt x="16093" y="16010"/>
                  <a:pt x="16137" y="16032"/>
                  <a:pt x="16297" y="15974"/>
                </a:cubicBezTo>
                <a:cubicBezTo>
                  <a:pt x="16405" y="15909"/>
                  <a:pt x="16431" y="15895"/>
                  <a:pt x="16495" y="15850"/>
                </a:cubicBezTo>
                <a:cubicBezTo>
                  <a:pt x="16533" y="15911"/>
                  <a:pt x="16466" y="15924"/>
                  <a:pt x="16619" y="15949"/>
                </a:cubicBezTo>
                <a:cubicBezTo>
                  <a:pt x="16764" y="15972"/>
                  <a:pt x="16833" y="15917"/>
                  <a:pt x="16917" y="15850"/>
                </a:cubicBezTo>
              </a:path>
            </a:pathLst>
          </a:custGeom>
          <a:noFill/>
          <a:ln cap="rnd" w="1908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gtEl>
                                        <p:attrNameLst>
                                          <p:attrName>style.visibility</p:attrName>
                                        </p:attrNameLst>
                                      </p:cBhvr>
                                      <p:to>
                                        <p:strVal val="visible"/>
                                      </p:to>
                                    </p:set>
                                    <p:animEffect filter="dissolve"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70" name="PlaceHolder 2"/>
          <p:cNvSpPr>
            <a:spLocks noGrp="1"/>
          </p:cNvSpPr>
          <p:nvPr>
            <p:ph/>
          </p:nvPr>
        </p:nvSpPr>
        <p:spPr>
          <a:xfrm>
            <a:off x="304920" y="1143000"/>
            <a:ext cx="853416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Vocabula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 the relationship between two numb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 </a:t>
            </a:r>
            <a:r>
              <a:rPr b="0" lang="en-US" sz="3200" spc="-1" strike="noStrike">
                <a:solidFill>
                  <a:srgbClr val="ff5050"/>
                </a:solidFill>
                <a:latin typeface="Times New Roman"/>
              </a:rPr>
              <a:t>to</a:t>
            </a:r>
            <a:r>
              <a:rPr b="0" lang="en-US" sz="3200" spc="-1" strike="noStrike">
                <a:solidFill>
                  <a:srgbClr val="000000"/>
                </a:solidFill>
                <a:latin typeface="Times New Roman"/>
              </a:rPr>
              <a:t> 2       5</a:t>
            </a:r>
            <a:r>
              <a:rPr b="0" lang="en-US" sz="3200" spc="-1" strike="noStrike">
                <a:solidFill>
                  <a:srgbClr val="ff5050"/>
                </a:solidFill>
                <a:latin typeface="Times New Roman"/>
              </a:rPr>
              <a:t>:</a:t>
            </a:r>
            <a:r>
              <a:rPr b="0" lang="en-US" sz="3200" spc="-1" strike="noStrike">
                <a:solidFill>
                  <a:srgbClr val="000000"/>
                </a:solidFill>
                <a:latin typeface="Times New Roman"/>
              </a:rPr>
              <a:t>2         5</a:t>
            </a:r>
            <a:r>
              <a:rPr b="0" lang="en-US" sz="3200" spc="-1" strike="noStrike">
                <a:solidFill>
                  <a:srgbClr val="ff5050"/>
                </a:solidFill>
                <a:latin typeface="Times New Roman"/>
              </a:rPr>
              <a:t>/</a:t>
            </a:r>
            <a:r>
              <a:rPr b="0" lang="en-US" sz="3200" spc="-1" strike="noStrike">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are handled in the same was as a fraction.</a:t>
            </a:r>
            <a:endParaRPr b="0" lang="en-US" sz="3200" spc="-1" strike="noStrike">
              <a:solidFill>
                <a:srgbClr val="000000"/>
              </a:solidFill>
              <a:latin typeface="Times New Roman"/>
            </a:endParaRPr>
          </a:p>
        </p:txBody>
      </p:sp>
      <p:sp>
        <p:nvSpPr>
          <p:cNvPr id="71" name=""/>
          <p:cNvSpPr/>
          <p:nvPr/>
        </p:nvSpPr>
        <p:spPr>
          <a:xfrm>
            <a:off x="8420040" y="2643120"/>
            <a:ext cx="63720" cy="9720"/>
          </a:xfrm>
          <a:custGeom>
            <a:avLst/>
            <a:gdLst/>
            <a:ahLst/>
            <a:rect l="l" t="t" r="r" b="b"/>
            <a:pathLst>
              <a:path w="174" h="26">
                <a:moveTo>
                  <a:pt x="23391" y="7367"/>
                </a:moveTo>
                <a:cubicBezTo>
                  <a:pt x="23451" y="7357"/>
                  <a:pt x="23502" y="7347"/>
                  <a:pt x="23564" y="7342"/>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 name=""/>
          <p:cNvSpPr/>
          <p:nvPr/>
        </p:nvSpPr>
        <p:spPr>
          <a:xfrm>
            <a:off x="2652840" y="2214720"/>
            <a:ext cx="5821200" cy="679320"/>
          </a:xfrm>
          <a:custGeom>
            <a:avLst/>
            <a:gdLst/>
            <a:ahLst/>
            <a:rect l="l" t="t" r="r" b="b"/>
            <a:pathLst>
              <a:path w="16174" h="1886">
                <a:moveTo>
                  <a:pt x="7367" y="6226"/>
                </a:moveTo>
                <a:cubicBezTo>
                  <a:pt x="7560" y="6240"/>
                  <a:pt x="7742" y="6249"/>
                  <a:pt x="7938" y="6251"/>
                </a:cubicBezTo>
                <a:cubicBezTo>
                  <a:pt x="8299" y="6255"/>
                  <a:pt x="8649" y="6273"/>
                  <a:pt x="9004" y="6300"/>
                </a:cubicBezTo>
                <a:cubicBezTo>
                  <a:pt x="9171" y="6313"/>
                  <a:pt x="9334" y="6295"/>
                  <a:pt x="9500" y="6300"/>
                </a:cubicBezTo>
                <a:cubicBezTo>
                  <a:pt x="9750" y="6307"/>
                  <a:pt x="9991" y="6346"/>
                  <a:pt x="10244" y="6350"/>
                </a:cubicBezTo>
                <a:cubicBezTo>
                  <a:pt x="11072" y="6364"/>
                  <a:pt x="11901" y="6347"/>
                  <a:pt x="12725" y="6300"/>
                </a:cubicBezTo>
                <a:cubicBezTo>
                  <a:pt x="12913" y="6289"/>
                  <a:pt x="13106" y="6267"/>
                  <a:pt x="13295" y="6251"/>
                </a:cubicBezTo>
                <a:cubicBezTo>
                  <a:pt x="13477" y="6236"/>
                  <a:pt x="13660" y="6219"/>
                  <a:pt x="13841" y="6201"/>
                </a:cubicBezTo>
                <a:cubicBezTo>
                  <a:pt x="14023" y="6183"/>
                  <a:pt x="14203" y="6187"/>
                  <a:pt x="14387" y="6176"/>
                </a:cubicBezTo>
                <a:cubicBezTo>
                  <a:pt x="14545" y="6167"/>
                  <a:pt x="14699" y="6156"/>
                  <a:pt x="14858" y="6152"/>
                </a:cubicBezTo>
                <a:cubicBezTo>
                  <a:pt x="15370" y="6138"/>
                  <a:pt x="15887" y="6148"/>
                  <a:pt x="16396" y="6176"/>
                </a:cubicBezTo>
                <a:cubicBezTo>
                  <a:pt x="16947" y="6207"/>
                  <a:pt x="17509" y="6176"/>
                  <a:pt x="18058" y="6226"/>
                </a:cubicBezTo>
                <a:cubicBezTo>
                  <a:pt x="18481" y="6265"/>
                  <a:pt x="18900" y="6358"/>
                  <a:pt x="19323" y="6375"/>
                </a:cubicBezTo>
                <a:cubicBezTo>
                  <a:pt x="19874" y="6398"/>
                  <a:pt x="20438" y="6383"/>
                  <a:pt x="20985" y="6350"/>
                </a:cubicBezTo>
                <a:cubicBezTo>
                  <a:pt x="21127" y="6341"/>
                  <a:pt x="21265" y="6330"/>
                  <a:pt x="21406" y="6325"/>
                </a:cubicBezTo>
                <a:cubicBezTo>
                  <a:pt x="21517" y="6321"/>
                  <a:pt x="21633" y="6308"/>
                  <a:pt x="21729" y="6300"/>
                </a:cubicBezTo>
              </a:path>
              <a:path w="16174" h="1886">
                <a:moveTo>
                  <a:pt x="11361" y="7938"/>
                </a:moveTo>
                <a:cubicBezTo>
                  <a:pt x="11375" y="7893"/>
                  <a:pt x="11451" y="7926"/>
                  <a:pt x="11410" y="7913"/>
                </a:cubicBezTo>
                <a:cubicBezTo>
                  <a:pt x="11374" y="7902"/>
                  <a:pt x="11226" y="7888"/>
                  <a:pt x="11336" y="7888"/>
                </a:cubicBezTo>
                <a:cubicBezTo>
                  <a:pt x="11386" y="7888"/>
                  <a:pt x="11517" y="7840"/>
                  <a:pt x="11485" y="7863"/>
                </a:cubicBezTo>
                <a:cubicBezTo>
                  <a:pt x="11477" y="7871"/>
                  <a:pt x="11468" y="7880"/>
                  <a:pt x="11460" y="7888"/>
                </a:cubicBezTo>
                <a:cubicBezTo>
                  <a:pt x="11402" y="7888"/>
                  <a:pt x="11278" y="7888"/>
                  <a:pt x="11336" y="7888"/>
                </a:cubicBezTo>
                <a:cubicBezTo>
                  <a:pt x="11412" y="7888"/>
                  <a:pt x="11521" y="7888"/>
                  <a:pt x="11385" y="7888"/>
                </a:cubicBezTo>
                <a:cubicBezTo>
                  <a:pt x="11327" y="7888"/>
                  <a:pt x="11402" y="7888"/>
                  <a:pt x="11460" y="7888"/>
                </a:cubicBezTo>
                <a:cubicBezTo>
                  <a:pt x="11504" y="7888"/>
                  <a:pt x="11343" y="7924"/>
                  <a:pt x="11385" y="7913"/>
                </a:cubicBezTo>
                <a:cubicBezTo>
                  <a:pt x="11404" y="7908"/>
                  <a:pt x="11608" y="7888"/>
                  <a:pt x="11485" y="7888"/>
                </a:cubicBezTo>
                <a:cubicBezTo>
                  <a:pt x="11460" y="7888"/>
                  <a:pt x="11435" y="7888"/>
                  <a:pt x="11410" y="7888"/>
                </a:cubicBezTo>
              </a:path>
              <a:path w="16174" h="1886">
                <a:moveTo>
                  <a:pt x="15131" y="7838"/>
                </a:moveTo>
                <a:cubicBezTo>
                  <a:pt x="15191" y="7802"/>
                  <a:pt x="15255" y="7813"/>
                  <a:pt x="15329" y="7813"/>
                </a:cubicBezTo>
                <a:cubicBezTo>
                  <a:pt x="15406" y="7813"/>
                  <a:pt x="15359" y="7813"/>
                  <a:pt x="15304" y="7813"/>
                </a:cubicBezTo>
                <a:cubicBezTo>
                  <a:pt x="15255" y="7813"/>
                  <a:pt x="15355" y="7813"/>
                  <a:pt x="15404" y="7813"/>
                </a:cubicBezTo>
                <a:cubicBezTo>
                  <a:pt x="15462" y="7813"/>
                  <a:pt x="15338" y="7813"/>
                  <a:pt x="15280" y="7813"/>
                </a:cubicBezTo>
                <a:cubicBezTo>
                  <a:pt x="15235" y="7749"/>
                  <a:pt x="15397" y="7806"/>
                  <a:pt x="15453" y="7813"/>
                </a:cubicBezTo>
                <a:cubicBezTo>
                  <a:pt x="15517" y="7821"/>
                  <a:pt x="15218" y="7748"/>
                  <a:pt x="15280" y="7764"/>
                </a:cubicBezTo>
                <a:cubicBezTo>
                  <a:pt x="15332" y="7777"/>
                  <a:pt x="15500" y="7753"/>
                  <a:pt x="15453" y="7764"/>
                </a:cubicBezTo>
                <a:cubicBezTo>
                  <a:pt x="15193" y="7824"/>
                  <a:pt x="15449" y="7766"/>
                  <a:pt x="15453" y="7813"/>
                </a:cubicBezTo>
                <a:cubicBezTo>
                  <a:pt x="15457" y="7856"/>
                  <a:pt x="15372" y="7789"/>
                  <a:pt x="15329" y="7789"/>
                </a:cubicBezTo>
                <a:cubicBezTo>
                  <a:pt x="15288" y="7789"/>
                  <a:pt x="15280" y="7789"/>
                  <a:pt x="15255" y="7789"/>
                </a:cubicBezTo>
                <a:cubicBezTo>
                  <a:pt x="15285" y="7799"/>
                  <a:pt x="15533" y="7885"/>
                  <a:pt x="15404" y="7813"/>
                </a:cubicBezTo>
                <a:cubicBezTo>
                  <a:pt x="15387" y="7805"/>
                  <a:pt x="15371" y="7797"/>
                  <a:pt x="15354" y="7789"/>
                </a:cubicBezTo>
              </a:path>
              <a:path w="16174" h="1886">
                <a:moveTo>
                  <a:pt x="20464" y="7367"/>
                </a:moveTo>
                <a:cubicBezTo>
                  <a:pt x="20439" y="7367"/>
                  <a:pt x="20431" y="7367"/>
                  <a:pt x="20439" y="7342"/>
                </a:cubicBezTo>
                <a:cubicBezTo>
                  <a:pt x="20487" y="7361"/>
                  <a:pt x="20599" y="7423"/>
                  <a:pt x="20638" y="7466"/>
                </a:cubicBezTo>
                <a:cubicBezTo>
                  <a:pt x="20646" y="7483"/>
                  <a:pt x="20654" y="7499"/>
                  <a:pt x="20662" y="7516"/>
                </a:cubicBezTo>
              </a:path>
              <a:path w="16174" h="1886">
                <a:moveTo>
                  <a:pt x="20613" y="7317"/>
                </a:moveTo>
                <a:cubicBezTo>
                  <a:pt x="20613" y="7373"/>
                  <a:pt x="20618" y="7496"/>
                  <a:pt x="20588" y="7541"/>
                </a:cubicBezTo>
                <a:cubicBezTo>
                  <a:pt x="20576" y="7559"/>
                  <a:pt x="20563" y="7568"/>
                  <a:pt x="20563" y="7615"/>
                </a:cubicBezTo>
              </a:path>
              <a:path w="16174" h="1886">
                <a:moveTo>
                  <a:pt x="21729" y="7417"/>
                </a:moveTo>
                <a:cubicBezTo>
                  <a:pt x="21729" y="7409"/>
                  <a:pt x="21729" y="7400"/>
                  <a:pt x="21729" y="7392"/>
                </a:cubicBezTo>
                <a:cubicBezTo>
                  <a:pt x="21788" y="7384"/>
                  <a:pt x="21843" y="7367"/>
                  <a:pt x="21903" y="7367"/>
                </a:cubicBezTo>
              </a:path>
              <a:path w="16174" h="1886">
                <a:moveTo>
                  <a:pt x="21779" y="7541"/>
                </a:moveTo>
                <a:cubicBezTo>
                  <a:pt x="21824" y="7541"/>
                  <a:pt x="21838" y="7519"/>
                  <a:pt x="21878" y="7516"/>
                </a:cubicBezTo>
                <a:cubicBezTo>
                  <a:pt x="21894" y="7516"/>
                  <a:pt x="21911" y="7516"/>
                  <a:pt x="21927" y="7516"/>
                </a:cubicBezTo>
              </a:path>
              <a:path w="16174" h="1886">
                <a:moveTo>
                  <a:pt x="20910" y="7516"/>
                </a:moveTo>
                <a:cubicBezTo>
                  <a:pt x="20958" y="7532"/>
                  <a:pt x="20921" y="7547"/>
                  <a:pt x="20910" y="7590"/>
                </a:cubicBezTo>
                <a:cubicBezTo>
                  <a:pt x="20982" y="7623"/>
                  <a:pt x="21100" y="7664"/>
                  <a:pt x="21034" y="7764"/>
                </a:cubicBezTo>
                <a:cubicBezTo>
                  <a:pt x="20950" y="7891"/>
                  <a:pt x="20911" y="7781"/>
                  <a:pt x="20861" y="7714"/>
                </a:cubicBezTo>
              </a:path>
              <a:path w="16174" h="1886">
                <a:moveTo>
                  <a:pt x="20910" y="7565"/>
                </a:moveTo>
                <a:cubicBezTo>
                  <a:pt x="21005" y="7519"/>
                  <a:pt x="21089" y="7498"/>
                  <a:pt x="21183" y="7466"/>
                </a:cubicBezTo>
              </a:path>
              <a:path w="16174" h="1886">
                <a:moveTo>
                  <a:pt x="21208" y="7466"/>
                </a:moveTo>
                <a:cubicBezTo>
                  <a:pt x="21216" y="7622"/>
                  <a:pt x="21183" y="7639"/>
                  <a:pt x="21307" y="7689"/>
                </a:cubicBezTo>
                <a:cubicBezTo>
                  <a:pt x="21368" y="7494"/>
                  <a:pt x="21368" y="7525"/>
                  <a:pt x="21208" y="7466"/>
                </a:cubicBezTo>
                <a:cubicBezTo>
                  <a:pt x="21200" y="7458"/>
                  <a:pt x="21191" y="7449"/>
                  <a:pt x="21183" y="7441"/>
                </a:cubicBezTo>
              </a:path>
              <a:path w="16174" h="1886">
                <a:moveTo>
                  <a:pt x="20960" y="7392"/>
                </a:moveTo>
                <a:cubicBezTo>
                  <a:pt x="21035" y="7349"/>
                  <a:pt x="21120" y="7330"/>
                  <a:pt x="21208" y="7317"/>
                </a:cubicBezTo>
              </a:path>
              <a:path w="16174" h="1886">
                <a:moveTo>
                  <a:pt x="20910" y="7094"/>
                </a:moveTo>
                <a:cubicBezTo>
                  <a:pt x="20902" y="7102"/>
                  <a:pt x="20894" y="7111"/>
                  <a:pt x="20886" y="7119"/>
                </a:cubicBezTo>
                <a:cubicBezTo>
                  <a:pt x="20899" y="7161"/>
                  <a:pt x="21032" y="7159"/>
                  <a:pt x="21034" y="7169"/>
                </a:cubicBezTo>
                <a:cubicBezTo>
                  <a:pt x="21064" y="7327"/>
                  <a:pt x="20882" y="7205"/>
                  <a:pt x="20861" y="7193"/>
                </a:cubicBezTo>
              </a:path>
              <a:path w="16174" h="1886">
                <a:moveTo>
                  <a:pt x="20935" y="7045"/>
                </a:moveTo>
                <a:cubicBezTo>
                  <a:pt x="21005" y="7016"/>
                  <a:pt x="21064" y="6986"/>
                  <a:pt x="21134" y="6970"/>
                </a:cubicBezTo>
                <a:cubicBezTo>
                  <a:pt x="21142" y="7022"/>
                  <a:pt x="21148" y="7163"/>
                  <a:pt x="21183" y="7169"/>
                </a:cubicBezTo>
                <a:cubicBezTo>
                  <a:pt x="21341" y="7197"/>
                  <a:pt x="21403" y="7008"/>
                  <a:pt x="21233" y="6970"/>
                </a:cubicBezTo>
                <a:cubicBezTo>
                  <a:pt x="21208" y="6970"/>
                  <a:pt x="21183" y="6970"/>
                  <a:pt x="21158" y="6970"/>
                </a:cubicBezTo>
              </a:path>
              <a:path w="16174" h="1886">
                <a:moveTo>
                  <a:pt x="22423" y="7590"/>
                </a:moveTo>
                <a:cubicBezTo>
                  <a:pt x="22423" y="7750"/>
                  <a:pt x="22433" y="7888"/>
                  <a:pt x="22374" y="8037"/>
                </a:cubicBezTo>
              </a:path>
              <a:path w="16174" h="1886">
                <a:moveTo>
                  <a:pt x="22696" y="7565"/>
                </a:moveTo>
                <a:cubicBezTo>
                  <a:pt x="22675" y="7690"/>
                  <a:pt x="22655" y="7812"/>
                  <a:pt x="22647" y="7938"/>
                </a:cubicBezTo>
                <a:cubicBezTo>
                  <a:pt x="22780" y="7899"/>
                  <a:pt x="22889" y="7798"/>
                  <a:pt x="22845" y="7640"/>
                </a:cubicBezTo>
                <a:cubicBezTo>
                  <a:pt x="22797" y="7616"/>
                  <a:pt x="22783" y="7607"/>
                  <a:pt x="22746" y="7615"/>
                </a:cubicBezTo>
              </a:path>
              <a:path w="16174" h="1886">
                <a:moveTo>
                  <a:pt x="22994" y="7541"/>
                </a:moveTo>
                <a:cubicBezTo>
                  <a:pt x="22975" y="7651"/>
                  <a:pt x="22953" y="7727"/>
                  <a:pt x="22969" y="7838"/>
                </a:cubicBezTo>
                <a:cubicBezTo>
                  <a:pt x="23029" y="7816"/>
                  <a:pt x="23206" y="7691"/>
                  <a:pt x="23093" y="7590"/>
                </a:cubicBezTo>
                <a:cubicBezTo>
                  <a:pt x="23012" y="7563"/>
                  <a:pt x="22981" y="7554"/>
                  <a:pt x="22920" y="7565"/>
                </a:cubicBezTo>
              </a:path>
              <a:path w="16174" h="1886">
                <a:moveTo>
                  <a:pt x="22175" y="7491"/>
                </a:moveTo>
                <a:cubicBezTo>
                  <a:pt x="22391" y="7471"/>
                  <a:pt x="22588" y="7399"/>
                  <a:pt x="22796" y="7342"/>
                </a:cubicBezTo>
                <a:cubicBezTo>
                  <a:pt x="22934" y="7304"/>
                  <a:pt x="22974" y="7293"/>
                  <a:pt x="23093" y="7293"/>
                </a:cubicBezTo>
              </a:path>
              <a:path w="16174" h="1886">
                <a:moveTo>
                  <a:pt x="22225" y="6921"/>
                </a:moveTo>
                <a:cubicBezTo>
                  <a:pt x="22239" y="6948"/>
                  <a:pt x="22278" y="6898"/>
                  <a:pt x="22324" y="6871"/>
                </a:cubicBezTo>
                <a:cubicBezTo>
                  <a:pt x="22431" y="7020"/>
                  <a:pt x="22464" y="7168"/>
                  <a:pt x="22250" y="7268"/>
                </a:cubicBezTo>
                <a:cubicBezTo>
                  <a:pt x="22182" y="7268"/>
                  <a:pt x="22163" y="7271"/>
                  <a:pt x="22126" y="7243"/>
                </a:cubicBezTo>
                <a:cubicBezTo>
                  <a:pt x="22255" y="7207"/>
                  <a:pt x="22333" y="7203"/>
                  <a:pt x="22423" y="7293"/>
                </a:cubicBezTo>
                <a:cubicBezTo>
                  <a:pt x="22431" y="7301"/>
                  <a:pt x="22440" y="7309"/>
                  <a:pt x="22448" y="7317"/>
                </a:cubicBezTo>
              </a:path>
              <a:path w="16174" h="1886">
                <a:moveTo>
                  <a:pt x="22696" y="6796"/>
                </a:moveTo>
                <a:cubicBezTo>
                  <a:pt x="22626" y="6814"/>
                  <a:pt x="22645" y="6816"/>
                  <a:pt x="22622" y="6871"/>
                </a:cubicBezTo>
                <a:cubicBezTo>
                  <a:pt x="22585" y="6944"/>
                  <a:pt x="22568" y="6949"/>
                  <a:pt x="22572" y="6995"/>
                </a:cubicBezTo>
                <a:cubicBezTo>
                  <a:pt x="22621" y="6983"/>
                  <a:pt x="22667" y="6941"/>
                  <a:pt x="22721" y="6995"/>
                </a:cubicBezTo>
                <a:cubicBezTo>
                  <a:pt x="22810" y="7084"/>
                  <a:pt x="22763" y="7169"/>
                  <a:pt x="22647" y="7193"/>
                </a:cubicBezTo>
                <a:cubicBezTo>
                  <a:pt x="22544" y="7215"/>
                  <a:pt x="22520" y="7209"/>
                  <a:pt x="22498" y="7144"/>
                </a:cubicBezTo>
              </a:path>
              <a:path w="16174" h="1886">
                <a:moveTo>
                  <a:pt x="22895" y="6747"/>
                </a:moveTo>
                <a:cubicBezTo>
                  <a:pt x="22895" y="6844"/>
                  <a:pt x="22841" y="6959"/>
                  <a:pt x="22895" y="7045"/>
                </a:cubicBezTo>
                <a:cubicBezTo>
                  <a:pt x="22911" y="7053"/>
                  <a:pt x="22928" y="7061"/>
                  <a:pt x="22944" y="7069"/>
                </a:cubicBezTo>
                <a:cubicBezTo>
                  <a:pt x="23095" y="7032"/>
                  <a:pt x="23159" y="6954"/>
                  <a:pt x="23068" y="6796"/>
                </a:cubicBezTo>
                <a:cubicBezTo>
                  <a:pt x="23016" y="6706"/>
                  <a:pt x="22945" y="6732"/>
                  <a:pt x="22870" y="6747"/>
                </a:cubicBezTo>
              </a:path>
              <a:path w="16174" h="1886">
                <a:moveTo>
                  <a:pt x="23366" y="7317"/>
                </a:moveTo>
                <a:cubicBezTo>
                  <a:pt x="23419" y="7283"/>
                  <a:pt x="23478" y="7255"/>
                  <a:pt x="23540" y="72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813720" y="1465200"/>
            <a:ext cx="1509480" cy="392040"/>
          </a:xfrm>
          <a:custGeom>
            <a:avLst/>
            <a:gdLst/>
            <a:ahLst/>
            <a:rect l="l" t="t" r="r" b="b"/>
            <a:pathLst>
              <a:path w="4193" h="1092">
                <a:moveTo>
                  <a:pt x="19124" y="4242"/>
                </a:moveTo>
                <a:cubicBezTo>
                  <a:pt x="19028" y="4387"/>
                  <a:pt x="18896" y="4628"/>
                  <a:pt x="18926" y="4812"/>
                </a:cubicBezTo>
                <a:cubicBezTo>
                  <a:pt x="18952" y="4970"/>
                  <a:pt x="19060" y="4952"/>
                  <a:pt x="19174" y="4961"/>
                </a:cubicBezTo>
              </a:path>
              <a:path w="4193" h="1092">
                <a:moveTo>
                  <a:pt x="21952" y="4539"/>
                </a:moveTo>
                <a:cubicBezTo>
                  <a:pt x="21960" y="4622"/>
                  <a:pt x="21971" y="4704"/>
                  <a:pt x="21977" y="4787"/>
                </a:cubicBezTo>
              </a:path>
              <a:path w="4193" h="1092">
                <a:moveTo>
                  <a:pt x="21952" y="4366"/>
                </a:moveTo>
                <a:lnTo>
                  <a:pt x="21952" y="4366"/>
                </a:lnTo>
                <a:lnTo>
                  <a:pt x="21952" y="4366"/>
                </a:lnTo>
              </a:path>
              <a:path w="4193" h="1092">
                <a:moveTo>
                  <a:pt x="21952" y="4366"/>
                </a:moveTo>
                <a:lnTo>
                  <a:pt x="21952" y="4366"/>
                </a:lnTo>
              </a:path>
              <a:path w="4193" h="1092">
                <a:moveTo>
                  <a:pt x="22696" y="4068"/>
                </a:moveTo>
                <a:cubicBezTo>
                  <a:pt x="22985" y="4375"/>
                  <a:pt x="23170" y="4560"/>
                  <a:pt x="23093" y="5011"/>
                </a:cubicBezTo>
                <a:cubicBezTo>
                  <a:pt x="23056" y="5104"/>
                  <a:pt x="23063" y="5123"/>
                  <a:pt x="23019" y="5159"/>
                </a:cubicBezTo>
              </a:path>
              <a:path w="4193" h="1092">
                <a:moveTo>
                  <a:pt x="21580" y="4614"/>
                </a:moveTo>
                <a:cubicBezTo>
                  <a:pt x="21642" y="4639"/>
                  <a:pt x="21666" y="4671"/>
                  <a:pt x="21679" y="47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19920" y="1608120"/>
            <a:ext cx="911160" cy="222120"/>
          </a:xfrm>
          <a:custGeom>
            <a:avLst/>
            <a:gdLst/>
            <a:ahLst/>
            <a:rect l="l" t="t" r="r" b="b"/>
            <a:pathLst>
              <a:path w="2531" h="621">
                <a:moveTo>
                  <a:pt x="19422" y="4514"/>
                </a:moveTo>
                <a:cubicBezTo>
                  <a:pt x="19464" y="4494"/>
                  <a:pt x="19413" y="4468"/>
                  <a:pt x="19372" y="4465"/>
                </a:cubicBezTo>
                <a:cubicBezTo>
                  <a:pt x="19259" y="4458"/>
                  <a:pt x="19212" y="4695"/>
                  <a:pt x="19224" y="4787"/>
                </a:cubicBezTo>
                <a:cubicBezTo>
                  <a:pt x="19235" y="4875"/>
                  <a:pt x="19382" y="4818"/>
                  <a:pt x="19422" y="4812"/>
                </a:cubicBezTo>
              </a:path>
              <a:path w="2531" h="621">
                <a:moveTo>
                  <a:pt x="19670" y="4514"/>
                </a:moveTo>
                <a:cubicBezTo>
                  <a:pt x="19584" y="4591"/>
                  <a:pt x="19560" y="4653"/>
                  <a:pt x="19521" y="4762"/>
                </a:cubicBezTo>
                <a:cubicBezTo>
                  <a:pt x="19645" y="4815"/>
                  <a:pt x="19869" y="4834"/>
                  <a:pt x="19869" y="4614"/>
                </a:cubicBezTo>
                <a:cubicBezTo>
                  <a:pt x="19869" y="4474"/>
                  <a:pt x="19733" y="4497"/>
                  <a:pt x="19645" y="4490"/>
                </a:cubicBezTo>
              </a:path>
              <a:path w="2531" h="621">
                <a:moveTo>
                  <a:pt x="19893" y="4638"/>
                </a:moveTo>
                <a:cubicBezTo>
                  <a:pt x="19914" y="4722"/>
                  <a:pt x="19915" y="4742"/>
                  <a:pt x="19943" y="4787"/>
                </a:cubicBezTo>
                <a:cubicBezTo>
                  <a:pt x="19945" y="4760"/>
                  <a:pt x="19943" y="4464"/>
                  <a:pt x="20042" y="4514"/>
                </a:cubicBezTo>
                <a:cubicBezTo>
                  <a:pt x="20118" y="4590"/>
                  <a:pt x="20144" y="4616"/>
                  <a:pt x="20166" y="4688"/>
                </a:cubicBezTo>
                <a:cubicBezTo>
                  <a:pt x="20174" y="4696"/>
                  <a:pt x="20183" y="4705"/>
                  <a:pt x="20191" y="4713"/>
                </a:cubicBezTo>
                <a:cubicBezTo>
                  <a:pt x="20191" y="4632"/>
                  <a:pt x="20193" y="4606"/>
                  <a:pt x="20265" y="4564"/>
                </a:cubicBezTo>
                <a:cubicBezTo>
                  <a:pt x="20398" y="4486"/>
                  <a:pt x="20434" y="4674"/>
                  <a:pt x="20439" y="4762"/>
                </a:cubicBezTo>
                <a:cubicBezTo>
                  <a:pt x="20439" y="4837"/>
                  <a:pt x="20439" y="4895"/>
                  <a:pt x="20439" y="4837"/>
                </a:cubicBezTo>
              </a:path>
              <a:path w="2531" h="621">
                <a:moveTo>
                  <a:pt x="20563" y="4589"/>
                </a:moveTo>
                <a:cubicBezTo>
                  <a:pt x="20620" y="4758"/>
                  <a:pt x="20689" y="4906"/>
                  <a:pt x="20712" y="5085"/>
                </a:cubicBezTo>
                <a:cubicBezTo>
                  <a:pt x="20695" y="4930"/>
                  <a:pt x="20644" y="4799"/>
                  <a:pt x="20687" y="4638"/>
                </a:cubicBezTo>
                <a:cubicBezTo>
                  <a:pt x="20739" y="4535"/>
                  <a:pt x="20760" y="4502"/>
                  <a:pt x="20861" y="4539"/>
                </a:cubicBezTo>
                <a:cubicBezTo>
                  <a:pt x="20947" y="4626"/>
                  <a:pt x="20991" y="4764"/>
                  <a:pt x="20811" y="4812"/>
                </a:cubicBezTo>
                <a:cubicBezTo>
                  <a:pt x="20649" y="4855"/>
                  <a:pt x="20621" y="4795"/>
                  <a:pt x="20563" y="4688"/>
                </a:cubicBezTo>
              </a:path>
              <a:path w="2531" h="621">
                <a:moveTo>
                  <a:pt x="21258" y="4614"/>
                </a:moveTo>
                <a:cubicBezTo>
                  <a:pt x="21308" y="4588"/>
                  <a:pt x="21179" y="4542"/>
                  <a:pt x="21134" y="4589"/>
                </a:cubicBezTo>
                <a:cubicBezTo>
                  <a:pt x="21052" y="4675"/>
                  <a:pt x="21083" y="4768"/>
                  <a:pt x="21109" y="4862"/>
                </a:cubicBezTo>
                <a:cubicBezTo>
                  <a:pt x="21198" y="4842"/>
                  <a:pt x="21384" y="4802"/>
                  <a:pt x="21307" y="4688"/>
                </a:cubicBezTo>
                <a:cubicBezTo>
                  <a:pt x="21332" y="4750"/>
                  <a:pt x="21422" y="4830"/>
                  <a:pt x="21506" y="4812"/>
                </a:cubicBezTo>
                <a:cubicBezTo>
                  <a:pt x="21562" y="4774"/>
                  <a:pt x="21565" y="4757"/>
                  <a:pt x="21605" y="4762"/>
                </a:cubicBezTo>
              </a:path>
              <a:path w="2531" h="621">
                <a:moveTo>
                  <a:pt x="21605" y="4787"/>
                </a:moveTo>
                <a:cubicBezTo>
                  <a:pt x="21605" y="4795"/>
                  <a:pt x="21605" y="4804"/>
                  <a:pt x="21605" y="4812"/>
                </a:cubicBezTo>
                <a:cubicBezTo>
                  <a:pt x="21623" y="4759"/>
                  <a:pt x="21586" y="4590"/>
                  <a:pt x="21654" y="4539"/>
                </a:cubicBezTo>
                <a:cubicBezTo>
                  <a:pt x="21687" y="4531"/>
                  <a:pt x="21721" y="4522"/>
                  <a:pt x="21754"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10360" y="1598760"/>
            <a:ext cx="222480" cy="285480"/>
          </a:xfrm>
          <a:custGeom>
            <a:avLst/>
            <a:gdLst/>
            <a:ahLst/>
            <a:rect l="l" t="t" r="r" b="b"/>
            <a:pathLst>
              <a:path w="621" h="795">
                <a:moveTo>
                  <a:pt x="22250" y="4713"/>
                </a:moveTo>
                <a:cubicBezTo>
                  <a:pt x="22250" y="4815"/>
                  <a:pt x="22244" y="4698"/>
                  <a:pt x="22250" y="4663"/>
                </a:cubicBezTo>
                <a:cubicBezTo>
                  <a:pt x="22264" y="4584"/>
                  <a:pt x="22278" y="4547"/>
                  <a:pt x="22324" y="4490"/>
                </a:cubicBezTo>
                <a:cubicBezTo>
                  <a:pt x="22443" y="4588"/>
                  <a:pt x="22450" y="4663"/>
                  <a:pt x="22523" y="4787"/>
                </a:cubicBezTo>
                <a:cubicBezTo>
                  <a:pt x="22531" y="4795"/>
                  <a:pt x="22539" y="4804"/>
                  <a:pt x="22547" y="4812"/>
                </a:cubicBezTo>
              </a:path>
              <a:path w="621" h="795">
                <a:moveTo>
                  <a:pt x="22746" y="4465"/>
                </a:moveTo>
                <a:cubicBezTo>
                  <a:pt x="22666" y="4425"/>
                  <a:pt x="22604" y="4588"/>
                  <a:pt x="22572" y="4663"/>
                </a:cubicBezTo>
                <a:cubicBezTo>
                  <a:pt x="22535" y="4749"/>
                  <a:pt x="22651" y="4600"/>
                  <a:pt x="22721" y="4539"/>
                </a:cubicBezTo>
                <a:cubicBezTo>
                  <a:pt x="22729" y="4547"/>
                  <a:pt x="22738" y="4556"/>
                  <a:pt x="22746" y="4564"/>
                </a:cubicBezTo>
                <a:cubicBezTo>
                  <a:pt x="22788" y="4739"/>
                  <a:pt x="22958" y="5005"/>
                  <a:pt x="22796" y="5159"/>
                </a:cubicBezTo>
                <a:cubicBezTo>
                  <a:pt x="22613" y="5333"/>
                  <a:pt x="22444" y="5205"/>
                  <a:pt x="22399" y="50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54200" y="2820960"/>
            <a:ext cx="204840" cy="54000"/>
          </a:xfrm>
          <a:custGeom>
            <a:avLst/>
            <a:gdLst/>
            <a:ahLst/>
            <a:rect l="l" t="t" r="r" b="b"/>
            <a:pathLst>
              <a:path w="572" h="150">
                <a:moveTo>
                  <a:pt x="7144" y="7987"/>
                </a:moveTo>
                <a:cubicBezTo>
                  <a:pt x="7277" y="7965"/>
                  <a:pt x="7405" y="7906"/>
                  <a:pt x="7541" y="7888"/>
                </a:cubicBezTo>
                <a:cubicBezTo>
                  <a:pt x="7587" y="7882"/>
                  <a:pt x="7686" y="7888"/>
                  <a:pt x="7590" y="7888"/>
                </a:cubicBezTo>
                <a:cubicBezTo>
                  <a:pt x="7474" y="7888"/>
                  <a:pt x="7424" y="7885"/>
                  <a:pt x="7342" y="7863"/>
                </a:cubicBezTo>
                <a:cubicBezTo>
                  <a:pt x="7260" y="7878"/>
                  <a:pt x="7110" y="7888"/>
                  <a:pt x="7193" y="7888"/>
                </a:cubicBezTo>
                <a:cubicBezTo>
                  <a:pt x="7348" y="7888"/>
                  <a:pt x="7510" y="7849"/>
                  <a:pt x="7665" y="7838"/>
                </a:cubicBezTo>
                <a:cubicBezTo>
                  <a:pt x="7614" y="7838"/>
                  <a:pt x="7581" y="7844"/>
                  <a:pt x="7541" y="7863"/>
                </a:cubicBezTo>
                <a:cubicBezTo>
                  <a:pt x="7479" y="7863"/>
                  <a:pt x="7087" y="7863"/>
                  <a:pt x="7119" y="7863"/>
                </a:cubicBezTo>
                <a:cubicBezTo>
                  <a:pt x="7274" y="7863"/>
                  <a:pt x="7432" y="7888"/>
                  <a:pt x="7590" y="7888"/>
                </a:cubicBezTo>
                <a:cubicBezTo>
                  <a:pt x="7615" y="7888"/>
                  <a:pt x="7623" y="7888"/>
                  <a:pt x="7590" y="7888"/>
                </a:cubicBezTo>
                <a:cubicBezTo>
                  <a:pt x="7433" y="7888"/>
                  <a:pt x="7016" y="7851"/>
                  <a:pt x="7169" y="7888"/>
                </a:cubicBezTo>
                <a:cubicBezTo>
                  <a:pt x="7304" y="7920"/>
                  <a:pt x="7456" y="7933"/>
                  <a:pt x="7590" y="7888"/>
                </a:cubicBezTo>
                <a:cubicBezTo>
                  <a:pt x="7613" y="7880"/>
                  <a:pt x="7549" y="7890"/>
                  <a:pt x="7541" y="791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a:off x="2054160" y="3187800"/>
            <a:ext cx="893880" cy="1295280"/>
          </a:xfrm>
          <a:custGeom>
            <a:avLst/>
            <a:gdLst/>
            <a:ahLst/>
            <a:rect l="l" t="t" r="r" b="b"/>
            <a:pathLst>
              <a:path w="2482" h="3598">
                <a:moveTo>
                  <a:pt x="6573" y="10071"/>
                </a:moveTo>
                <a:cubicBezTo>
                  <a:pt x="6536" y="10079"/>
                  <a:pt x="6283" y="10083"/>
                  <a:pt x="6276" y="10096"/>
                </a:cubicBezTo>
                <a:cubicBezTo>
                  <a:pt x="6249" y="10203"/>
                  <a:pt x="6239" y="10244"/>
                  <a:pt x="6226" y="10319"/>
                </a:cubicBezTo>
                <a:cubicBezTo>
                  <a:pt x="6254" y="10328"/>
                  <a:pt x="6423" y="10278"/>
                  <a:pt x="6524" y="10319"/>
                </a:cubicBezTo>
                <a:cubicBezTo>
                  <a:pt x="6691" y="10386"/>
                  <a:pt x="6666" y="10583"/>
                  <a:pt x="6524" y="10666"/>
                </a:cubicBezTo>
                <a:cubicBezTo>
                  <a:pt x="6475" y="10695"/>
                  <a:pt x="6129" y="10749"/>
                  <a:pt x="6102" y="10666"/>
                </a:cubicBezTo>
                <a:cubicBezTo>
                  <a:pt x="6110" y="10658"/>
                  <a:pt x="6119" y="10649"/>
                  <a:pt x="6127" y="10641"/>
                </a:cubicBezTo>
              </a:path>
              <a:path w="2482" h="3598">
                <a:moveTo>
                  <a:pt x="7045" y="10269"/>
                </a:moveTo>
                <a:cubicBezTo>
                  <a:pt x="7005" y="10242"/>
                  <a:pt x="7028" y="10249"/>
                  <a:pt x="6995" y="10294"/>
                </a:cubicBezTo>
                <a:cubicBezTo>
                  <a:pt x="7048" y="10303"/>
                  <a:pt x="7065" y="10290"/>
                  <a:pt x="7119" y="10244"/>
                </a:cubicBezTo>
                <a:cubicBezTo>
                  <a:pt x="7107" y="10232"/>
                  <a:pt x="6988" y="10197"/>
                  <a:pt x="7020" y="10269"/>
                </a:cubicBezTo>
                <a:cubicBezTo>
                  <a:pt x="7028" y="10277"/>
                  <a:pt x="7037" y="10286"/>
                  <a:pt x="7045" y="10294"/>
                </a:cubicBezTo>
              </a:path>
              <a:path w="2482" h="3598">
                <a:moveTo>
                  <a:pt x="7020" y="10542"/>
                </a:moveTo>
                <a:cubicBezTo>
                  <a:pt x="7002" y="10613"/>
                  <a:pt x="7022" y="10614"/>
                  <a:pt x="7069" y="10567"/>
                </a:cubicBezTo>
                <a:cubicBezTo>
                  <a:pt x="7136" y="10500"/>
                  <a:pt x="6866" y="10588"/>
                  <a:pt x="7119" y="10542"/>
                </a:cubicBezTo>
              </a:path>
              <a:path w="2482" h="3598">
                <a:moveTo>
                  <a:pt x="7615" y="10170"/>
                </a:moveTo>
                <a:cubicBezTo>
                  <a:pt x="7646" y="10092"/>
                  <a:pt x="7726" y="10041"/>
                  <a:pt x="7813" y="10021"/>
                </a:cubicBezTo>
                <a:cubicBezTo>
                  <a:pt x="7860" y="10010"/>
                  <a:pt x="7932" y="10053"/>
                  <a:pt x="7938" y="10096"/>
                </a:cubicBezTo>
                <a:cubicBezTo>
                  <a:pt x="7949" y="10170"/>
                  <a:pt x="7842" y="10318"/>
                  <a:pt x="7789" y="10368"/>
                </a:cubicBezTo>
                <a:cubicBezTo>
                  <a:pt x="7702" y="10451"/>
                  <a:pt x="7601" y="10503"/>
                  <a:pt x="7541" y="10616"/>
                </a:cubicBezTo>
                <a:cubicBezTo>
                  <a:pt x="7530" y="10638"/>
                  <a:pt x="7522" y="10666"/>
                  <a:pt x="7516" y="10691"/>
                </a:cubicBezTo>
                <a:cubicBezTo>
                  <a:pt x="7525" y="10656"/>
                  <a:pt x="7553" y="10588"/>
                  <a:pt x="7590" y="10567"/>
                </a:cubicBezTo>
                <a:cubicBezTo>
                  <a:pt x="7635" y="10542"/>
                  <a:pt x="7660" y="10598"/>
                  <a:pt x="7689" y="10616"/>
                </a:cubicBezTo>
                <a:cubicBezTo>
                  <a:pt x="7777" y="10673"/>
                  <a:pt x="7878" y="10638"/>
                  <a:pt x="7962" y="10592"/>
                </a:cubicBezTo>
                <a:cubicBezTo>
                  <a:pt x="7970" y="10584"/>
                  <a:pt x="7979" y="10575"/>
                  <a:pt x="7987" y="10567"/>
                </a:cubicBezTo>
              </a:path>
              <a:path w="2482" h="3598">
                <a:moveTo>
                  <a:pt x="5854" y="9004"/>
                </a:moveTo>
                <a:cubicBezTo>
                  <a:pt x="5817" y="9132"/>
                  <a:pt x="5793" y="9270"/>
                  <a:pt x="5755" y="9401"/>
                </a:cubicBezTo>
                <a:cubicBezTo>
                  <a:pt x="5742" y="9445"/>
                  <a:pt x="5730" y="9491"/>
                  <a:pt x="5705" y="9525"/>
                </a:cubicBezTo>
              </a:path>
              <a:path w="2482" h="3598">
                <a:moveTo>
                  <a:pt x="6300" y="9079"/>
                </a:moveTo>
                <a:cubicBezTo>
                  <a:pt x="6204" y="9175"/>
                  <a:pt x="6125" y="9262"/>
                  <a:pt x="6102" y="9401"/>
                </a:cubicBezTo>
                <a:cubicBezTo>
                  <a:pt x="6082" y="9526"/>
                  <a:pt x="6175" y="9588"/>
                  <a:pt x="6300" y="9550"/>
                </a:cubicBezTo>
                <a:cubicBezTo>
                  <a:pt x="6422" y="9513"/>
                  <a:pt x="6486" y="9385"/>
                  <a:pt x="6499" y="9277"/>
                </a:cubicBezTo>
                <a:cubicBezTo>
                  <a:pt x="6505" y="9226"/>
                  <a:pt x="6415" y="9161"/>
                  <a:pt x="6375" y="9153"/>
                </a:cubicBezTo>
                <a:cubicBezTo>
                  <a:pt x="6332" y="9144"/>
                  <a:pt x="6366" y="9142"/>
                  <a:pt x="6325" y="9128"/>
                </a:cubicBezTo>
              </a:path>
              <a:path w="2482" h="3598">
                <a:moveTo>
                  <a:pt x="6921" y="9128"/>
                </a:moveTo>
                <a:cubicBezTo>
                  <a:pt x="6852" y="9142"/>
                  <a:pt x="6835" y="9158"/>
                  <a:pt x="6821" y="9227"/>
                </a:cubicBezTo>
                <a:cubicBezTo>
                  <a:pt x="6870" y="9193"/>
                  <a:pt x="6908" y="9190"/>
                  <a:pt x="6871" y="9153"/>
                </a:cubicBezTo>
              </a:path>
              <a:path w="2482" h="3598">
                <a:moveTo>
                  <a:pt x="6945" y="9451"/>
                </a:moveTo>
                <a:cubicBezTo>
                  <a:pt x="6926" y="9499"/>
                  <a:pt x="6895" y="9546"/>
                  <a:pt x="6871" y="9599"/>
                </a:cubicBezTo>
                <a:cubicBezTo>
                  <a:pt x="6928" y="9578"/>
                  <a:pt x="7035" y="9517"/>
                  <a:pt x="6921" y="9475"/>
                </a:cubicBezTo>
                <a:cubicBezTo>
                  <a:pt x="6913" y="9475"/>
                  <a:pt x="6904" y="9475"/>
                  <a:pt x="6896" y="9475"/>
                </a:cubicBezTo>
              </a:path>
              <a:path w="2482" h="3598">
                <a:moveTo>
                  <a:pt x="6052" y="9798"/>
                </a:moveTo>
                <a:cubicBezTo>
                  <a:pt x="6066" y="9853"/>
                  <a:pt x="6109" y="9910"/>
                  <a:pt x="6127" y="9971"/>
                </a:cubicBezTo>
                <a:cubicBezTo>
                  <a:pt x="6127" y="9979"/>
                  <a:pt x="6127" y="9988"/>
                  <a:pt x="6127" y="9996"/>
                </a:cubicBezTo>
              </a:path>
              <a:path w="2482" h="3598">
                <a:moveTo>
                  <a:pt x="6176" y="9823"/>
                </a:moveTo>
                <a:cubicBezTo>
                  <a:pt x="6161" y="9882"/>
                  <a:pt x="6108" y="9937"/>
                  <a:pt x="6077" y="9996"/>
                </a:cubicBezTo>
                <a:cubicBezTo>
                  <a:pt x="6057" y="10037"/>
                  <a:pt x="6048" y="10043"/>
                  <a:pt x="6052" y="10071"/>
                </a:cubicBezTo>
              </a:path>
              <a:path w="2482" h="3598">
                <a:moveTo>
                  <a:pt x="6350" y="9897"/>
                </a:moveTo>
                <a:cubicBezTo>
                  <a:pt x="6368" y="9861"/>
                  <a:pt x="6378" y="9856"/>
                  <a:pt x="6424" y="9847"/>
                </a:cubicBezTo>
                <a:cubicBezTo>
                  <a:pt x="6416" y="9967"/>
                  <a:pt x="6376" y="10019"/>
                  <a:pt x="6350" y="10120"/>
                </a:cubicBezTo>
                <a:cubicBezTo>
                  <a:pt x="6398" y="10097"/>
                  <a:pt x="6466" y="10077"/>
                  <a:pt x="6524" y="10071"/>
                </a:cubicBezTo>
                <a:cubicBezTo>
                  <a:pt x="6532" y="10071"/>
                  <a:pt x="6540" y="10071"/>
                  <a:pt x="6548" y="10071"/>
                </a:cubicBezTo>
              </a:path>
              <a:path w="2482" h="3598">
                <a:moveTo>
                  <a:pt x="7491" y="9823"/>
                </a:moveTo>
                <a:cubicBezTo>
                  <a:pt x="7491" y="9815"/>
                  <a:pt x="7491" y="9806"/>
                  <a:pt x="7491" y="9798"/>
                </a:cubicBezTo>
                <a:cubicBezTo>
                  <a:pt x="7470" y="9839"/>
                  <a:pt x="7491" y="9858"/>
                  <a:pt x="7491" y="9922"/>
                </a:cubicBezTo>
                <a:cubicBezTo>
                  <a:pt x="7491" y="9930"/>
                  <a:pt x="7491" y="9939"/>
                  <a:pt x="7491" y="9947"/>
                </a:cubicBezTo>
              </a:path>
              <a:path w="2482" h="3598">
                <a:moveTo>
                  <a:pt x="7417" y="9897"/>
                </a:moveTo>
                <a:cubicBezTo>
                  <a:pt x="7459" y="9897"/>
                  <a:pt x="7535" y="9920"/>
                  <a:pt x="7565" y="9947"/>
                </a:cubicBezTo>
                <a:cubicBezTo>
                  <a:pt x="7588" y="9967"/>
                  <a:pt x="7564" y="9971"/>
                  <a:pt x="7615" y="9971"/>
                </a:cubicBezTo>
              </a:path>
              <a:path w="2482" h="3598">
                <a:moveTo>
                  <a:pt x="7739" y="9773"/>
                </a:moveTo>
                <a:cubicBezTo>
                  <a:pt x="7787" y="9789"/>
                  <a:pt x="7786" y="9819"/>
                  <a:pt x="7764" y="9872"/>
                </a:cubicBezTo>
                <a:cubicBezTo>
                  <a:pt x="7733" y="9946"/>
                  <a:pt x="7730" y="9898"/>
                  <a:pt x="7714" y="9947"/>
                </a:cubicBezTo>
                <a:cubicBezTo>
                  <a:pt x="7758" y="9955"/>
                  <a:pt x="7792" y="9971"/>
                  <a:pt x="7838" y="9971"/>
                </a:cubicBezTo>
                <a:cubicBezTo>
                  <a:pt x="7863" y="9971"/>
                  <a:pt x="7871" y="9971"/>
                  <a:pt x="7863" y="9996"/>
                </a:cubicBezTo>
              </a:path>
              <a:path w="2482" h="3598">
                <a:moveTo>
                  <a:pt x="7392" y="9029"/>
                </a:moveTo>
                <a:cubicBezTo>
                  <a:pt x="7392" y="8967"/>
                  <a:pt x="7392" y="9130"/>
                  <a:pt x="7392" y="9153"/>
                </a:cubicBezTo>
                <a:cubicBezTo>
                  <a:pt x="7392" y="9170"/>
                  <a:pt x="7392" y="9186"/>
                  <a:pt x="7392" y="9203"/>
                </a:cubicBezTo>
                <a:cubicBezTo>
                  <a:pt x="7491" y="9203"/>
                  <a:pt x="7590" y="9203"/>
                  <a:pt x="7689" y="9203"/>
                </a:cubicBezTo>
              </a:path>
              <a:path w="2482" h="3598">
                <a:moveTo>
                  <a:pt x="7689" y="8855"/>
                </a:moveTo>
                <a:cubicBezTo>
                  <a:pt x="7689" y="9078"/>
                  <a:pt x="7689" y="9698"/>
                  <a:pt x="7689" y="9475"/>
                </a:cubicBezTo>
              </a:path>
              <a:path w="2482" h="3598">
                <a:moveTo>
                  <a:pt x="7144" y="11609"/>
                </a:moveTo>
                <a:cubicBezTo>
                  <a:pt x="7144" y="11555"/>
                  <a:pt x="7149" y="11527"/>
                  <a:pt x="7094" y="11509"/>
                </a:cubicBezTo>
                <a:cubicBezTo>
                  <a:pt x="7002" y="11478"/>
                  <a:pt x="7023" y="11657"/>
                  <a:pt x="7020" y="11683"/>
                </a:cubicBezTo>
                <a:cubicBezTo>
                  <a:pt x="7078" y="11671"/>
                  <a:pt x="7133" y="11647"/>
                  <a:pt x="7094" y="11609"/>
                </a:cubicBezTo>
              </a:path>
              <a:path w="2482" h="3598">
                <a:moveTo>
                  <a:pt x="7144" y="11981"/>
                </a:moveTo>
                <a:cubicBezTo>
                  <a:pt x="7115" y="12023"/>
                  <a:pt x="7052" y="12112"/>
                  <a:pt x="7119" y="12154"/>
                </a:cubicBezTo>
                <a:cubicBezTo>
                  <a:pt x="7147" y="12172"/>
                  <a:pt x="7161" y="12076"/>
                  <a:pt x="7169" y="12055"/>
                </a:cubicBezTo>
                <a:cubicBezTo>
                  <a:pt x="7134" y="12064"/>
                  <a:pt x="7119" y="12165"/>
                  <a:pt x="7119" y="12129"/>
                </a:cubicBezTo>
                <a:cubicBezTo>
                  <a:pt x="7119" y="12121"/>
                  <a:pt x="7119" y="12113"/>
                  <a:pt x="7119" y="12105"/>
                </a:cubicBezTo>
              </a:path>
              <a:path w="2482" h="3598">
                <a:moveTo>
                  <a:pt x="7565" y="11609"/>
                </a:moveTo>
                <a:cubicBezTo>
                  <a:pt x="7565" y="11834"/>
                  <a:pt x="7548" y="12054"/>
                  <a:pt x="7541" y="12278"/>
                </a:cubicBezTo>
                <a:cubicBezTo>
                  <a:pt x="7541" y="12313"/>
                  <a:pt x="7545" y="12312"/>
                  <a:pt x="7565" y="12254"/>
                </a:cubicBezTo>
              </a:path>
              <a:path w="2482" h="3598">
                <a:moveTo>
                  <a:pt x="7962" y="11584"/>
                </a:moveTo>
                <a:cubicBezTo>
                  <a:pt x="7909" y="11742"/>
                  <a:pt x="7813" y="11903"/>
                  <a:pt x="7813" y="12080"/>
                </a:cubicBezTo>
                <a:cubicBezTo>
                  <a:pt x="7833" y="12197"/>
                  <a:pt x="7826" y="12219"/>
                  <a:pt x="7863" y="12278"/>
                </a:cubicBezTo>
                <a:cubicBezTo>
                  <a:pt x="8033" y="12248"/>
                  <a:pt x="8181" y="12191"/>
                  <a:pt x="8186" y="11981"/>
                </a:cubicBezTo>
                <a:cubicBezTo>
                  <a:pt x="8189" y="11849"/>
                  <a:pt x="8087" y="11732"/>
                  <a:pt x="7987" y="11658"/>
                </a:cubicBezTo>
                <a:cubicBezTo>
                  <a:pt x="7935" y="11619"/>
                  <a:pt x="7928" y="11628"/>
                  <a:pt x="7888" y="11658"/>
                </a:cubicBezTo>
              </a:path>
              <a:path w="2482" h="3598">
                <a:moveTo>
                  <a:pt x="7417" y="10864"/>
                </a:moveTo>
                <a:cubicBezTo>
                  <a:pt x="7417" y="10872"/>
                  <a:pt x="7417" y="10881"/>
                  <a:pt x="7417" y="10889"/>
                </a:cubicBezTo>
                <a:cubicBezTo>
                  <a:pt x="7465" y="10926"/>
                  <a:pt x="7430" y="11040"/>
                  <a:pt x="7491" y="11038"/>
                </a:cubicBezTo>
                <a:cubicBezTo>
                  <a:pt x="7491" y="11030"/>
                  <a:pt x="7491" y="11021"/>
                  <a:pt x="7491" y="11013"/>
                </a:cubicBezTo>
              </a:path>
              <a:path w="2482" h="3598">
                <a:moveTo>
                  <a:pt x="7541" y="10889"/>
                </a:moveTo>
                <a:cubicBezTo>
                  <a:pt x="7523" y="10942"/>
                  <a:pt x="7491" y="10978"/>
                  <a:pt x="7491" y="11038"/>
                </a:cubicBezTo>
              </a:path>
              <a:path w="2482" h="3598">
                <a:moveTo>
                  <a:pt x="7913" y="10790"/>
                </a:moveTo>
                <a:cubicBezTo>
                  <a:pt x="7848" y="10790"/>
                  <a:pt x="7840" y="10783"/>
                  <a:pt x="7813" y="10815"/>
                </a:cubicBezTo>
                <a:cubicBezTo>
                  <a:pt x="7765" y="10871"/>
                  <a:pt x="7737" y="10911"/>
                  <a:pt x="7764" y="10964"/>
                </a:cubicBezTo>
                <a:cubicBezTo>
                  <a:pt x="7776" y="10960"/>
                  <a:pt x="7952" y="10907"/>
                  <a:pt x="7888" y="11013"/>
                </a:cubicBezTo>
                <a:cubicBezTo>
                  <a:pt x="7834" y="11067"/>
                  <a:pt x="7812" y="11087"/>
                  <a:pt x="7764" y="11112"/>
                </a:cubicBezTo>
              </a:path>
              <a:path w="2482" h="3598">
                <a:moveTo>
                  <a:pt x="5854" y="10864"/>
                </a:moveTo>
                <a:cubicBezTo>
                  <a:pt x="5876" y="10908"/>
                  <a:pt x="5932" y="10954"/>
                  <a:pt x="5953" y="11013"/>
                </a:cubicBezTo>
                <a:cubicBezTo>
                  <a:pt x="5953" y="11021"/>
                  <a:pt x="5953" y="11030"/>
                  <a:pt x="5953" y="11038"/>
                </a:cubicBezTo>
              </a:path>
              <a:path w="2482" h="3598">
                <a:moveTo>
                  <a:pt x="6375" y="10914"/>
                </a:moveTo>
                <a:cubicBezTo>
                  <a:pt x="6332" y="10914"/>
                  <a:pt x="6279" y="10900"/>
                  <a:pt x="6251" y="10939"/>
                </a:cubicBezTo>
                <a:cubicBezTo>
                  <a:pt x="6224" y="10977"/>
                  <a:pt x="6210" y="11012"/>
                  <a:pt x="6201" y="11038"/>
                </a:cubicBezTo>
                <a:cubicBezTo>
                  <a:pt x="6300" y="11038"/>
                  <a:pt x="6346" y="11029"/>
                  <a:pt x="6424" y="11088"/>
                </a:cubicBezTo>
                <a:cubicBezTo>
                  <a:pt x="6374" y="11138"/>
                  <a:pt x="6347" y="11153"/>
                  <a:pt x="6276" y="11162"/>
                </a:cubicBezTo>
              </a:path>
              <a:path w="2482" h="3598">
                <a:moveTo>
                  <a:pt x="6003" y="11782"/>
                </a:moveTo>
                <a:cubicBezTo>
                  <a:pt x="6003" y="11748"/>
                  <a:pt x="5990" y="11702"/>
                  <a:pt x="6028" y="11683"/>
                </a:cubicBezTo>
                <a:cubicBezTo>
                  <a:pt x="6066" y="11664"/>
                  <a:pt x="6190" y="11629"/>
                  <a:pt x="6226" y="11683"/>
                </a:cubicBezTo>
                <a:cubicBezTo>
                  <a:pt x="6303" y="11797"/>
                  <a:pt x="6225" y="11942"/>
                  <a:pt x="6152" y="12030"/>
                </a:cubicBezTo>
                <a:cubicBezTo>
                  <a:pt x="6033" y="12171"/>
                  <a:pt x="5928" y="12239"/>
                  <a:pt x="5879" y="12427"/>
                </a:cubicBezTo>
                <a:cubicBezTo>
                  <a:pt x="5879" y="12435"/>
                  <a:pt x="5879" y="12444"/>
                  <a:pt x="5879" y="12452"/>
                </a:cubicBezTo>
                <a:cubicBezTo>
                  <a:pt x="5906" y="12370"/>
                  <a:pt x="5973" y="12258"/>
                  <a:pt x="6077" y="12254"/>
                </a:cubicBezTo>
                <a:cubicBezTo>
                  <a:pt x="6157" y="12251"/>
                  <a:pt x="6243" y="12323"/>
                  <a:pt x="6325" y="12328"/>
                </a:cubicBezTo>
                <a:cubicBezTo>
                  <a:pt x="6436" y="12335"/>
                  <a:pt x="6445" y="12182"/>
                  <a:pt x="6474" y="12105"/>
                </a:cubicBezTo>
              </a:path>
              <a:path w="2482" h="3598">
                <a:moveTo>
                  <a:pt x="6648" y="11757"/>
                </a:moveTo>
                <a:cubicBezTo>
                  <a:pt x="6610" y="11757"/>
                  <a:pt x="6492" y="11732"/>
                  <a:pt x="6474" y="11782"/>
                </a:cubicBezTo>
                <a:cubicBezTo>
                  <a:pt x="6450" y="11850"/>
                  <a:pt x="6424" y="11954"/>
                  <a:pt x="6424" y="12030"/>
                </a:cubicBezTo>
                <a:cubicBezTo>
                  <a:pt x="6523" y="12014"/>
                  <a:pt x="6594" y="11956"/>
                  <a:pt x="6697" y="12005"/>
                </a:cubicBezTo>
                <a:cubicBezTo>
                  <a:pt x="6808" y="12058"/>
                  <a:pt x="6784" y="12181"/>
                  <a:pt x="6697" y="12229"/>
                </a:cubicBezTo>
                <a:cubicBezTo>
                  <a:pt x="6612" y="12276"/>
                  <a:pt x="6604" y="12278"/>
                  <a:pt x="6524" y="12278"/>
                </a:cubicBezTo>
              </a:path>
              <a:path w="2482" h="3598">
                <a:moveTo>
                  <a:pt x="6573" y="11807"/>
                </a:moveTo>
                <a:cubicBezTo>
                  <a:pt x="6573" y="11782"/>
                  <a:pt x="6573" y="11774"/>
                  <a:pt x="6548" y="11782"/>
                </a:cubicBezTo>
                <a:cubicBezTo>
                  <a:pt x="6615" y="11760"/>
                  <a:pt x="6671" y="11715"/>
                  <a:pt x="6747" y="11708"/>
                </a:cubicBezTo>
                <a:cubicBezTo>
                  <a:pt x="6755" y="11708"/>
                  <a:pt x="6764" y="11708"/>
                  <a:pt x="6772" y="117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98800" y="2847960"/>
            <a:ext cx="615960" cy="1125720"/>
          </a:xfrm>
          <a:custGeom>
            <a:avLst/>
            <a:gdLst/>
            <a:ahLst/>
            <a:rect l="l" t="t" r="r" b="b"/>
            <a:pathLst>
              <a:path w="1713" h="3126">
                <a:moveTo>
                  <a:pt x="7541" y="7913"/>
                </a:moveTo>
                <a:lnTo>
                  <a:pt x="7541" y="7913"/>
                </a:lnTo>
              </a:path>
              <a:path w="1713" h="3126">
                <a:moveTo>
                  <a:pt x="5953" y="10840"/>
                </a:moveTo>
                <a:cubicBezTo>
                  <a:pt x="5910" y="10900"/>
                  <a:pt x="5854" y="10975"/>
                  <a:pt x="5829"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23080" y="2446200"/>
            <a:ext cx="463680" cy="519120"/>
          </a:xfrm>
          <a:custGeom>
            <a:avLst/>
            <a:gdLst/>
            <a:ahLst/>
            <a:rect l="l" t="t" r="r" b="b"/>
            <a:pathLst>
              <a:path w="1291" h="1440">
                <a:moveTo>
                  <a:pt x="19645" y="6796"/>
                </a:moveTo>
                <a:cubicBezTo>
                  <a:pt x="19534" y="6812"/>
                  <a:pt x="19375" y="6812"/>
                  <a:pt x="19273" y="6846"/>
                </a:cubicBezTo>
                <a:cubicBezTo>
                  <a:pt x="19261" y="6850"/>
                  <a:pt x="19273" y="7087"/>
                  <a:pt x="19273" y="7119"/>
                </a:cubicBezTo>
                <a:cubicBezTo>
                  <a:pt x="19411" y="7091"/>
                  <a:pt x="19545" y="7039"/>
                  <a:pt x="19695" y="7069"/>
                </a:cubicBezTo>
                <a:cubicBezTo>
                  <a:pt x="19720" y="7086"/>
                  <a:pt x="19744" y="7102"/>
                  <a:pt x="19769" y="7119"/>
                </a:cubicBezTo>
                <a:cubicBezTo>
                  <a:pt x="19729" y="7331"/>
                  <a:pt x="19627" y="7385"/>
                  <a:pt x="19397" y="7367"/>
                </a:cubicBezTo>
                <a:cubicBezTo>
                  <a:pt x="19337" y="7347"/>
                  <a:pt x="19322" y="7348"/>
                  <a:pt x="19298" y="7317"/>
                </a:cubicBezTo>
              </a:path>
              <a:path w="1291" h="1440">
                <a:moveTo>
                  <a:pt x="18951" y="7640"/>
                </a:moveTo>
                <a:cubicBezTo>
                  <a:pt x="19330" y="7548"/>
                  <a:pt x="19702" y="7469"/>
                  <a:pt x="20092" y="7441"/>
                </a:cubicBezTo>
                <a:cubicBezTo>
                  <a:pt x="20183" y="7441"/>
                  <a:pt x="20191" y="7441"/>
                  <a:pt x="20241" y="7441"/>
                </a:cubicBezTo>
              </a:path>
              <a:path w="1291" h="1440">
                <a:moveTo>
                  <a:pt x="19348" y="7838"/>
                </a:moveTo>
                <a:cubicBezTo>
                  <a:pt x="19485" y="7788"/>
                  <a:pt x="19623" y="7773"/>
                  <a:pt x="19769" y="7764"/>
                </a:cubicBezTo>
                <a:cubicBezTo>
                  <a:pt x="19820" y="7933"/>
                  <a:pt x="19737" y="8025"/>
                  <a:pt x="19596" y="8136"/>
                </a:cubicBezTo>
                <a:cubicBezTo>
                  <a:pt x="19503" y="8191"/>
                  <a:pt x="19488" y="8190"/>
                  <a:pt x="19447" y="8235"/>
                </a:cubicBezTo>
                <a:cubicBezTo>
                  <a:pt x="19571" y="8235"/>
                  <a:pt x="19699" y="8166"/>
                  <a:pt x="19819" y="8136"/>
                </a:cubicBezTo>
                <a:cubicBezTo>
                  <a:pt x="19918" y="8116"/>
                  <a:pt x="19934" y="8108"/>
                  <a:pt x="19993" y="81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929200" y="5456160"/>
            <a:ext cx="142920" cy="357120"/>
          </a:xfrm>
          <a:custGeom>
            <a:avLst/>
            <a:gdLst/>
            <a:ahLst/>
            <a:rect l="l" t="t" r="r" b="b"/>
            <a:pathLst>
              <a:path w="398" h="993">
                <a:moveTo>
                  <a:pt x="16470" y="15280"/>
                </a:moveTo>
                <a:cubicBezTo>
                  <a:pt x="16470" y="15255"/>
                  <a:pt x="16470" y="15230"/>
                  <a:pt x="16470" y="15205"/>
                </a:cubicBezTo>
                <a:cubicBezTo>
                  <a:pt x="16516" y="15341"/>
                  <a:pt x="16559" y="15506"/>
                  <a:pt x="16619" y="15627"/>
                </a:cubicBezTo>
                <a:cubicBezTo>
                  <a:pt x="16619" y="15619"/>
                  <a:pt x="16619" y="15610"/>
                  <a:pt x="16619" y="15602"/>
                </a:cubicBezTo>
              </a:path>
              <a:path w="398" h="993">
                <a:moveTo>
                  <a:pt x="16867" y="15156"/>
                </a:moveTo>
                <a:cubicBezTo>
                  <a:pt x="16835" y="15313"/>
                  <a:pt x="16729" y="15479"/>
                  <a:pt x="16669" y="15627"/>
                </a:cubicBezTo>
                <a:cubicBezTo>
                  <a:pt x="16627" y="15730"/>
                  <a:pt x="16461" y="16015"/>
                  <a:pt x="16470" y="16123"/>
                </a:cubicBezTo>
                <a:cubicBezTo>
                  <a:pt x="16498" y="16151"/>
                  <a:pt x="16507" y="16155"/>
                  <a:pt x="16495" y="16098"/>
                </a:cubicBezTo>
              </a:path>
              <a:path w="398" h="993">
                <a:moveTo>
                  <a:pt x="16545" y="15230"/>
                </a:moveTo>
                <a:cubicBezTo>
                  <a:pt x="16597" y="15269"/>
                  <a:pt x="16688" y="15423"/>
                  <a:pt x="16718" y="15503"/>
                </a:cubicBezTo>
                <a:cubicBezTo>
                  <a:pt x="16718" y="15520"/>
                  <a:pt x="16718" y="15536"/>
                  <a:pt x="16718" y="155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974000" y="2509920"/>
            <a:ext cx="1000080" cy="768240"/>
          </a:xfrm>
          <a:custGeom>
            <a:avLst/>
            <a:gdLst/>
            <a:ahLst/>
            <a:rect l="l" t="t" r="r" b="b"/>
            <a:pathLst>
              <a:path w="2779" h="2134">
                <a:moveTo>
                  <a:pt x="23788" y="7094"/>
                </a:moveTo>
                <a:cubicBezTo>
                  <a:pt x="23758" y="7124"/>
                  <a:pt x="23738" y="7185"/>
                  <a:pt x="23738" y="7144"/>
                </a:cubicBezTo>
                <a:cubicBezTo>
                  <a:pt x="23809" y="7079"/>
                  <a:pt x="23996" y="6908"/>
                  <a:pt x="23986" y="7169"/>
                </a:cubicBezTo>
                <a:cubicBezTo>
                  <a:pt x="23977" y="7403"/>
                  <a:pt x="23798" y="7590"/>
                  <a:pt x="23589" y="7665"/>
                </a:cubicBezTo>
                <a:cubicBezTo>
                  <a:pt x="23573" y="7665"/>
                  <a:pt x="23556" y="7665"/>
                  <a:pt x="23540" y="7665"/>
                </a:cubicBezTo>
                <a:cubicBezTo>
                  <a:pt x="23607" y="7529"/>
                  <a:pt x="23710" y="7496"/>
                  <a:pt x="23862" y="7541"/>
                </a:cubicBezTo>
                <a:cubicBezTo>
                  <a:pt x="23922" y="7580"/>
                  <a:pt x="23934" y="7583"/>
                  <a:pt x="23961" y="7615"/>
                </a:cubicBezTo>
              </a:path>
              <a:path w="2779" h="2134">
                <a:moveTo>
                  <a:pt x="24061" y="7466"/>
                </a:moveTo>
                <a:cubicBezTo>
                  <a:pt x="24038" y="7489"/>
                  <a:pt x="24030" y="7493"/>
                  <a:pt x="24036" y="7516"/>
                </a:cubicBezTo>
                <a:cubicBezTo>
                  <a:pt x="24075" y="7486"/>
                  <a:pt x="24105" y="7359"/>
                  <a:pt x="24036" y="7441"/>
                </a:cubicBezTo>
                <a:cubicBezTo>
                  <a:pt x="24036" y="7466"/>
                  <a:pt x="24036" y="7474"/>
                  <a:pt x="24036" y="7491"/>
                </a:cubicBezTo>
              </a:path>
              <a:path w="2779" h="2134">
                <a:moveTo>
                  <a:pt x="24333" y="7020"/>
                </a:moveTo>
                <a:cubicBezTo>
                  <a:pt x="24312" y="6953"/>
                  <a:pt x="24280" y="7033"/>
                  <a:pt x="24259" y="7045"/>
                </a:cubicBezTo>
                <a:cubicBezTo>
                  <a:pt x="24222" y="7066"/>
                  <a:pt x="24234" y="7087"/>
                  <a:pt x="24234" y="7144"/>
                </a:cubicBezTo>
                <a:cubicBezTo>
                  <a:pt x="24286" y="7170"/>
                  <a:pt x="24376" y="7126"/>
                  <a:pt x="24457" y="7144"/>
                </a:cubicBezTo>
                <a:cubicBezTo>
                  <a:pt x="24528" y="7159"/>
                  <a:pt x="24539" y="7307"/>
                  <a:pt x="24482" y="7342"/>
                </a:cubicBezTo>
                <a:cubicBezTo>
                  <a:pt x="24398" y="7394"/>
                  <a:pt x="24374" y="7372"/>
                  <a:pt x="24333" y="7317"/>
                </a:cubicBezTo>
              </a:path>
              <a:path w="2779" h="2134">
                <a:moveTo>
                  <a:pt x="24284" y="7020"/>
                </a:moveTo>
                <a:cubicBezTo>
                  <a:pt x="24345" y="7020"/>
                  <a:pt x="24428" y="7025"/>
                  <a:pt x="24482" y="6995"/>
                </a:cubicBezTo>
                <a:cubicBezTo>
                  <a:pt x="24521" y="6974"/>
                  <a:pt x="24511" y="6970"/>
                  <a:pt x="24557" y="6970"/>
                </a:cubicBezTo>
              </a:path>
              <a:path w="2779" h="2134">
                <a:moveTo>
                  <a:pt x="24705" y="6970"/>
                </a:moveTo>
                <a:cubicBezTo>
                  <a:pt x="24688" y="7090"/>
                  <a:pt x="24664" y="7175"/>
                  <a:pt x="24681" y="7293"/>
                </a:cubicBezTo>
                <a:cubicBezTo>
                  <a:pt x="24810" y="7280"/>
                  <a:pt x="24950" y="7241"/>
                  <a:pt x="24929" y="7069"/>
                </a:cubicBezTo>
                <a:cubicBezTo>
                  <a:pt x="24911" y="6925"/>
                  <a:pt x="24733" y="6987"/>
                  <a:pt x="24656" y="6995"/>
                </a:cubicBezTo>
              </a:path>
              <a:path w="2779" h="2134">
                <a:moveTo>
                  <a:pt x="22250" y="8582"/>
                </a:moveTo>
                <a:cubicBezTo>
                  <a:pt x="22403" y="8582"/>
                  <a:pt x="22567" y="8570"/>
                  <a:pt x="22572" y="8781"/>
                </a:cubicBezTo>
                <a:cubicBezTo>
                  <a:pt x="22575" y="8917"/>
                  <a:pt x="22275" y="9165"/>
                  <a:pt x="22151" y="9054"/>
                </a:cubicBezTo>
                <a:cubicBezTo>
                  <a:pt x="22159" y="9037"/>
                  <a:pt x="22167" y="9021"/>
                  <a:pt x="22175" y="9004"/>
                </a:cubicBezTo>
                <a:cubicBezTo>
                  <a:pt x="22299" y="8939"/>
                  <a:pt x="22476" y="8849"/>
                  <a:pt x="22547" y="9029"/>
                </a:cubicBezTo>
                <a:cubicBezTo>
                  <a:pt x="22547" y="9046"/>
                  <a:pt x="22547" y="9062"/>
                  <a:pt x="22547" y="9079"/>
                </a:cubicBezTo>
              </a:path>
              <a:path w="2779" h="2134">
                <a:moveTo>
                  <a:pt x="22895" y="8508"/>
                </a:moveTo>
                <a:cubicBezTo>
                  <a:pt x="22844" y="8534"/>
                  <a:pt x="22736" y="8551"/>
                  <a:pt x="22721" y="8582"/>
                </a:cubicBezTo>
                <a:cubicBezTo>
                  <a:pt x="22676" y="8672"/>
                  <a:pt x="22663" y="8694"/>
                  <a:pt x="22647" y="8756"/>
                </a:cubicBezTo>
                <a:cubicBezTo>
                  <a:pt x="22740" y="8785"/>
                  <a:pt x="22984" y="8825"/>
                  <a:pt x="22920" y="8979"/>
                </a:cubicBezTo>
                <a:cubicBezTo>
                  <a:pt x="22851" y="9145"/>
                  <a:pt x="22675" y="9101"/>
                  <a:pt x="22572" y="9029"/>
                </a:cubicBezTo>
              </a:path>
              <a:path w="2779" h="2134">
                <a:moveTo>
                  <a:pt x="23068" y="8632"/>
                </a:moveTo>
                <a:cubicBezTo>
                  <a:pt x="22987" y="8748"/>
                  <a:pt x="22977" y="8840"/>
                  <a:pt x="22969" y="8979"/>
                </a:cubicBezTo>
                <a:cubicBezTo>
                  <a:pt x="23117" y="9000"/>
                  <a:pt x="23332" y="8983"/>
                  <a:pt x="23292" y="8756"/>
                </a:cubicBezTo>
                <a:cubicBezTo>
                  <a:pt x="23260" y="8575"/>
                  <a:pt x="23139" y="8617"/>
                  <a:pt x="23019" y="8632"/>
                </a:cubicBezTo>
              </a:path>
              <a:path w="2779" h="2134">
                <a:moveTo>
                  <a:pt x="23465" y="8384"/>
                </a:moveTo>
                <a:cubicBezTo>
                  <a:pt x="23421" y="8474"/>
                  <a:pt x="23408" y="8497"/>
                  <a:pt x="23391" y="8558"/>
                </a:cubicBezTo>
                <a:cubicBezTo>
                  <a:pt x="23499" y="8610"/>
                  <a:pt x="23446" y="8417"/>
                  <a:pt x="23440" y="8359"/>
                </a:cubicBezTo>
                <a:cubicBezTo>
                  <a:pt x="23431" y="8261"/>
                  <a:pt x="23698" y="8342"/>
                  <a:pt x="23688" y="8533"/>
                </a:cubicBezTo>
                <a:cubicBezTo>
                  <a:pt x="23682" y="8644"/>
                  <a:pt x="23396" y="9038"/>
                  <a:pt x="23416" y="9079"/>
                </a:cubicBezTo>
                <a:cubicBezTo>
                  <a:pt x="23432" y="9071"/>
                  <a:pt x="23449" y="9062"/>
                  <a:pt x="23465" y="9054"/>
                </a:cubicBezTo>
              </a:path>
              <a:path w="2779" h="2134">
                <a:moveTo>
                  <a:pt x="23788" y="8855"/>
                </a:moveTo>
                <a:cubicBezTo>
                  <a:pt x="23743" y="8922"/>
                  <a:pt x="23747" y="8931"/>
                  <a:pt x="23763" y="9004"/>
                </a:cubicBezTo>
                <a:cubicBezTo>
                  <a:pt x="23895" y="8908"/>
                  <a:pt x="23917" y="8914"/>
                  <a:pt x="23763"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78000" y="5749920"/>
            <a:ext cx="3233880" cy="90360"/>
          </a:xfrm>
          <a:custGeom>
            <a:avLst/>
            <a:gdLst/>
            <a:ahLst/>
            <a:rect l="l" t="t" r="r" b="b"/>
            <a:pathLst>
              <a:path w="8981" h="249">
                <a:moveTo>
                  <a:pt x="6052" y="15974"/>
                </a:moveTo>
                <a:cubicBezTo>
                  <a:pt x="6093" y="15983"/>
                  <a:pt x="6112" y="15989"/>
                  <a:pt x="6152" y="15999"/>
                </a:cubicBezTo>
                <a:cubicBezTo>
                  <a:pt x="6286" y="16033"/>
                  <a:pt x="6435" y="16073"/>
                  <a:pt x="6573" y="16073"/>
                </a:cubicBezTo>
                <a:cubicBezTo>
                  <a:pt x="6734" y="16073"/>
                  <a:pt x="6905" y="16030"/>
                  <a:pt x="7069" y="16024"/>
                </a:cubicBezTo>
                <a:cubicBezTo>
                  <a:pt x="7207" y="16019"/>
                  <a:pt x="7331" y="16042"/>
                  <a:pt x="7466" y="16049"/>
                </a:cubicBezTo>
                <a:cubicBezTo>
                  <a:pt x="7944" y="16073"/>
                  <a:pt x="8438" y="16084"/>
                  <a:pt x="8905" y="16073"/>
                </a:cubicBezTo>
                <a:cubicBezTo>
                  <a:pt x="9140" y="16067"/>
                  <a:pt x="9393" y="16061"/>
                  <a:pt x="9624" y="16098"/>
                </a:cubicBezTo>
                <a:cubicBezTo>
                  <a:pt x="9754" y="16119"/>
                  <a:pt x="9894" y="16146"/>
                  <a:pt x="10021" y="16173"/>
                </a:cubicBezTo>
                <a:cubicBezTo>
                  <a:pt x="10115" y="16193"/>
                  <a:pt x="10198" y="16217"/>
                  <a:pt x="10294" y="16222"/>
                </a:cubicBezTo>
                <a:cubicBezTo>
                  <a:pt x="10917" y="16257"/>
                  <a:pt x="11563" y="16232"/>
                  <a:pt x="12179" y="16148"/>
                </a:cubicBezTo>
                <a:cubicBezTo>
                  <a:pt x="12408" y="16117"/>
                  <a:pt x="12648" y="16108"/>
                  <a:pt x="12874" y="16073"/>
                </a:cubicBezTo>
                <a:cubicBezTo>
                  <a:pt x="13016" y="16051"/>
                  <a:pt x="13154" y="16021"/>
                  <a:pt x="13295" y="15999"/>
                </a:cubicBezTo>
                <a:cubicBezTo>
                  <a:pt x="13413" y="15980"/>
                  <a:pt x="13501" y="15987"/>
                  <a:pt x="13618" y="15999"/>
                </a:cubicBezTo>
                <a:cubicBezTo>
                  <a:pt x="13768" y="16015"/>
                  <a:pt x="13911" y="16024"/>
                  <a:pt x="14064" y="16024"/>
                </a:cubicBezTo>
                <a:cubicBezTo>
                  <a:pt x="14193" y="16024"/>
                  <a:pt x="14309" y="16005"/>
                  <a:pt x="14436" y="15999"/>
                </a:cubicBezTo>
                <a:cubicBezTo>
                  <a:pt x="14566" y="15992"/>
                  <a:pt x="14719" y="15980"/>
                  <a:pt x="14833" y="15974"/>
                </a:cubicBezTo>
                <a:cubicBezTo>
                  <a:pt x="14899" y="15971"/>
                  <a:pt x="14966" y="15977"/>
                  <a:pt x="15032" y="15974"/>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5384880" y="5732640"/>
            <a:ext cx="2608200" cy="53640"/>
          </a:xfrm>
          <a:custGeom>
            <a:avLst/>
            <a:gdLst/>
            <a:ahLst/>
            <a:rect l="l" t="t" r="r" b="b"/>
            <a:pathLst>
              <a:path w="7244" h="149">
                <a:moveTo>
                  <a:pt x="14957" y="15949"/>
                </a:moveTo>
                <a:cubicBezTo>
                  <a:pt x="15113" y="15932"/>
                  <a:pt x="15248" y="15940"/>
                  <a:pt x="15404" y="15949"/>
                </a:cubicBezTo>
                <a:cubicBezTo>
                  <a:pt x="15678" y="15965"/>
                  <a:pt x="15948" y="16011"/>
                  <a:pt x="16222" y="16024"/>
                </a:cubicBezTo>
                <a:cubicBezTo>
                  <a:pt x="16383" y="16031"/>
                  <a:pt x="16536" y="16040"/>
                  <a:pt x="16694" y="16049"/>
                </a:cubicBezTo>
                <a:cubicBezTo>
                  <a:pt x="16944" y="16063"/>
                  <a:pt x="17218" y="16075"/>
                  <a:pt x="17462" y="16049"/>
                </a:cubicBezTo>
                <a:cubicBezTo>
                  <a:pt x="17629" y="16031"/>
                  <a:pt x="17789" y="16024"/>
                  <a:pt x="17959" y="16024"/>
                </a:cubicBezTo>
                <a:cubicBezTo>
                  <a:pt x="18242" y="16024"/>
                  <a:pt x="18520" y="16045"/>
                  <a:pt x="18802" y="16049"/>
                </a:cubicBezTo>
                <a:cubicBezTo>
                  <a:pt x="19083" y="16053"/>
                  <a:pt x="19363" y="16024"/>
                  <a:pt x="19645" y="16024"/>
                </a:cubicBezTo>
                <a:cubicBezTo>
                  <a:pt x="19970" y="16024"/>
                  <a:pt x="20290" y="16011"/>
                  <a:pt x="20613" y="15999"/>
                </a:cubicBezTo>
                <a:cubicBezTo>
                  <a:pt x="20888" y="15989"/>
                  <a:pt x="21157" y="16019"/>
                  <a:pt x="21431" y="16024"/>
                </a:cubicBezTo>
                <a:cubicBezTo>
                  <a:pt x="21684" y="16028"/>
                  <a:pt x="21962" y="16033"/>
                  <a:pt x="22200" y="15999"/>
                </a:cubicBezTo>
              </a:path>
            </a:pathLst>
          </a:custGeom>
          <a:noFill/>
          <a:ln cap="rnd" w="19080">
            <a:solidFill>
              <a:srgbClr val="ff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Objective:</a:t>
            </a:r>
            <a:br>
              <a:rPr sz="2400"/>
            </a:br>
            <a:r>
              <a:rPr b="1" lang="en-US" sz="2400" spc="-1" strike="noStrike">
                <a:solidFill>
                  <a:srgbClr val="ff6600"/>
                </a:solidFill>
                <a:latin typeface="Times New Roman"/>
              </a:rPr>
              <a:t>Converting, fractions, decimals, percents and </a:t>
            </a:r>
            <a:r>
              <a:rPr b="1" i="1" lang="en-US" sz="2400" spc="-1" strike="noStrike">
                <a:solidFill>
                  <a:srgbClr val="ff6600"/>
                </a:solidFill>
                <a:latin typeface="Times New Roman"/>
              </a:rPr>
              <a:t>ratios</a:t>
            </a:r>
            <a:r>
              <a:rPr b="1"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85" name="PlaceHolder 2"/>
          <p:cNvSpPr>
            <a:spLocks noGrp="1"/>
          </p:cNvSpPr>
          <p:nvPr>
            <p:ph type="subTitle"/>
          </p:nvPr>
        </p:nvSpPr>
        <p:spPr>
          <a:xfrm>
            <a:off x="533520" y="1676160"/>
            <a:ext cx="815328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Review what we have learned so far:</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ach as a decimal…</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600200" y="3073320"/>
                <a:ext cx="371520" cy="104148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mc:AlternateContent>
        <mc:Choice xmlns:a14="http://schemas.microsoft.com/office/drawing/2010/main" Requires="a14">
          <p:sp>
            <p:nvSpPr>
              <p:cNvPr id="87" name=""/>
              <p:cNvSpPr txBox="1"/>
              <p:nvPr/>
            </p:nvSpPr>
            <p:spPr>
              <a:xfrm>
                <a:off x="1600200" y="4800600"/>
                <a:ext cx="601560" cy="990720"/>
              </a:xfrm>
              <a:prstGeom prst="rect">
                <a:avLst/>
              </a:prstGeom>
            </p:spPr>
            <p:txBody>
              <a:bodyPr/>
              <a:p>
                <a14:m>
                  <m:oMath xmlns:m="http://schemas.openxmlformats.org/officeDocument/2006/math">
                    <m:f>
                      <m:num>
                        <m:r>
                          <m:rPr>
                            <m:lit/>
                            <m:nor/>
                          </m:rPr>
                          <m:t xml:space="preserve">24</m:t>
                        </m:r>
                      </m:num>
                      <m:den>
                        <m:r>
                          <m:rPr>
                            <m:lit/>
                            <m:nor/>
                          </m:rPr>
                          <m:t xml:space="preserve">25</m:t>
                        </m:r>
                      </m:den>
                    </m:f>
                  </m:oMath>
                </a14:m>
              </a:p>
            </p:txBody>
          </p:sp>
        </mc:Choice>
        <mc:Fallback/>
      </mc:AlternateContent>
      <p:sp>
        <p:nvSpPr>
          <p:cNvPr id="88" name=""/>
          <p:cNvSpPr/>
          <p:nvPr/>
        </p:nvSpPr>
        <p:spPr>
          <a:xfrm>
            <a:off x="1990800" y="2616120"/>
            <a:ext cx="1536480" cy="179640"/>
          </a:xfrm>
          <a:custGeom>
            <a:avLst/>
            <a:gdLst/>
            <a:ahLst/>
            <a:rect l="l" t="t" r="r" b="b"/>
            <a:pathLst>
              <a:path w="4268" h="497">
                <a:moveTo>
                  <a:pt x="5581" y="7541"/>
                </a:moveTo>
                <a:cubicBezTo>
                  <a:pt x="5620" y="7512"/>
                  <a:pt x="5554" y="7503"/>
                  <a:pt x="5631" y="7491"/>
                </a:cubicBezTo>
                <a:cubicBezTo>
                  <a:pt x="5893" y="7450"/>
                  <a:pt x="6185" y="7487"/>
                  <a:pt x="6449" y="7466"/>
                </a:cubicBezTo>
                <a:cubicBezTo>
                  <a:pt x="6607" y="7454"/>
                  <a:pt x="6764" y="7456"/>
                  <a:pt x="6921" y="7441"/>
                </a:cubicBezTo>
                <a:cubicBezTo>
                  <a:pt x="7042" y="7429"/>
                  <a:pt x="7150" y="7399"/>
                  <a:pt x="7268" y="7367"/>
                </a:cubicBezTo>
                <a:cubicBezTo>
                  <a:pt x="7414" y="7327"/>
                  <a:pt x="7566" y="7339"/>
                  <a:pt x="7714" y="7317"/>
                </a:cubicBezTo>
                <a:cubicBezTo>
                  <a:pt x="7837" y="7299"/>
                  <a:pt x="7964" y="7312"/>
                  <a:pt x="8086" y="7293"/>
                </a:cubicBezTo>
                <a:cubicBezTo>
                  <a:pt x="8205" y="7275"/>
                  <a:pt x="8313" y="7268"/>
                  <a:pt x="8434" y="7268"/>
                </a:cubicBezTo>
                <a:cubicBezTo>
                  <a:pt x="8538" y="7268"/>
                  <a:pt x="8624" y="7293"/>
                  <a:pt x="8731" y="7293"/>
                </a:cubicBezTo>
                <a:cubicBezTo>
                  <a:pt x="8848" y="7293"/>
                  <a:pt x="8959" y="7317"/>
                  <a:pt x="9079" y="7317"/>
                </a:cubicBezTo>
                <a:cubicBezTo>
                  <a:pt x="9205" y="7317"/>
                  <a:pt x="9323" y="7293"/>
                  <a:pt x="9451" y="7293"/>
                </a:cubicBezTo>
                <a:cubicBezTo>
                  <a:pt x="9532" y="7293"/>
                  <a:pt x="9606" y="7293"/>
                  <a:pt x="9674" y="7293"/>
                </a:cubicBezTo>
                <a:cubicBezTo>
                  <a:pt x="9682" y="7293"/>
                  <a:pt x="9691" y="7293"/>
                  <a:pt x="9699" y="7293"/>
                </a:cubicBezTo>
              </a:path>
              <a:path w="4268" h="497">
                <a:moveTo>
                  <a:pt x="5531" y="7714"/>
                </a:moveTo>
                <a:cubicBezTo>
                  <a:pt x="5669" y="7743"/>
                  <a:pt x="5758" y="7745"/>
                  <a:pt x="5904" y="7739"/>
                </a:cubicBezTo>
                <a:cubicBezTo>
                  <a:pt x="6104" y="7731"/>
                  <a:pt x="6298" y="7714"/>
                  <a:pt x="6499" y="7714"/>
                </a:cubicBezTo>
                <a:cubicBezTo>
                  <a:pt x="6629" y="7714"/>
                  <a:pt x="6745" y="7702"/>
                  <a:pt x="6871" y="7689"/>
                </a:cubicBezTo>
                <a:cubicBezTo>
                  <a:pt x="6979" y="7678"/>
                  <a:pt x="7088" y="7650"/>
                  <a:pt x="7193" y="7640"/>
                </a:cubicBezTo>
                <a:cubicBezTo>
                  <a:pt x="7302" y="7630"/>
                  <a:pt x="7412" y="7602"/>
                  <a:pt x="7516" y="7590"/>
                </a:cubicBezTo>
                <a:cubicBezTo>
                  <a:pt x="7882" y="7546"/>
                  <a:pt x="8268" y="7598"/>
                  <a:pt x="8632" y="7565"/>
                </a:cubicBezTo>
                <a:cubicBezTo>
                  <a:pt x="8730" y="7556"/>
                  <a:pt x="8834" y="7549"/>
                  <a:pt x="8930" y="7541"/>
                </a:cubicBezTo>
                <a:cubicBezTo>
                  <a:pt x="9104" y="7526"/>
                  <a:pt x="9278" y="7533"/>
                  <a:pt x="9451" y="7516"/>
                </a:cubicBezTo>
                <a:cubicBezTo>
                  <a:pt x="9547" y="7506"/>
                  <a:pt x="9597" y="7548"/>
                  <a:pt x="9699" y="7541"/>
                </a:cubicBezTo>
                <a:cubicBezTo>
                  <a:pt x="9729" y="7539"/>
                  <a:pt x="9796" y="7491"/>
                  <a:pt x="9798"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490920" y="3714840"/>
            <a:ext cx="376200" cy="401400"/>
          </a:xfrm>
          <a:custGeom>
            <a:avLst/>
            <a:gdLst/>
            <a:ahLst/>
            <a:rect l="l" t="t" r="r" b="b"/>
            <a:pathLst>
              <a:path w="1042" h="1117">
                <a:moveTo>
                  <a:pt x="9699" y="10319"/>
                </a:moveTo>
                <a:cubicBezTo>
                  <a:pt x="9769" y="10355"/>
                  <a:pt x="9791" y="10339"/>
                  <a:pt x="9872" y="10319"/>
                </a:cubicBezTo>
              </a:path>
              <a:path w="1042" h="1117">
                <a:moveTo>
                  <a:pt x="10542" y="11435"/>
                </a:moveTo>
                <a:cubicBezTo>
                  <a:pt x="10609" y="11428"/>
                  <a:pt x="10673" y="11417"/>
                  <a:pt x="10740" y="114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044960" y="4483080"/>
            <a:ext cx="98280" cy="17640"/>
          </a:xfrm>
          <a:custGeom>
            <a:avLst/>
            <a:gdLst/>
            <a:ahLst/>
            <a:rect l="l" t="t" r="r" b="b"/>
            <a:pathLst>
              <a:path w="273" h="51">
                <a:moveTo>
                  <a:pt x="11237" y="12502"/>
                </a:moveTo>
                <a:cubicBezTo>
                  <a:pt x="11334" y="12472"/>
                  <a:pt x="11408" y="12458"/>
                  <a:pt x="11509" y="12452"/>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3830760" y="2963880"/>
            <a:ext cx="642960" cy="1751040"/>
          </a:xfrm>
          <a:custGeom>
            <a:avLst/>
            <a:gdLst/>
            <a:ahLst/>
            <a:rect l="l" t="t" r="r" b="b"/>
            <a:pathLst>
              <a:path w="1787" h="4863">
                <a:moveTo>
                  <a:pt x="10641" y="11683"/>
                </a:moveTo>
                <a:cubicBezTo>
                  <a:pt x="10809" y="11725"/>
                  <a:pt x="11065" y="11625"/>
                  <a:pt x="11237" y="11584"/>
                </a:cubicBezTo>
                <a:cubicBezTo>
                  <a:pt x="11398" y="11546"/>
                  <a:pt x="11545" y="11519"/>
                  <a:pt x="11708" y="11509"/>
                </a:cubicBezTo>
              </a:path>
              <a:path w="1787" h="4863">
                <a:moveTo>
                  <a:pt x="11410" y="11733"/>
                </a:moveTo>
                <a:cubicBezTo>
                  <a:pt x="11412" y="11761"/>
                  <a:pt x="11402" y="11891"/>
                  <a:pt x="11460" y="11881"/>
                </a:cubicBezTo>
                <a:cubicBezTo>
                  <a:pt x="11566" y="11863"/>
                  <a:pt x="11667" y="11841"/>
                  <a:pt x="11683" y="11733"/>
                </a:cubicBezTo>
              </a:path>
              <a:path w="1787" h="4863">
                <a:moveTo>
                  <a:pt x="11633" y="11658"/>
                </a:moveTo>
                <a:cubicBezTo>
                  <a:pt x="11633" y="11766"/>
                  <a:pt x="11603" y="11916"/>
                  <a:pt x="11658" y="12005"/>
                </a:cubicBezTo>
              </a:path>
              <a:path w="1787" h="4863">
                <a:moveTo>
                  <a:pt x="11807" y="9103"/>
                </a:moveTo>
                <a:cubicBezTo>
                  <a:pt x="11692" y="9103"/>
                  <a:pt x="11672" y="9202"/>
                  <a:pt x="11658" y="9302"/>
                </a:cubicBezTo>
                <a:cubicBezTo>
                  <a:pt x="11637" y="9453"/>
                  <a:pt x="11688" y="9506"/>
                  <a:pt x="11782" y="9599"/>
                </a:cubicBezTo>
                <a:cubicBezTo>
                  <a:pt x="11927" y="9544"/>
                  <a:pt x="12049" y="9424"/>
                  <a:pt x="11931" y="9252"/>
                </a:cubicBezTo>
                <a:cubicBezTo>
                  <a:pt x="11865" y="9156"/>
                  <a:pt x="11792" y="9267"/>
                  <a:pt x="11757" y="9302"/>
                </a:cubicBezTo>
              </a:path>
              <a:path w="1787" h="4863">
                <a:moveTo>
                  <a:pt x="11857" y="9773"/>
                </a:moveTo>
                <a:cubicBezTo>
                  <a:pt x="11857" y="9878"/>
                  <a:pt x="11870" y="9992"/>
                  <a:pt x="11881" y="10096"/>
                </a:cubicBezTo>
                <a:cubicBezTo>
                  <a:pt x="11901" y="10279"/>
                  <a:pt x="11938" y="10459"/>
                  <a:pt x="11956" y="10641"/>
                </a:cubicBezTo>
                <a:cubicBezTo>
                  <a:pt x="11968" y="10762"/>
                  <a:pt x="11962" y="10893"/>
                  <a:pt x="11981" y="11013"/>
                </a:cubicBezTo>
                <a:cubicBezTo>
                  <a:pt x="11994" y="11094"/>
                  <a:pt x="12005" y="11152"/>
                  <a:pt x="12005" y="11237"/>
                </a:cubicBezTo>
                <a:cubicBezTo>
                  <a:pt x="12005" y="11245"/>
                  <a:pt x="12005" y="11253"/>
                  <a:pt x="12005" y="11261"/>
                </a:cubicBezTo>
              </a:path>
              <a:path w="1787" h="4863">
                <a:moveTo>
                  <a:pt x="12179" y="11633"/>
                </a:moveTo>
                <a:cubicBezTo>
                  <a:pt x="12082" y="11692"/>
                  <a:pt x="12068" y="11794"/>
                  <a:pt x="12105" y="11906"/>
                </a:cubicBezTo>
                <a:cubicBezTo>
                  <a:pt x="12142" y="12019"/>
                  <a:pt x="12313" y="11857"/>
                  <a:pt x="12328" y="11807"/>
                </a:cubicBezTo>
                <a:cubicBezTo>
                  <a:pt x="12350" y="11731"/>
                  <a:pt x="12321" y="11656"/>
                  <a:pt x="12254" y="11633"/>
                </a:cubicBezTo>
                <a:cubicBezTo>
                  <a:pt x="12246" y="11633"/>
                  <a:pt x="12237" y="11633"/>
                  <a:pt x="12229" y="11633"/>
                </a:cubicBezTo>
              </a:path>
              <a:path w="1787" h="4863">
                <a:moveTo>
                  <a:pt x="11733" y="8235"/>
                </a:moveTo>
                <a:cubicBezTo>
                  <a:pt x="11631" y="8235"/>
                  <a:pt x="11598" y="8292"/>
                  <a:pt x="11509" y="8334"/>
                </a:cubicBezTo>
                <a:cubicBezTo>
                  <a:pt x="11452" y="8361"/>
                  <a:pt x="11497" y="8425"/>
                  <a:pt x="11509" y="8483"/>
                </a:cubicBezTo>
                <a:cubicBezTo>
                  <a:pt x="11509" y="8508"/>
                  <a:pt x="11509" y="8516"/>
                  <a:pt x="11509" y="8533"/>
                </a:cubicBezTo>
                <a:cubicBezTo>
                  <a:pt x="11561" y="8520"/>
                  <a:pt x="11632" y="8437"/>
                  <a:pt x="11683" y="8434"/>
                </a:cubicBezTo>
                <a:cubicBezTo>
                  <a:pt x="11888" y="8420"/>
                  <a:pt x="11797" y="8648"/>
                  <a:pt x="11733" y="8731"/>
                </a:cubicBezTo>
                <a:cubicBezTo>
                  <a:pt x="11693" y="8783"/>
                  <a:pt x="11584" y="8849"/>
                  <a:pt x="11584" y="8806"/>
                </a:cubicBezTo>
              </a:path>
              <a:path w="1787" h="4863">
                <a:moveTo>
                  <a:pt x="11658" y="12254"/>
                </a:moveTo>
                <a:cubicBezTo>
                  <a:pt x="11658" y="12312"/>
                  <a:pt x="11658" y="12369"/>
                  <a:pt x="11658" y="12427"/>
                </a:cubicBezTo>
                <a:cubicBezTo>
                  <a:pt x="11712" y="12415"/>
                  <a:pt x="11755" y="12395"/>
                  <a:pt x="11807" y="12378"/>
                </a:cubicBezTo>
              </a:path>
              <a:path w="1787" h="4863">
                <a:moveTo>
                  <a:pt x="11733" y="12229"/>
                </a:moveTo>
                <a:cubicBezTo>
                  <a:pt x="11739" y="12320"/>
                  <a:pt x="11736" y="12499"/>
                  <a:pt x="11782" y="12576"/>
                </a:cubicBezTo>
                <a:cubicBezTo>
                  <a:pt x="11790" y="12576"/>
                  <a:pt x="11799" y="12576"/>
                  <a:pt x="11807" y="12576"/>
                </a:cubicBezTo>
              </a:path>
              <a:path w="1787" h="4863">
                <a:moveTo>
                  <a:pt x="12080" y="12154"/>
                </a:moveTo>
                <a:cubicBezTo>
                  <a:pt x="12080" y="12301"/>
                  <a:pt x="12073" y="12385"/>
                  <a:pt x="12154" y="12502"/>
                </a:cubicBezTo>
                <a:cubicBezTo>
                  <a:pt x="12266" y="12441"/>
                  <a:pt x="12261" y="12430"/>
                  <a:pt x="12303" y="12303"/>
                </a:cubicBezTo>
                <a:cubicBezTo>
                  <a:pt x="12218" y="12277"/>
                  <a:pt x="12147" y="12278"/>
                  <a:pt x="12055" y="12278"/>
                </a:cubicBezTo>
              </a:path>
              <a:path w="1787" h="4863">
                <a:moveTo>
                  <a:pt x="11509" y="12824"/>
                </a:moveTo>
                <a:cubicBezTo>
                  <a:pt x="11790" y="12756"/>
                  <a:pt x="12072" y="12693"/>
                  <a:pt x="12353" y="12626"/>
                </a:cubicBezTo>
                <a:cubicBezTo>
                  <a:pt x="12378" y="12618"/>
                  <a:pt x="12402" y="12609"/>
                  <a:pt x="12427" y="12601"/>
                </a:cubicBezTo>
              </a:path>
              <a:path w="1787" h="4863">
                <a:moveTo>
                  <a:pt x="12378" y="12774"/>
                </a:moveTo>
                <a:cubicBezTo>
                  <a:pt x="12281" y="12774"/>
                  <a:pt x="12267" y="12891"/>
                  <a:pt x="12254" y="12973"/>
                </a:cubicBezTo>
                <a:cubicBezTo>
                  <a:pt x="12254" y="13046"/>
                  <a:pt x="12253" y="13069"/>
                  <a:pt x="12303" y="13097"/>
                </a:cubicBezTo>
                <a:cubicBezTo>
                  <a:pt x="12366" y="13046"/>
                  <a:pt x="12531" y="12918"/>
                  <a:pt x="12402" y="12824"/>
                </a:cubicBezTo>
                <a:cubicBezTo>
                  <a:pt x="12348" y="12784"/>
                  <a:pt x="12315" y="12781"/>
                  <a:pt x="12278" y="127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95360" y="4911840"/>
            <a:ext cx="2865600" cy="812520"/>
          </a:xfrm>
          <a:custGeom>
            <a:avLst/>
            <a:gdLst/>
            <a:ahLst/>
            <a:rect l="l" t="t" r="r" b="b"/>
            <a:pathLst>
              <a:path w="7963" h="2258">
                <a:moveTo>
                  <a:pt x="6400" y="14536"/>
                </a:moveTo>
                <a:cubicBezTo>
                  <a:pt x="6424" y="14608"/>
                  <a:pt x="6491" y="14759"/>
                  <a:pt x="6524" y="14858"/>
                </a:cubicBezTo>
                <a:cubicBezTo>
                  <a:pt x="6532" y="14883"/>
                  <a:pt x="6540" y="14907"/>
                  <a:pt x="6548" y="14932"/>
                </a:cubicBezTo>
              </a:path>
              <a:path w="7963" h="2258">
                <a:moveTo>
                  <a:pt x="6499" y="14684"/>
                </a:moveTo>
                <a:cubicBezTo>
                  <a:pt x="6463" y="14753"/>
                  <a:pt x="6400" y="14857"/>
                  <a:pt x="6375" y="14932"/>
                </a:cubicBezTo>
              </a:path>
              <a:path w="7963" h="2258">
                <a:moveTo>
                  <a:pt x="6945" y="14932"/>
                </a:moveTo>
                <a:cubicBezTo>
                  <a:pt x="6939" y="15012"/>
                  <a:pt x="6928" y="15058"/>
                  <a:pt x="6896" y="15131"/>
                </a:cubicBezTo>
                <a:cubicBezTo>
                  <a:pt x="6999" y="15131"/>
                  <a:pt x="7064" y="15102"/>
                  <a:pt x="7119" y="15007"/>
                </a:cubicBezTo>
                <a:cubicBezTo>
                  <a:pt x="7127" y="14982"/>
                  <a:pt x="7136" y="14957"/>
                  <a:pt x="7144" y="14932"/>
                </a:cubicBezTo>
              </a:path>
              <a:path w="7963" h="2258">
                <a:moveTo>
                  <a:pt x="7020" y="14932"/>
                </a:moveTo>
                <a:cubicBezTo>
                  <a:pt x="7009" y="15069"/>
                  <a:pt x="7020" y="15171"/>
                  <a:pt x="7020" y="15304"/>
                </a:cubicBezTo>
                <a:cubicBezTo>
                  <a:pt x="7020" y="15296"/>
                  <a:pt x="7020" y="15288"/>
                  <a:pt x="7020" y="15280"/>
                </a:cubicBezTo>
              </a:path>
              <a:path w="7963" h="2258">
                <a:moveTo>
                  <a:pt x="6896" y="14759"/>
                </a:moveTo>
                <a:cubicBezTo>
                  <a:pt x="6973" y="14750"/>
                  <a:pt x="7040" y="14734"/>
                  <a:pt x="7119" y="14734"/>
                </a:cubicBezTo>
              </a:path>
              <a:path w="7963" h="2258">
                <a:moveTo>
                  <a:pt x="6921" y="14263"/>
                </a:moveTo>
                <a:cubicBezTo>
                  <a:pt x="6939" y="14313"/>
                  <a:pt x="6933" y="14384"/>
                  <a:pt x="6995" y="14387"/>
                </a:cubicBezTo>
                <a:cubicBezTo>
                  <a:pt x="7068" y="14387"/>
                  <a:pt x="7092" y="14388"/>
                  <a:pt x="7119" y="14337"/>
                </a:cubicBezTo>
              </a:path>
              <a:path w="7963" h="2258">
                <a:moveTo>
                  <a:pt x="7045" y="14139"/>
                </a:moveTo>
                <a:cubicBezTo>
                  <a:pt x="7019" y="14336"/>
                  <a:pt x="7034" y="14512"/>
                  <a:pt x="7045" y="14709"/>
                </a:cubicBezTo>
              </a:path>
              <a:path w="7963" h="2258">
                <a:moveTo>
                  <a:pt x="7640" y="14759"/>
                </a:moveTo>
                <a:cubicBezTo>
                  <a:pt x="7742" y="14733"/>
                  <a:pt x="7806" y="14709"/>
                  <a:pt x="7913" y="14709"/>
                </a:cubicBezTo>
              </a:path>
              <a:path w="7963" h="2258">
                <a:moveTo>
                  <a:pt x="7689" y="14957"/>
                </a:moveTo>
                <a:cubicBezTo>
                  <a:pt x="7801" y="14922"/>
                  <a:pt x="7903" y="14879"/>
                  <a:pt x="8012" y="14833"/>
                </a:cubicBezTo>
              </a:path>
              <a:path w="7963" h="2258">
                <a:moveTo>
                  <a:pt x="8855" y="15230"/>
                </a:moveTo>
                <a:cubicBezTo>
                  <a:pt x="8840" y="15419"/>
                  <a:pt x="8821" y="15598"/>
                  <a:pt x="8756" y="15776"/>
                </a:cubicBezTo>
                <a:cubicBezTo>
                  <a:pt x="8734" y="15819"/>
                  <a:pt x="8721" y="15840"/>
                  <a:pt x="8756" y="15801"/>
                </a:cubicBezTo>
              </a:path>
              <a:path w="7963" h="2258">
                <a:moveTo>
                  <a:pt x="9153" y="15354"/>
                </a:moveTo>
                <a:cubicBezTo>
                  <a:pt x="9057" y="15545"/>
                  <a:pt x="9006" y="15661"/>
                  <a:pt x="9029" y="15875"/>
                </a:cubicBezTo>
                <a:cubicBezTo>
                  <a:pt x="9223" y="15843"/>
                  <a:pt x="9420" y="15757"/>
                  <a:pt x="9351" y="15503"/>
                </a:cubicBezTo>
                <a:cubicBezTo>
                  <a:pt x="9331" y="15430"/>
                  <a:pt x="9233" y="15454"/>
                  <a:pt x="9227" y="15379"/>
                </a:cubicBezTo>
              </a:path>
              <a:path w="7963" h="2258">
                <a:moveTo>
                  <a:pt x="9649" y="15354"/>
                </a:moveTo>
                <a:cubicBezTo>
                  <a:pt x="9573" y="15430"/>
                  <a:pt x="9477" y="15670"/>
                  <a:pt x="9525" y="15801"/>
                </a:cubicBezTo>
                <a:cubicBezTo>
                  <a:pt x="9550" y="15817"/>
                  <a:pt x="9574" y="15834"/>
                  <a:pt x="9599" y="15850"/>
                </a:cubicBezTo>
                <a:cubicBezTo>
                  <a:pt x="9731" y="15784"/>
                  <a:pt x="9953" y="15603"/>
                  <a:pt x="9773" y="15429"/>
                </a:cubicBezTo>
                <a:cubicBezTo>
                  <a:pt x="9732" y="15412"/>
                  <a:pt x="9690" y="15396"/>
                  <a:pt x="9649" y="15379"/>
                </a:cubicBezTo>
              </a:path>
              <a:path w="7963" h="2258">
                <a:moveTo>
                  <a:pt x="8855" y="15081"/>
                </a:moveTo>
                <a:cubicBezTo>
                  <a:pt x="9112" y="15068"/>
                  <a:pt x="9365" y="15056"/>
                  <a:pt x="9624" y="15056"/>
                </a:cubicBezTo>
                <a:cubicBezTo>
                  <a:pt x="9702" y="15056"/>
                  <a:pt x="9720" y="15041"/>
                  <a:pt x="9748" y="15081"/>
                </a:cubicBezTo>
              </a:path>
              <a:path w="7963" h="2258">
                <a:moveTo>
                  <a:pt x="9203" y="14436"/>
                </a:moveTo>
                <a:cubicBezTo>
                  <a:pt x="9203" y="14313"/>
                  <a:pt x="9218" y="14232"/>
                  <a:pt x="9103" y="14163"/>
                </a:cubicBezTo>
                <a:cubicBezTo>
                  <a:pt x="9078" y="14155"/>
                  <a:pt x="9054" y="14147"/>
                  <a:pt x="9029" y="14139"/>
                </a:cubicBezTo>
                <a:cubicBezTo>
                  <a:pt x="8951" y="14266"/>
                  <a:pt x="8921" y="14337"/>
                  <a:pt x="8905" y="14486"/>
                </a:cubicBezTo>
                <a:cubicBezTo>
                  <a:pt x="9087" y="14461"/>
                  <a:pt x="9090" y="14413"/>
                  <a:pt x="9153" y="14238"/>
                </a:cubicBezTo>
                <a:cubicBezTo>
                  <a:pt x="9177" y="14405"/>
                  <a:pt x="9184" y="14551"/>
                  <a:pt x="9178" y="14734"/>
                </a:cubicBezTo>
                <a:cubicBezTo>
                  <a:pt x="9178" y="14825"/>
                  <a:pt x="9145" y="14866"/>
                  <a:pt x="9203" y="14858"/>
                </a:cubicBezTo>
              </a:path>
              <a:path w="7963" h="2258">
                <a:moveTo>
                  <a:pt x="9525" y="14213"/>
                </a:moveTo>
                <a:cubicBezTo>
                  <a:pt x="9509" y="14357"/>
                  <a:pt x="9479" y="14490"/>
                  <a:pt x="9475" y="14635"/>
                </a:cubicBezTo>
                <a:cubicBezTo>
                  <a:pt x="9472" y="14746"/>
                  <a:pt x="9493" y="14864"/>
                  <a:pt x="9624" y="14833"/>
                </a:cubicBezTo>
                <a:cubicBezTo>
                  <a:pt x="9726" y="14809"/>
                  <a:pt x="9855" y="14738"/>
                  <a:pt x="9823" y="14610"/>
                </a:cubicBezTo>
                <a:cubicBezTo>
                  <a:pt x="9815" y="14602"/>
                  <a:pt x="9806" y="14593"/>
                  <a:pt x="9798" y="14585"/>
                </a:cubicBezTo>
                <a:cubicBezTo>
                  <a:pt x="9674" y="14601"/>
                  <a:pt x="9649" y="14687"/>
                  <a:pt x="9624" y="14808"/>
                </a:cubicBezTo>
                <a:cubicBezTo>
                  <a:pt x="9624" y="14858"/>
                  <a:pt x="9624" y="14875"/>
                  <a:pt x="9624" y="14908"/>
                </a:cubicBezTo>
              </a:path>
              <a:path w="7963" h="2258">
                <a:moveTo>
                  <a:pt x="10567" y="14808"/>
                </a:moveTo>
                <a:cubicBezTo>
                  <a:pt x="10680" y="14768"/>
                  <a:pt x="10839" y="14673"/>
                  <a:pt x="10964" y="14709"/>
                </a:cubicBezTo>
                <a:cubicBezTo>
                  <a:pt x="10964" y="14717"/>
                  <a:pt x="10964" y="14726"/>
                  <a:pt x="10964" y="14734"/>
                </a:cubicBezTo>
              </a:path>
              <a:path w="7963" h="2258">
                <a:moveTo>
                  <a:pt x="10592" y="15007"/>
                </a:moveTo>
                <a:cubicBezTo>
                  <a:pt x="10694" y="14992"/>
                  <a:pt x="10789" y="14954"/>
                  <a:pt x="10889" y="14932"/>
                </a:cubicBezTo>
                <a:cubicBezTo>
                  <a:pt x="10897" y="14932"/>
                  <a:pt x="10906" y="14932"/>
                  <a:pt x="10914" y="14932"/>
                </a:cubicBezTo>
              </a:path>
              <a:path w="7963" h="2258">
                <a:moveTo>
                  <a:pt x="12055" y="14635"/>
                </a:moveTo>
                <a:cubicBezTo>
                  <a:pt x="12055" y="14584"/>
                  <a:pt x="12055" y="14572"/>
                  <a:pt x="12005" y="14560"/>
                </a:cubicBezTo>
                <a:cubicBezTo>
                  <a:pt x="11885" y="14531"/>
                  <a:pt x="11801" y="14567"/>
                  <a:pt x="11733" y="14684"/>
                </a:cubicBezTo>
                <a:cubicBezTo>
                  <a:pt x="11650" y="14826"/>
                  <a:pt x="11635" y="15044"/>
                  <a:pt x="11658" y="15205"/>
                </a:cubicBezTo>
                <a:cubicBezTo>
                  <a:pt x="11676" y="15330"/>
                  <a:pt x="11760" y="15363"/>
                  <a:pt x="11881" y="15329"/>
                </a:cubicBezTo>
                <a:cubicBezTo>
                  <a:pt x="12061" y="15278"/>
                  <a:pt x="12136" y="15171"/>
                  <a:pt x="12204" y="15007"/>
                </a:cubicBezTo>
                <a:cubicBezTo>
                  <a:pt x="12258" y="14877"/>
                  <a:pt x="12208" y="14801"/>
                  <a:pt x="12154" y="14684"/>
                </a:cubicBezTo>
                <a:cubicBezTo>
                  <a:pt x="12128" y="14628"/>
                  <a:pt x="12124" y="14603"/>
                  <a:pt x="12080" y="14560"/>
                </a:cubicBezTo>
                <a:cubicBezTo>
                  <a:pt x="12054" y="14534"/>
                  <a:pt x="12021" y="14478"/>
                  <a:pt x="12005" y="14511"/>
                </a:cubicBezTo>
                <a:cubicBezTo>
                  <a:pt x="12005" y="14544"/>
                  <a:pt x="12005" y="14560"/>
                  <a:pt x="12005" y="14585"/>
                </a:cubicBezTo>
              </a:path>
              <a:path w="7963" h="2258">
                <a:moveTo>
                  <a:pt x="12502" y="15180"/>
                </a:moveTo>
                <a:cubicBezTo>
                  <a:pt x="12439" y="15135"/>
                  <a:pt x="12378" y="15208"/>
                  <a:pt x="12378" y="15280"/>
                </a:cubicBezTo>
                <a:cubicBezTo>
                  <a:pt x="12386" y="15288"/>
                  <a:pt x="12394" y="15296"/>
                  <a:pt x="12402" y="15304"/>
                </a:cubicBezTo>
                <a:cubicBezTo>
                  <a:pt x="12436" y="15276"/>
                  <a:pt x="12506" y="15115"/>
                  <a:pt x="12427" y="15180"/>
                </a:cubicBezTo>
                <a:cubicBezTo>
                  <a:pt x="12345" y="15247"/>
                  <a:pt x="12417" y="15242"/>
                  <a:pt x="12452" y="15230"/>
                </a:cubicBezTo>
              </a:path>
              <a:path w="7963" h="2258">
                <a:moveTo>
                  <a:pt x="13022" y="14734"/>
                </a:moveTo>
                <a:cubicBezTo>
                  <a:pt x="13101" y="14694"/>
                  <a:pt x="13112" y="14572"/>
                  <a:pt x="13072" y="14486"/>
                </a:cubicBezTo>
                <a:cubicBezTo>
                  <a:pt x="13028" y="14391"/>
                  <a:pt x="12862" y="14383"/>
                  <a:pt x="12799" y="14461"/>
                </a:cubicBezTo>
                <a:cubicBezTo>
                  <a:pt x="12724" y="14554"/>
                  <a:pt x="12733" y="14685"/>
                  <a:pt x="12750" y="14784"/>
                </a:cubicBezTo>
                <a:cubicBezTo>
                  <a:pt x="12882" y="14828"/>
                  <a:pt x="12961" y="14766"/>
                  <a:pt x="13022" y="14610"/>
                </a:cubicBezTo>
                <a:cubicBezTo>
                  <a:pt x="13022" y="14593"/>
                  <a:pt x="13022" y="14577"/>
                  <a:pt x="13022" y="14560"/>
                </a:cubicBezTo>
                <a:cubicBezTo>
                  <a:pt x="13083" y="14682"/>
                  <a:pt x="13020" y="14897"/>
                  <a:pt x="12998" y="15032"/>
                </a:cubicBezTo>
                <a:cubicBezTo>
                  <a:pt x="12980" y="15123"/>
                  <a:pt x="12971" y="15130"/>
                  <a:pt x="12973" y="15180"/>
                </a:cubicBezTo>
              </a:path>
              <a:path w="7963" h="2258">
                <a:moveTo>
                  <a:pt x="13370" y="14486"/>
                </a:moveTo>
                <a:cubicBezTo>
                  <a:pt x="13370" y="14600"/>
                  <a:pt x="13370" y="14697"/>
                  <a:pt x="13345" y="14808"/>
                </a:cubicBezTo>
                <a:cubicBezTo>
                  <a:pt x="13325" y="14896"/>
                  <a:pt x="13269" y="15013"/>
                  <a:pt x="13295" y="15106"/>
                </a:cubicBezTo>
                <a:cubicBezTo>
                  <a:pt x="13326" y="15219"/>
                  <a:pt x="13439" y="15176"/>
                  <a:pt x="13519" y="15156"/>
                </a:cubicBezTo>
                <a:cubicBezTo>
                  <a:pt x="13621" y="15131"/>
                  <a:pt x="13691" y="15088"/>
                  <a:pt x="13717" y="14982"/>
                </a:cubicBezTo>
                <a:cubicBezTo>
                  <a:pt x="13717" y="14965"/>
                  <a:pt x="13717" y="14949"/>
                  <a:pt x="13717" y="14932"/>
                </a:cubicBezTo>
                <a:cubicBezTo>
                  <a:pt x="13675" y="14902"/>
                  <a:pt x="13619" y="14862"/>
                  <a:pt x="13568" y="14908"/>
                </a:cubicBezTo>
                <a:cubicBezTo>
                  <a:pt x="13517" y="14955"/>
                  <a:pt x="13481" y="15065"/>
                  <a:pt x="13494" y="15131"/>
                </a:cubicBezTo>
                <a:cubicBezTo>
                  <a:pt x="13514" y="15171"/>
                  <a:pt x="13523" y="15177"/>
                  <a:pt x="13519" y="15205"/>
                </a:cubicBezTo>
              </a:path>
              <a:path w="7963" h="2258">
                <a:moveTo>
                  <a:pt x="11534" y="15701"/>
                </a:moveTo>
                <a:cubicBezTo>
                  <a:pt x="11675" y="15716"/>
                  <a:pt x="11785" y="15753"/>
                  <a:pt x="11931" y="15776"/>
                </a:cubicBezTo>
                <a:cubicBezTo>
                  <a:pt x="12201" y="15818"/>
                  <a:pt x="12477" y="15801"/>
                  <a:pt x="12750" y="15801"/>
                </a:cubicBezTo>
                <a:cubicBezTo>
                  <a:pt x="12995" y="15801"/>
                  <a:pt x="13251" y="15842"/>
                  <a:pt x="13494" y="15825"/>
                </a:cubicBezTo>
                <a:cubicBezTo>
                  <a:pt x="13675" y="15812"/>
                  <a:pt x="13878" y="15754"/>
                  <a:pt x="14015" y="15627"/>
                </a:cubicBezTo>
                <a:cubicBezTo>
                  <a:pt x="14166" y="15487"/>
                  <a:pt x="14269" y="15304"/>
                  <a:pt x="14312" y="15106"/>
                </a:cubicBezTo>
                <a:cubicBezTo>
                  <a:pt x="14348" y="14937"/>
                  <a:pt x="14356" y="14704"/>
                  <a:pt x="14312" y="14536"/>
                </a:cubicBezTo>
                <a:cubicBezTo>
                  <a:pt x="14260" y="14341"/>
                  <a:pt x="14132" y="14082"/>
                  <a:pt x="13990" y="13940"/>
                </a:cubicBezTo>
                <a:cubicBezTo>
                  <a:pt x="13874" y="13824"/>
                  <a:pt x="13677" y="13733"/>
                  <a:pt x="13519" y="13692"/>
                </a:cubicBezTo>
                <a:cubicBezTo>
                  <a:pt x="13272" y="13627"/>
                  <a:pt x="13025" y="13640"/>
                  <a:pt x="12774" y="13667"/>
                </a:cubicBezTo>
                <a:cubicBezTo>
                  <a:pt x="12503" y="13696"/>
                  <a:pt x="12325" y="13792"/>
                  <a:pt x="12080" y="13891"/>
                </a:cubicBezTo>
                <a:cubicBezTo>
                  <a:pt x="11922" y="13955"/>
                  <a:pt x="11738" y="14041"/>
                  <a:pt x="11633" y="14188"/>
                </a:cubicBezTo>
                <a:cubicBezTo>
                  <a:pt x="11583" y="14258"/>
                  <a:pt x="11515" y="14382"/>
                  <a:pt x="11485" y="14461"/>
                </a:cubicBezTo>
                <a:cubicBezTo>
                  <a:pt x="11436" y="14591"/>
                  <a:pt x="11389" y="14690"/>
                  <a:pt x="11385" y="14833"/>
                </a:cubicBezTo>
                <a:cubicBezTo>
                  <a:pt x="11379" y="15073"/>
                  <a:pt x="11401" y="15303"/>
                  <a:pt x="11485" y="15528"/>
                </a:cubicBezTo>
                <a:cubicBezTo>
                  <a:pt x="11513" y="15602"/>
                  <a:pt x="11571" y="15690"/>
                  <a:pt x="11609" y="15751"/>
                </a:cubicBezTo>
                <a:cubicBezTo>
                  <a:pt x="11646" y="15812"/>
                  <a:pt x="11680" y="15828"/>
                  <a:pt x="11733" y="15875"/>
                </a:cubicBezTo>
                <a:cubicBezTo>
                  <a:pt x="11741" y="15883"/>
                  <a:pt x="11749" y="15892"/>
                  <a:pt x="11757" y="159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510000" y="3384720"/>
            <a:ext cx="169920" cy="250560"/>
          </a:xfrm>
          <a:custGeom>
            <a:avLst/>
            <a:gdLst/>
            <a:ahLst/>
            <a:rect l="l" t="t" r="r" b="b"/>
            <a:pathLst>
              <a:path w="473" h="696">
                <a:moveTo>
                  <a:pt x="10220" y="9426"/>
                </a:moveTo>
                <a:cubicBezTo>
                  <a:pt x="10109" y="9408"/>
                  <a:pt x="10013" y="9401"/>
                  <a:pt x="9897" y="9401"/>
                </a:cubicBezTo>
                <a:cubicBezTo>
                  <a:pt x="9823" y="9401"/>
                  <a:pt x="9814" y="9401"/>
                  <a:pt x="9773" y="9401"/>
                </a:cubicBezTo>
                <a:cubicBezTo>
                  <a:pt x="9752" y="9537"/>
                  <a:pt x="9748" y="9660"/>
                  <a:pt x="9748" y="9798"/>
                </a:cubicBezTo>
                <a:cubicBezTo>
                  <a:pt x="9852" y="9798"/>
                  <a:pt x="9918" y="9706"/>
                  <a:pt x="10021" y="9699"/>
                </a:cubicBezTo>
                <a:cubicBezTo>
                  <a:pt x="10244" y="9683"/>
                  <a:pt x="10257" y="9902"/>
                  <a:pt x="10120" y="10021"/>
                </a:cubicBezTo>
                <a:cubicBezTo>
                  <a:pt x="10019" y="10109"/>
                  <a:pt x="9939" y="10088"/>
                  <a:pt x="9847" y="100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19640" y="3251160"/>
            <a:ext cx="563400" cy="401760"/>
          </a:xfrm>
          <a:custGeom>
            <a:avLst/>
            <a:gdLst/>
            <a:ahLst/>
            <a:rect l="l" t="t" r="r" b="b"/>
            <a:pathLst>
              <a:path w="1564" h="1117">
                <a:moveTo>
                  <a:pt x="9575" y="10145"/>
                </a:moveTo>
                <a:cubicBezTo>
                  <a:pt x="9601" y="10013"/>
                  <a:pt x="9603" y="9872"/>
                  <a:pt x="9575" y="9723"/>
                </a:cubicBezTo>
                <a:cubicBezTo>
                  <a:pt x="9557" y="9628"/>
                  <a:pt x="9457" y="9413"/>
                  <a:pt x="9500" y="9302"/>
                </a:cubicBezTo>
                <a:cubicBezTo>
                  <a:pt x="9510" y="9276"/>
                  <a:pt x="9613" y="9235"/>
                  <a:pt x="9649" y="9227"/>
                </a:cubicBezTo>
                <a:cubicBezTo>
                  <a:pt x="10017" y="9145"/>
                  <a:pt x="10394" y="9114"/>
                  <a:pt x="10765" y="9054"/>
                </a:cubicBezTo>
                <a:cubicBezTo>
                  <a:pt x="10862" y="9038"/>
                  <a:pt x="10941" y="9029"/>
                  <a:pt x="11038" y="9029"/>
                </a:cubicBezTo>
                <a:cubicBezTo>
                  <a:pt x="11046" y="9029"/>
                  <a:pt x="11055" y="9029"/>
                  <a:pt x="11063"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70160" y="3367080"/>
            <a:ext cx="135000" cy="241200"/>
          </a:xfrm>
          <a:custGeom>
            <a:avLst/>
            <a:gdLst/>
            <a:ahLst/>
            <a:rect l="l" t="t" r="r" b="b"/>
            <a:pathLst>
              <a:path w="373" h="671">
                <a:moveTo>
                  <a:pt x="9103" y="9376"/>
                </a:moveTo>
                <a:cubicBezTo>
                  <a:pt x="9029" y="9319"/>
                  <a:pt x="8940" y="9391"/>
                  <a:pt x="8880" y="9451"/>
                </a:cubicBezTo>
                <a:cubicBezTo>
                  <a:pt x="8840" y="9510"/>
                  <a:pt x="8836" y="9521"/>
                  <a:pt x="8806" y="9550"/>
                </a:cubicBezTo>
                <a:cubicBezTo>
                  <a:pt x="8928" y="9650"/>
                  <a:pt x="9125" y="9674"/>
                  <a:pt x="9178" y="9823"/>
                </a:cubicBezTo>
                <a:cubicBezTo>
                  <a:pt x="9222" y="9946"/>
                  <a:pt x="9133" y="9978"/>
                  <a:pt x="9054" y="10021"/>
                </a:cubicBezTo>
                <a:cubicBezTo>
                  <a:pt x="8952" y="9932"/>
                  <a:pt x="8925" y="9817"/>
                  <a:pt x="8954" y="9674"/>
                </a:cubicBezTo>
                <a:cubicBezTo>
                  <a:pt x="8971" y="9590"/>
                  <a:pt x="9007" y="9496"/>
                  <a:pt x="9054" y="94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19640" y="3106800"/>
            <a:ext cx="144360" cy="189000"/>
          </a:xfrm>
          <a:custGeom>
            <a:avLst/>
            <a:gdLst/>
            <a:ahLst/>
            <a:rect l="l" t="t" r="r" b="b"/>
            <a:pathLst>
              <a:path w="398" h="522">
                <a:moveTo>
                  <a:pt x="9773" y="8706"/>
                </a:moveTo>
                <a:cubicBezTo>
                  <a:pt x="9719" y="8653"/>
                  <a:pt x="9735" y="8666"/>
                  <a:pt x="9649" y="8657"/>
                </a:cubicBezTo>
                <a:cubicBezTo>
                  <a:pt x="9531" y="8818"/>
                  <a:pt x="9503" y="8929"/>
                  <a:pt x="9525" y="9128"/>
                </a:cubicBezTo>
                <a:cubicBezTo>
                  <a:pt x="9712" y="9138"/>
                  <a:pt x="9878" y="9091"/>
                  <a:pt x="9897" y="8855"/>
                </a:cubicBezTo>
                <a:cubicBezTo>
                  <a:pt x="9913" y="8659"/>
                  <a:pt x="9816" y="8626"/>
                  <a:pt x="9674" y="8657"/>
                </a:cubicBezTo>
                <a:cubicBezTo>
                  <a:pt x="9666" y="8657"/>
                  <a:pt x="9657" y="8657"/>
                  <a:pt x="9649" y="86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52920" y="3197160"/>
            <a:ext cx="17280" cy="34920"/>
          </a:xfrm>
          <a:custGeom>
            <a:avLst/>
            <a:gdLst/>
            <a:ahLst/>
            <a:rect l="l" t="t" r="r" b="b"/>
            <a:pathLst>
              <a:path w="51" h="100">
                <a:moveTo>
                  <a:pt x="10170" y="8880"/>
                </a:moveTo>
                <a:cubicBezTo>
                  <a:pt x="10163" y="8909"/>
                  <a:pt x="10153" y="8925"/>
                  <a:pt x="10145" y="8954"/>
                </a:cubicBezTo>
                <a:cubicBezTo>
                  <a:pt x="10185" y="8994"/>
                  <a:pt x="10230" y="8915"/>
                  <a:pt x="10195" y="8880"/>
                </a:cubicBezTo>
                <a:cubicBezTo>
                  <a:pt x="10167" y="8880"/>
                  <a:pt x="10156" y="8882"/>
                  <a:pt x="10145" y="8905"/>
                </a:cubicBezTo>
              </a:path>
            </a:pathLst>
          </a:custGeom>
          <a:noFill/>
          <a:ln cap="rnd" w="1908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 name=""/>
          <p:cNvSpPr/>
          <p:nvPr/>
        </p:nvSpPr>
        <p:spPr>
          <a:xfrm>
            <a:off x="3732120" y="3544920"/>
            <a:ext cx="27000" cy="54000"/>
          </a:xfrm>
          <a:custGeom>
            <a:avLst/>
            <a:gdLst/>
            <a:ahLst/>
            <a:rect l="l" t="t" r="r" b="b"/>
            <a:pathLst>
              <a:path w="76" h="150">
                <a:moveTo>
                  <a:pt x="10393" y="9847"/>
                </a:moveTo>
                <a:cubicBezTo>
                  <a:pt x="10388" y="9865"/>
                  <a:pt x="10350" y="10054"/>
                  <a:pt x="10393" y="9996"/>
                </a:cubicBezTo>
                <a:cubicBezTo>
                  <a:pt x="10429" y="9947"/>
                  <a:pt x="10434" y="9888"/>
                  <a:pt x="10418" y="9872"/>
                </a:cubicBezTo>
                <a:cubicBezTo>
                  <a:pt x="10390" y="9909"/>
                  <a:pt x="10376" y="9908"/>
                  <a:pt x="10418" y="9922"/>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3813120" y="3375000"/>
            <a:ext cx="135000" cy="206280"/>
          </a:xfrm>
          <a:custGeom>
            <a:avLst/>
            <a:gdLst/>
            <a:ahLst/>
            <a:rect l="l" t="t" r="r" b="b"/>
            <a:pathLst>
              <a:path w="373" h="572">
                <a:moveTo>
                  <a:pt x="10765" y="9401"/>
                </a:moveTo>
                <a:cubicBezTo>
                  <a:pt x="10823" y="9372"/>
                  <a:pt x="10671" y="9442"/>
                  <a:pt x="10641" y="9500"/>
                </a:cubicBezTo>
                <a:cubicBezTo>
                  <a:pt x="10575" y="9626"/>
                  <a:pt x="10551" y="9863"/>
                  <a:pt x="10691" y="9947"/>
                </a:cubicBezTo>
                <a:cubicBezTo>
                  <a:pt x="10814" y="10021"/>
                  <a:pt x="10942" y="9843"/>
                  <a:pt x="10964" y="9748"/>
                </a:cubicBezTo>
                <a:cubicBezTo>
                  <a:pt x="10991" y="9632"/>
                  <a:pt x="10960" y="9464"/>
                  <a:pt x="10864" y="9401"/>
                </a:cubicBezTo>
                <a:cubicBezTo>
                  <a:pt x="10812" y="9367"/>
                  <a:pt x="10790" y="9364"/>
                  <a:pt x="10765" y="94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41840" y="3062160"/>
            <a:ext cx="133200" cy="179640"/>
          </a:xfrm>
          <a:custGeom>
            <a:avLst/>
            <a:gdLst/>
            <a:ahLst/>
            <a:rect l="l" t="t" r="r" b="b"/>
            <a:pathLst>
              <a:path w="373" h="497">
                <a:moveTo>
                  <a:pt x="10468" y="8508"/>
                </a:moveTo>
                <a:cubicBezTo>
                  <a:pt x="10379" y="8552"/>
                  <a:pt x="10395" y="8687"/>
                  <a:pt x="10393" y="8781"/>
                </a:cubicBezTo>
                <a:cubicBezTo>
                  <a:pt x="10391" y="8841"/>
                  <a:pt x="10374" y="8956"/>
                  <a:pt x="10418" y="8979"/>
                </a:cubicBezTo>
                <a:cubicBezTo>
                  <a:pt x="10513" y="9030"/>
                  <a:pt x="10557" y="8989"/>
                  <a:pt x="10641" y="8954"/>
                </a:cubicBezTo>
                <a:cubicBezTo>
                  <a:pt x="10703" y="8928"/>
                  <a:pt x="10747" y="8908"/>
                  <a:pt x="10765" y="8830"/>
                </a:cubicBezTo>
                <a:cubicBezTo>
                  <a:pt x="10765" y="8814"/>
                  <a:pt x="10765" y="8797"/>
                  <a:pt x="10765" y="8781"/>
                </a:cubicBezTo>
                <a:cubicBezTo>
                  <a:pt x="10735" y="8774"/>
                  <a:pt x="10665" y="8743"/>
                  <a:pt x="10641" y="8781"/>
                </a:cubicBezTo>
                <a:cubicBezTo>
                  <a:pt x="10594" y="8855"/>
                  <a:pt x="10627" y="8884"/>
                  <a:pt x="10641" y="89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643200" y="3660840"/>
            <a:ext cx="81000" cy="90360"/>
          </a:xfrm>
          <a:custGeom>
            <a:avLst/>
            <a:gdLst/>
            <a:ahLst/>
            <a:rect l="l" t="t" r="r" b="b"/>
            <a:pathLst>
              <a:path w="225" h="249">
                <a:moveTo>
                  <a:pt x="10220" y="10195"/>
                </a:moveTo>
                <a:cubicBezTo>
                  <a:pt x="10220" y="10114"/>
                  <a:pt x="10176" y="10294"/>
                  <a:pt x="10145" y="10368"/>
                </a:cubicBezTo>
                <a:cubicBezTo>
                  <a:pt x="10125" y="10409"/>
                  <a:pt x="10116" y="10436"/>
                  <a:pt x="10120" y="10393"/>
                </a:cubicBezTo>
                <a:cubicBezTo>
                  <a:pt x="10183" y="10310"/>
                  <a:pt x="10230" y="10368"/>
                  <a:pt x="10319" y="10393"/>
                </a:cubicBezTo>
                <a:cubicBezTo>
                  <a:pt x="10327" y="10393"/>
                  <a:pt x="10336" y="10393"/>
                  <a:pt x="10344" y="10393"/>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3724200" y="3660840"/>
            <a:ext cx="17640" cy="135000"/>
          </a:xfrm>
          <a:custGeom>
            <a:avLst/>
            <a:gdLst/>
            <a:ahLst/>
            <a:rect l="l" t="t" r="r" b="b"/>
            <a:pathLst>
              <a:path w="50" h="373">
                <a:moveTo>
                  <a:pt x="10344" y="10170"/>
                </a:moveTo>
                <a:cubicBezTo>
                  <a:pt x="10352" y="10279"/>
                  <a:pt x="10368" y="10381"/>
                  <a:pt x="10368" y="10492"/>
                </a:cubicBezTo>
                <a:cubicBezTo>
                  <a:pt x="10368" y="10534"/>
                  <a:pt x="10360" y="10550"/>
                  <a:pt x="10393" y="105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48040" y="3625920"/>
            <a:ext cx="63720" cy="133200"/>
          </a:xfrm>
          <a:custGeom>
            <a:avLst/>
            <a:gdLst/>
            <a:ahLst/>
            <a:rect l="l" t="t" r="r" b="b"/>
            <a:pathLst>
              <a:path w="174" h="373">
                <a:moveTo>
                  <a:pt x="10815" y="10071"/>
                </a:moveTo>
                <a:cubicBezTo>
                  <a:pt x="10754" y="10083"/>
                  <a:pt x="10656" y="10137"/>
                  <a:pt x="10691" y="10220"/>
                </a:cubicBezTo>
                <a:cubicBezTo>
                  <a:pt x="10715" y="10278"/>
                  <a:pt x="10917" y="10360"/>
                  <a:pt x="10840" y="10418"/>
                </a:cubicBezTo>
                <a:cubicBezTo>
                  <a:pt x="10815" y="10426"/>
                  <a:pt x="10790" y="10435"/>
                  <a:pt x="10765" y="10443"/>
                </a:cubicBezTo>
                <a:cubicBezTo>
                  <a:pt x="10704" y="10402"/>
                  <a:pt x="10758" y="10270"/>
                  <a:pt x="10765" y="10195"/>
                </a:cubicBezTo>
                <a:cubicBezTo>
                  <a:pt x="10774" y="10099"/>
                  <a:pt x="10765" y="10107"/>
                  <a:pt x="10716" y="101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27280" y="3786120"/>
            <a:ext cx="420840" cy="54000"/>
          </a:xfrm>
          <a:custGeom>
            <a:avLst/>
            <a:gdLst/>
            <a:ahLst/>
            <a:rect l="l" t="t" r="r" b="b"/>
            <a:pathLst>
              <a:path w="1167" h="150">
                <a:moveTo>
                  <a:pt x="9798" y="10666"/>
                </a:moveTo>
                <a:cubicBezTo>
                  <a:pt x="10060" y="10635"/>
                  <a:pt x="10327" y="10565"/>
                  <a:pt x="10592" y="10542"/>
                </a:cubicBezTo>
                <a:cubicBezTo>
                  <a:pt x="10708" y="10532"/>
                  <a:pt x="10856" y="10522"/>
                  <a:pt x="10964" y="10542"/>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3857760" y="3875040"/>
            <a:ext cx="115920" cy="142920"/>
          </a:xfrm>
          <a:custGeom>
            <a:avLst/>
            <a:gdLst/>
            <a:ahLst/>
            <a:rect l="l" t="t" r="r" b="b"/>
            <a:pathLst>
              <a:path w="323" h="398">
                <a:moveTo>
                  <a:pt x="10740" y="10815"/>
                </a:moveTo>
                <a:cubicBezTo>
                  <a:pt x="10817" y="10749"/>
                  <a:pt x="11001" y="10738"/>
                  <a:pt x="10988" y="10914"/>
                </a:cubicBezTo>
                <a:cubicBezTo>
                  <a:pt x="10976" y="11077"/>
                  <a:pt x="10824" y="11190"/>
                  <a:pt x="10716" y="11112"/>
                </a:cubicBezTo>
                <a:cubicBezTo>
                  <a:pt x="10748" y="11001"/>
                  <a:pt x="10852" y="11008"/>
                  <a:pt x="10964" y="11038"/>
                </a:cubicBezTo>
                <a:cubicBezTo>
                  <a:pt x="11007" y="11060"/>
                  <a:pt x="11019" y="11064"/>
                  <a:pt x="11038"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10040" y="3357720"/>
            <a:ext cx="98280" cy="142560"/>
          </a:xfrm>
          <a:custGeom>
            <a:avLst/>
            <a:gdLst/>
            <a:ahLst/>
            <a:rect l="l" t="t" r="r" b="b"/>
            <a:pathLst>
              <a:path w="274" h="397">
                <a:moveTo>
                  <a:pt x="11286" y="9351"/>
                </a:moveTo>
                <a:cubicBezTo>
                  <a:pt x="11263" y="9284"/>
                  <a:pt x="11185" y="9342"/>
                  <a:pt x="11162" y="9401"/>
                </a:cubicBezTo>
                <a:cubicBezTo>
                  <a:pt x="11111" y="9534"/>
                  <a:pt x="11149" y="9617"/>
                  <a:pt x="11212" y="9723"/>
                </a:cubicBezTo>
                <a:cubicBezTo>
                  <a:pt x="11383" y="9644"/>
                  <a:pt x="11441" y="9554"/>
                  <a:pt x="11385" y="9351"/>
                </a:cubicBezTo>
                <a:cubicBezTo>
                  <a:pt x="11351" y="9227"/>
                  <a:pt x="11288" y="9420"/>
                  <a:pt x="11286" y="94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71960" y="3544920"/>
            <a:ext cx="19080" cy="214200"/>
          </a:xfrm>
          <a:custGeom>
            <a:avLst/>
            <a:gdLst/>
            <a:ahLst/>
            <a:rect l="l" t="t" r="r" b="b"/>
            <a:pathLst>
              <a:path w="51" h="597">
                <a:moveTo>
                  <a:pt x="11311" y="9847"/>
                </a:moveTo>
                <a:cubicBezTo>
                  <a:pt x="11311" y="9990"/>
                  <a:pt x="11333" y="10126"/>
                  <a:pt x="11336" y="10269"/>
                </a:cubicBezTo>
                <a:cubicBezTo>
                  <a:pt x="11336" y="10273"/>
                  <a:pt x="11325" y="10539"/>
                  <a:pt x="11361" y="103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71960" y="3821040"/>
            <a:ext cx="108000" cy="144360"/>
          </a:xfrm>
          <a:custGeom>
            <a:avLst/>
            <a:gdLst/>
            <a:ahLst/>
            <a:rect l="l" t="t" r="r" b="b"/>
            <a:pathLst>
              <a:path w="299" h="398">
                <a:moveTo>
                  <a:pt x="11435" y="10616"/>
                </a:moveTo>
                <a:cubicBezTo>
                  <a:pt x="11313" y="10662"/>
                  <a:pt x="11315" y="10757"/>
                  <a:pt x="11311" y="10889"/>
                </a:cubicBezTo>
                <a:cubicBezTo>
                  <a:pt x="11311" y="10974"/>
                  <a:pt x="11298" y="11000"/>
                  <a:pt x="11361" y="11013"/>
                </a:cubicBezTo>
                <a:cubicBezTo>
                  <a:pt x="11500" y="10985"/>
                  <a:pt x="11579" y="10938"/>
                  <a:pt x="11609" y="10790"/>
                </a:cubicBezTo>
                <a:cubicBezTo>
                  <a:pt x="11625" y="10709"/>
                  <a:pt x="11592" y="10645"/>
                  <a:pt x="11509" y="10641"/>
                </a:cubicBezTo>
                <a:cubicBezTo>
                  <a:pt x="11484" y="10641"/>
                  <a:pt x="11460" y="10641"/>
                  <a:pt x="11435"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46680" y="3133800"/>
            <a:ext cx="617400" cy="117360"/>
          </a:xfrm>
          <a:custGeom>
            <a:avLst/>
            <a:gdLst/>
            <a:ahLst/>
            <a:rect l="l" t="t" r="r" b="b"/>
            <a:pathLst>
              <a:path w="1712" h="324">
                <a:moveTo>
                  <a:pt x="10964" y="9029"/>
                </a:moveTo>
                <a:cubicBezTo>
                  <a:pt x="11013" y="8996"/>
                  <a:pt x="11075" y="8991"/>
                  <a:pt x="11162" y="8979"/>
                </a:cubicBezTo>
                <a:cubicBezTo>
                  <a:pt x="11421" y="8944"/>
                  <a:pt x="11673" y="8890"/>
                  <a:pt x="11931" y="8855"/>
                </a:cubicBezTo>
                <a:cubicBezTo>
                  <a:pt x="12153" y="8825"/>
                  <a:pt x="12413" y="8803"/>
                  <a:pt x="12626" y="8731"/>
                </a:cubicBezTo>
                <a:cubicBezTo>
                  <a:pt x="12662" y="8719"/>
                  <a:pt x="12640" y="8722"/>
                  <a:pt x="12675" y="870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29040" y="3027240"/>
            <a:ext cx="169920" cy="187560"/>
          </a:xfrm>
          <a:custGeom>
            <a:avLst/>
            <a:gdLst/>
            <a:ahLst/>
            <a:rect l="l" t="t" r="r" b="b"/>
            <a:pathLst>
              <a:path w="472" h="522">
                <a:moveTo>
                  <a:pt x="10914" y="8483"/>
                </a:moveTo>
                <a:cubicBezTo>
                  <a:pt x="10957" y="8447"/>
                  <a:pt x="11076" y="8347"/>
                  <a:pt x="11137" y="8434"/>
                </a:cubicBezTo>
                <a:cubicBezTo>
                  <a:pt x="11238" y="8579"/>
                  <a:pt x="11102" y="8760"/>
                  <a:pt x="11038" y="8880"/>
                </a:cubicBezTo>
                <a:cubicBezTo>
                  <a:pt x="11018" y="8921"/>
                  <a:pt x="11009" y="8948"/>
                  <a:pt x="11013" y="8905"/>
                </a:cubicBezTo>
                <a:cubicBezTo>
                  <a:pt x="11078" y="8802"/>
                  <a:pt x="11101" y="8794"/>
                  <a:pt x="11212" y="8806"/>
                </a:cubicBezTo>
                <a:cubicBezTo>
                  <a:pt x="11271" y="8812"/>
                  <a:pt x="11341" y="8815"/>
                  <a:pt x="11385"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46680" y="4027320"/>
            <a:ext cx="9360" cy="133560"/>
          </a:xfrm>
          <a:custGeom>
            <a:avLst/>
            <a:gdLst/>
            <a:ahLst/>
            <a:rect l="l" t="t" r="r" b="b"/>
            <a:pathLst>
              <a:path w="25" h="373">
                <a:moveTo>
                  <a:pt x="10964" y="11212"/>
                </a:moveTo>
                <a:cubicBezTo>
                  <a:pt x="10964" y="11128"/>
                  <a:pt x="10986" y="11326"/>
                  <a:pt x="10988" y="11410"/>
                </a:cubicBezTo>
                <a:cubicBezTo>
                  <a:pt x="10989" y="11468"/>
                  <a:pt x="10988" y="11592"/>
                  <a:pt x="10988" y="115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1960" y="4017960"/>
            <a:ext cx="108000" cy="108000"/>
          </a:xfrm>
          <a:custGeom>
            <a:avLst/>
            <a:gdLst/>
            <a:ahLst/>
            <a:rect l="l" t="t" r="r" b="b"/>
            <a:pathLst>
              <a:path w="299" h="299">
                <a:moveTo>
                  <a:pt x="11311" y="11162"/>
                </a:moveTo>
                <a:cubicBezTo>
                  <a:pt x="11311" y="11238"/>
                  <a:pt x="11333" y="11308"/>
                  <a:pt x="11336" y="11385"/>
                </a:cubicBezTo>
                <a:cubicBezTo>
                  <a:pt x="11336" y="11430"/>
                  <a:pt x="11333" y="11443"/>
                  <a:pt x="11361" y="11460"/>
                </a:cubicBezTo>
                <a:cubicBezTo>
                  <a:pt x="11514" y="11436"/>
                  <a:pt x="11549" y="11403"/>
                  <a:pt x="11609" y="11261"/>
                </a:cubicBezTo>
                <a:cubicBezTo>
                  <a:pt x="11513" y="11192"/>
                  <a:pt x="11488" y="11311"/>
                  <a:pt x="11460" y="11385"/>
                </a:cubicBezTo>
                <a:cubicBezTo>
                  <a:pt x="11452" y="11410"/>
                  <a:pt x="11443" y="11435"/>
                  <a:pt x="11435" y="114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86080" y="2813040"/>
            <a:ext cx="1285920" cy="509760"/>
          </a:xfrm>
          <a:custGeom>
            <a:avLst/>
            <a:gdLst/>
            <a:ahLst/>
            <a:rect l="l" t="t" r="r" b="b"/>
            <a:pathLst>
              <a:path w="3573" h="1415">
                <a:moveTo>
                  <a:pt x="11460" y="7813"/>
                </a:moveTo>
                <a:cubicBezTo>
                  <a:pt x="11348" y="7813"/>
                  <a:pt x="11244" y="7829"/>
                  <a:pt x="11137" y="7838"/>
                </a:cubicBezTo>
                <a:cubicBezTo>
                  <a:pt x="10958" y="7853"/>
                  <a:pt x="10812" y="7897"/>
                  <a:pt x="10641" y="7938"/>
                </a:cubicBezTo>
                <a:cubicBezTo>
                  <a:pt x="10453" y="7983"/>
                  <a:pt x="10278" y="8043"/>
                  <a:pt x="10096" y="8111"/>
                </a:cubicBezTo>
                <a:cubicBezTo>
                  <a:pt x="9894" y="8187"/>
                  <a:pt x="9714" y="8266"/>
                  <a:pt x="9550" y="8409"/>
                </a:cubicBezTo>
                <a:cubicBezTo>
                  <a:pt x="9432" y="8511"/>
                  <a:pt x="9330" y="8615"/>
                  <a:pt x="9227" y="8731"/>
                </a:cubicBezTo>
                <a:cubicBezTo>
                  <a:pt x="9166" y="8799"/>
                  <a:pt x="9119" y="8818"/>
                  <a:pt x="9128" y="8930"/>
                </a:cubicBezTo>
                <a:cubicBezTo>
                  <a:pt x="9135" y="9020"/>
                  <a:pt x="9156" y="9092"/>
                  <a:pt x="9227" y="9153"/>
                </a:cubicBezTo>
                <a:cubicBezTo>
                  <a:pt x="9323" y="9235"/>
                  <a:pt x="9422" y="9242"/>
                  <a:pt x="9550" y="9227"/>
                </a:cubicBezTo>
                <a:cubicBezTo>
                  <a:pt x="9700" y="9209"/>
                  <a:pt x="9847" y="9170"/>
                  <a:pt x="9996" y="9153"/>
                </a:cubicBezTo>
                <a:cubicBezTo>
                  <a:pt x="10101" y="9141"/>
                  <a:pt x="10215" y="9130"/>
                  <a:pt x="10319" y="9128"/>
                </a:cubicBezTo>
                <a:cubicBezTo>
                  <a:pt x="10435" y="9125"/>
                  <a:pt x="10552" y="9122"/>
                  <a:pt x="10666" y="9103"/>
                </a:cubicBezTo>
                <a:cubicBezTo>
                  <a:pt x="10792" y="9083"/>
                  <a:pt x="10913" y="9071"/>
                  <a:pt x="11038" y="9054"/>
                </a:cubicBezTo>
                <a:cubicBezTo>
                  <a:pt x="11135" y="9041"/>
                  <a:pt x="11239" y="9046"/>
                  <a:pt x="11336" y="9029"/>
                </a:cubicBezTo>
                <a:cubicBezTo>
                  <a:pt x="11452" y="9009"/>
                  <a:pt x="11569" y="9023"/>
                  <a:pt x="11683" y="9004"/>
                </a:cubicBezTo>
                <a:cubicBezTo>
                  <a:pt x="11800" y="8984"/>
                  <a:pt x="11913" y="8962"/>
                  <a:pt x="12030" y="8930"/>
                </a:cubicBezTo>
                <a:cubicBezTo>
                  <a:pt x="12141" y="8900"/>
                  <a:pt x="12243" y="8892"/>
                  <a:pt x="12353" y="8855"/>
                </a:cubicBezTo>
                <a:cubicBezTo>
                  <a:pt x="12440" y="8826"/>
                  <a:pt x="12499" y="8827"/>
                  <a:pt x="12576" y="8781"/>
                </a:cubicBezTo>
                <a:cubicBezTo>
                  <a:pt x="12667" y="8727"/>
                  <a:pt x="12688" y="8669"/>
                  <a:pt x="12700" y="8558"/>
                </a:cubicBezTo>
                <a:cubicBezTo>
                  <a:pt x="12708" y="8486"/>
                  <a:pt x="12660" y="8326"/>
                  <a:pt x="12626" y="8260"/>
                </a:cubicBezTo>
                <a:cubicBezTo>
                  <a:pt x="12578" y="8167"/>
                  <a:pt x="12512" y="8027"/>
                  <a:pt x="12427" y="7962"/>
                </a:cubicBezTo>
                <a:cubicBezTo>
                  <a:pt x="12364" y="7914"/>
                  <a:pt x="12105" y="7905"/>
                  <a:pt x="12030" y="7913"/>
                </a:cubicBezTo>
                <a:cubicBezTo>
                  <a:pt x="11895" y="7927"/>
                  <a:pt x="11770" y="7938"/>
                  <a:pt x="11633" y="7938"/>
                </a:cubicBezTo>
                <a:cubicBezTo>
                  <a:pt x="11480" y="7938"/>
                  <a:pt x="11333" y="7951"/>
                  <a:pt x="11187" y="7962"/>
                </a:cubicBezTo>
                <a:cubicBezTo>
                  <a:pt x="11094" y="7969"/>
                  <a:pt x="11001" y="7978"/>
                  <a:pt x="10914" y="7987"/>
                </a:cubicBezTo>
                <a:cubicBezTo>
                  <a:pt x="10889" y="7987"/>
                  <a:pt x="10881" y="7987"/>
                  <a:pt x="10864" y="79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15" name="PlaceHolder 2"/>
          <p:cNvSpPr>
            <a:spLocks noGrp="1"/>
          </p:cNvSpPr>
          <p:nvPr>
            <p:ph type="subTitle"/>
          </p:nvPr>
        </p:nvSpPr>
        <p:spPr>
          <a:xfrm>
            <a:off x="228240" y="1676520"/>
            <a:ext cx="8534520" cy="4038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each of the following </a:t>
            </a:r>
            <a:r>
              <a:rPr b="1" lang="en-US" sz="3200" spc="-1" strike="noStrike">
                <a:solidFill>
                  <a:srgbClr val="000000"/>
                </a:solidFill>
                <a:latin typeface="Times New Roman"/>
              </a:rPr>
              <a:t>in simplest for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10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10</a:t>
            </a:r>
            <a:endParaRPr b="0" lang="en-US" sz="3200" spc="-1" strike="noStrike">
              <a:solidFill>
                <a:srgbClr val="000000"/>
              </a:solidFill>
              <a:latin typeface="Times New Roman"/>
            </a:endParaRPr>
          </a:p>
        </p:txBody>
      </p:sp>
      <p:sp>
        <p:nvSpPr>
          <p:cNvPr id="116" name=""/>
          <p:cNvSpPr/>
          <p:nvPr/>
        </p:nvSpPr>
        <p:spPr>
          <a:xfrm>
            <a:off x="3178080" y="3438360"/>
            <a:ext cx="438120" cy="579600"/>
          </a:xfrm>
          <a:custGeom>
            <a:avLst/>
            <a:gdLst/>
            <a:ahLst/>
            <a:rect l="l" t="t" r="r" b="b"/>
            <a:pathLst>
              <a:path w="1217" h="1613">
                <a:moveTo>
                  <a:pt x="8830" y="9847"/>
                </a:moveTo>
                <a:cubicBezTo>
                  <a:pt x="8882" y="9837"/>
                  <a:pt x="8927" y="9808"/>
                  <a:pt x="8979" y="9798"/>
                </a:cubicBezTo>
              </a:path>
              <a:path w="1217" h="1613">
                <a:moveTo>
                  <a:pt x="8830" y="11088"/>
                </a:moveTo>
                <a:cubicBezTo>
                  <a:pt x="8882" y="11088"/>
                  <a:pt x="8911" y="11087"/>
                  <a:pt x="8954" y="11112"/>
                </a:cubicBezTo>
              </a:path>
              <a:path w="1217" h="1613">
                <a:moveTo>
                  <a:pt x="9252" y="10964"/>
                </a:moveTo>
                <a:cubicBezTo>
                  <a:pt x="9307" y="10931"/>
                  <a:pt x="9390" y="10930"/>
                  <a:pt x="9351" y="11038"/>
                </a:cubicBezTo>
                <a:cubicBezTo>
                  <a:pt x="9302" y="11112"/>
                  <a:pt x="9285" y="11137"/>
                  <a:pt x="9227" y="11162"/>
                </a:cubicBezTo>
                <a:cubicBezTo>
                  <a:pt x="9295" y="11162"/>
                  <a:pt x="9345" y="11143"/>
                  <a:pt x="9401" y="11137"/>
                </a:cubicBezTo>
                <a:cubicBezTo>
                  <a:pt x="9426" y="11137"/>
                  <a:pt x="9434" y="11137"/>
                  <a:pt x="9451" y="11137"/>
                </a:cubicBezTo>
              </a:path>
              <a:path w="1217" h="1613">
                <a:moveTo>
                  <a:pt x="9426" y="9575"/>
                </a:moveTo>
                <a:cubicBezTo>
                  <a:pt x="9448" y="9553"/>
                  <a:pt x="9453" y="9544"/>
                  <a:pt x="9475" y="9550"/>
                </a:cubicBezTo>
                <a:cubicBezTo>
                  <a:pt x="9475" y="9681"/>
                  <a:pt x="9467" y="9727"/>
                  <a:pt x="9376" y="9823"/>
                </a:cubicBezTo>
                <a:cubicBezTo>
                  <a:pt x="9308" y="9895"/>
                  <a:pt x="9507" y="9804"/>
                  <a:pt x="9525" y="9798"/>
                </a:cubicBezTo>
              </a:path>
              <a:path w="1217" h="1613">
                <a:moveTo>
                  <a:pt x="9823" y="10170"/>
                </a:moveTo>
                <a:cubicBezTo>
                  <a:pt x="9876" y="10130"/>
                  <a:pt x="9965" y="10143"/>
                  <a:pt x="10046" y="101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4760" y="3438360"/>
            <a:ext cx="241200" cy="490680"/>
          </a:xfrm>
          <a:custGeom>
            <a:avLst/>
            <a:gdLst/>
            <a:ahLst/>
            <a:rect l="l" t="t" r="r" b="b"/>
            <a:pathLst>
              <a:path w="671" h="1365">
                <a:moveTo>
                  <a:pt x="10914" y="9723"/>
                </a:moveTo>
                <a:cubicBezTo>
                  <a:pt x="10922" y="9715"/>
                  <a:pt x="10931" y="9707"/>
                  <a:pt x="10939" y="9699"/>
                </a:cubicBezTo>
                <a:cubicBezTo>
                  <a:pt x="10929" y="9759"/>
                  <a:pt x="10914" y="9810"/>
                  <a:pt x="10914" y="9872"/>
                </a:cubicBezTo>
                <a:cubicBezTo>
                  <a:pt x="11016" y="9882"/>
                  <a:pt x="11107" y="9897"/>
                  <a:pt x="11212" y="9897"/>
                </a:cubicBezTo>
              </a:path>
              <a:path w="671" h="1365">
                <a:moveTo>
                  <a:pt x="11187" y="9550"/>
                </a:moveTo>
                <a:cubicBezTo>
                  <a:pt x="11187" y="9709"/>
                  <a:pt x="11166" y="9862"/>
                  <a:pt x="11162" y="10021"/>
                </a:cubicBezTo>
                <a:cubicBezTo>
                  <a:pt x="11161" y="10062"/>
                  <a:pt x="11162" y="10104"/>
                  <a:pt x="11162" y="10145"/>
                </a:cubicBezTo>
              </a:path>
              <a:path w="671" h="1365">
                <a:moveTo>
                  <a:pt x="10790" y="10319"/>
                </a:moveTo>
                <a:cubicBezTo>
                  <a:pt x="10973" y="10307"/>
                  <a:pt x="11154" y="10285"/>
                  <a:pt x="11336" y="10269"/>
                </a:cubicBezTo>
                <a:cubicBezTo>
                  <a:pt x="11396" y="10264"/>
                  <a:pt x="11411" y="10282"/>
                  <a:pt x="11460" y="10294"/>
                </a:cubicBezTo>
              </a:path>
              <a:path w="671" h="1365">
                <a:moveTo>
                  <a:pt x="11162" y="10468"/>
                </a:moveTo>
                <a:cubicBezTo>
                  <a:pt x="11109" y="10478"/>
                  <a:pt x="11069" y="10492"/>
                  <a:pt x="11013" y="10492"/>
                </a:cubicBezTo>
                <a:cubicBezTo>
                  <a:pt x="11010" y="10528"/>
                  <a:pt x="10965" y="10667"/>
                  <a:pt x="11013" y="10691"/>
                </a:cubicBezTo>
                <a:cubicBezTo>
                  <a:pt x="11096" y="10733"/>
                  <a:pt x="11158" y="10638"/>
                  <a:pt x="11212" y="10740"/>
                </a:cubicBezTo>
                <a:cubicBezTo>
                  <a:pt x="11289" y="10886"/>
                  <a:pt x="11120" y="10901"/>
                  <a:pt x="11013" y="10914"/>
                </a:cubicBezTo>
                <a:cubicBezTo>
                  <a:pt x="10898" y="10928"/>
                  <a:pt x="10971" y="10908"/>
                  <a:pt x="10914" y="108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30800" y="3625920"/>
            <a:ext cx="206280" cy="106200"/>
          </a:xfrm>
          <a:custGeom>
            <a:avLst/>
            <a:gdLst/>
            <a:ahLst/>
            <a:rect l="l" t="t" r="r" b="b"/>
            <a:pathLst>
              <a:path w="572" h="298">
                <a:moveTo>
                  <a:pt x="12055" y="10294"/>
                </a:moveTo>
                <a:cubicBezTo>
                  <a:pt x="12055" y="10335"/>
                  <a:pt x="12055" y="10343"/>
                  <a:pt x="12055" y="10368"/>
                </a:cubicBezTo>
                <a:cubicBezTo>
                  <a:pt x="12159" y="10334"/>
                  <a:pt x="12283" y="10285"/>
                  <a:pt x="12378" y="10220"/>
                </a:cubicBezTo>
                <a:cubicBezTo>
                  <a:pt x="12561" y="10095"/>
                  <a:pt x="12514" y="10017"/>
                  <a:pt x="12601" y="10220"/>
                </a:cubicBezTo>
              </a:path>
              <a:path w="572" h="298">
                <a:moveTo>
                  <a:pt x="12055" y="10220"/>
                </a:moveTo>
                <a:cubicBezTo>
                  <a:pt x="12055" y="10192"/>
                  <a:pt x="12053" y="10181"/>
                  <a:pt x="12030" y="10170"/>
                </a:cubicBezTo>
                <a:cubicBezTo>
                  <a:pt x="12078" y="10186"/>
                  <a:pt x="12091" y="10256"/>
                  <a:pt x="12105" y="10319"/>
                </a:cubicBezTo>
                <a:cubicBezTo>
                  <a:pt x="12105" y="10327"/>
                  <a:pt x="12105" y="10336"/>
                  <a:pt x="12105"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14800" y="3456000"/>
            <a:ext cx="9360" cy="142920"/>
          </a:xfrm>
          <a:custGeom>
            <a:avLst/>
            <a:gdLst/>
            <a:ahLst/>
            <a:rect l="l" t="t" r="r" b="b"/>
            <a:pathLst>
              <a:path w="25" h="398">
                <a:moveTo>
                  <a:pt x="8930" y="9599"/>
                </a:moveTo>
                <a:lnTo>
                  <a:pt x="8930" y="9599"/>
                </a:lnTo>
                <a:lnTo>
                  <a:pt x="8930" y="9599"/>
                </a:lnTo>
              </a:path>
              <a:path w="25" h="398">
                <a:moveTo>
                  <a:pt x="8954" y="9996"/>
                </a:moveTo>
                <a:lnTo>
                  <a:pt x="8954" y="999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03680" y="2340000"/>
            <a:ext cx="519120" cy="571320"/>
          </a:xfrm>
          <a:custGeom>
            <a:avLst/>
            <a:gdLst/>
            <a:ahLst/>
            <a:rect l="l" t="t" r="r" b="b"/>
            <a:pathLst>
              <a:path w="1439" h="1588">
                <a:moveTo>
                  <a:pt x="8458" y="6499"/>
                </a:moveTo>
                <a:cubicBezTo>
                  <a:pt x="8439" y="6635"/>
                  <a:pt x="8364" y="6723"/>
                  <a:pt x="8310" y="6846"/>
                </a:cubicBezTo>
                <a:cubicBezTo>
                  <a:pt x="8239" y="7009"/>
                  <a:pt x="8409" y="7030"/>
                  <a:pt x="8533" y="6995"/>
                </a:cubicBezTo>
                <a:cubicBezTo>
                  <a:pt x="8652" y="6961"/>
                  <a:pt x="8665" y="6896"/>
                  <a:pt x="8706" y="6796"/>
                </a:cubicBezTo>
                <a:cubicBezTo>
                  <a:pt x="8636" y="6796"/>
                  <a:pt x="8491" y="6843"/>
                  <a:pt x="8508" y="6945"/>
                </a:cubicBezTo>
                <a:cubicBezTo>
                  <a:pt x="8525" y="6945"/>
                  <a:pt x="8541" y="6945"/>
                  <a:pt x="8558" y="6945"/>
                </a:cubicBezTo>
              </a:path>
              <a:path w="1439" h="1588">
                <a:moveTo>
                  <a:pt x="8954" y="6499"/>
                </a:moveTo>
                <a:cubicBezTo>
                  <a:pt x="8982" y="6527"/>
                  <a:pt x="8996" y="6536"/>
                  <a:pt x="9029" y="6524"/>
                </a:cubicBezTo>
                <a:cubicBezTo>
                  <a:pt x="9029" y="6649"/>
                  <a:pt x="8991" y="6682"/>
                  <a:pt x="8905" y="6772"/>
                </a:cubicBezTo>
                <a:cubicBezTo>
                  <a:pt x="8866" y="6810"/>
                  <a:pt x="8864" y="6827"/>
                  <a:pt x="8830" y="6821"/>
                </a:cubicBezTo>
                <a:cubicBezTo>
                  <a:pt x="8909" y="6851"/>
                  <a:pt x="8992" y="6865"/>
                  <a:pt x="9079" y="6871"/>
                </a:cubicBezTo>
                <a:cubicBezTo>
                  <a:pt x="9123" y="6874"/>
                  <a:pt x="9116" y="6868"/>
                  <a:pt x="9153" y="6896"/>
                </a:cubicBezTo>
              </a:path>
              <a:path w="1439" h="1588">
                <a:moveTo>
                  <a:pt x="8086" y="7094"/>
                </a:moveTo>
                <a:cubicBezTo>
                  <a:pt x="8277" y="7094"/>
                  <a:pt x="8465" y="7117"/>
                  <a:pt x="8657" y="7119"/>
                </a:cubicBezTo>
                <a:cubicBezTo>
                  <a:pt x="8772" y="7120"/>
                  <a:pt x="9081" y="7088"/>
                  <a:pt x="9203" y="7144"/>
                </a:cubicBezTo>
                <a:cubicBezTo>
                  <a:pt x="9211" y="7152"/>
                  <a:pt x="9219" y="7161"/>
                  <a:pt x="9227" y="7169"/>
                </a:cubicBezTo>
              </a:path>
              <a:path w="1439" h="1588">
                <a:moveTo>
                  <a:pt x="7962" y="7516"/>
                </a:moveTo>
                <a:cubicBezTo>
                  <a:pt x="7942" y="7662"/>
                  <a:pt x="7891" y="7839"/>
                  <a:pt x="7838" y="7987"/>
                </a:cubicBezTo>
                <a:cubicBezTo>
                  <a:pt x="7822" y="8020"/>
                  <a:pt x="7805" y="8053"/>
                  <a:pt x="7789" y="8086"/>
                </a:cubicBezTo>
              </a:path>
              <a:path w="1439" h="1588">
                <a:moveTo>
                  <a:pt x="8285" y="7565"/>
                </a:moveTo>
                <a:cubicBezTo>
                  <a:pt x="8228" y="7717"/>
                  <a:pt x="8186" y="7812"/>
                  <a:pt x="8186" y="7962"/>
                </a:cubicBezTo>
                <a:cubicBezTo>
                  <a:pt x="8349" y="8001"/>
                  <a:pt x="8600" y="7946"/>
                  <a:pt x="8558" y="7689"/>
                </a:cubicBezTo>
                <a:cubicBezTo>
                  <a:pt x="8538" y="7570"/>
                  <a:pt x="8396" y="7567"/>
                  <a:pt x="8310" y="7541"/>
                </a:cubicBezTo>
              </a:path>
              <a:path w="1439" h="1588">
                <a:moveTo>
                  <a:pt x="8954" y="7516"/>
                </a:moveTo>
                <a:cubicBezTo>
                  <a:pt x="8827" y="7644"/>
                  <a:pt x="8782" y="7782"/>
                  <a:pt x="8756" y="7962"/>
                </a:cubicBezTo>
                <a:cubicBezTo>
                  <a:pt x="8928" y="7936"/>
                  <a:pt x="9073" y="7875"/>
                  <a:pt x="9004" y="7665"/>
                </a:cubicBezTo>
                <a:cubicBezTo>
                  <a:pt x="8940" y="7578"/>
                  <a:pt x="8932" y="7545"/>
                  <a:pt x="8855" y="75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87760" y="3510000"/>
            <a:ext cx="393480" cy="534960"/>
          </a:xfrm>
          <a:custGeom>
            <a:avLst/>
            <a:gdLst/>
            <a:ahLst/>
            <a:rect l="l" t="t" r="r" b="b"/>
            <a:pathLst>
              <a:path w="1093" h="1490">
                <a:moveTo>
                  <a:pt x="8310" y="9773"/>
                </a:moveTo>
                <a:cubicBezTo>
                  <a:pt x="8247" y="9710"/>
                  <a:pt x="8053" y="9826"/>
                  <a:pt x="7987" y="9897"/>
                </a:cubicBezTo>
                <a:cubicBezTo>
                  <a:pt x="7912" y="9978"/>
                  <a:pt x="8147" y="10161"/>
                  <a:pt x="8186" y="10244"/>
                </a:cubicBezTo>
                <a:cubicBezTo>
                  <a:pt x="8078" y="10319"/>
                  <a:pt x="8091" y="10333"/>
                  <a:pt x="7962" y="10294"/>
                </a:cubicBezTo>
                <a:cubicBezTo>
                  <a:pt x="7998" y="10117"/>
                  <a:pt x="8097" y="9971"/>
                  <a:pt x="8235" y="9847"/>
                </a:cubicBezTo>
                <a:cubicBezTo>
                  <a:pt x="8254" y="9830"/>
                  <a:pt x="8285" y="9839"/>
                  <a:pt x="8235" y="9823"/>
                </a:cubicBezTo>
              </a:path>
              <a:path w="1093" h="1490">
                <a:moveTo>
                  <a:pt x="7466" y="10418"/>
                </a:moveTo>
                <a:cubicBezTo>
                  <a:pt x="7798" y="10406"/>
                  <a:pt x="8127" y="10365"/>
                  <a:pt x="8458" y="10344"/>
                </a:cubicBezTo>
                <a:cubicBezTo>
                  <a:pt x="8533" y="10344"/>
                  <a:pt x="8566" y="10319"/>
                  <a:pt x="8558" y="10368"/>
                </a:cubicBezTo>
              </a:path>
              <a:path w="1093" h="1490">
                <a:moveTo>
                  <a:pt x="7640" y="10740"/>
                </a:moveTo>
                <a:cubicBezTo>
                  <a:pt x="7640" y="10904"/>
                  <a:pt x="7636" y="11086"/>
                  <a:pt x="7565" y="11237"/>
                </a:cubicBezTo>
                <a:cubicBezTo>
                  <a:pt x="7517" y="11340"/>
                  <a:pt x="7687" y="11097"/>
                  <a:pt x="7764" y="11013"/>
                </a:cubicBezTo>
              </a:path>
              <a:path w="1093" h="1490">
                <a:moveTo>
                  <a:pt x="8062" y="10790"/>
                </a:moveTo>
                <a:cubicBezTo>
                  <a:pt x="7941" y="10890"/>
                  <a:pt x="7929" y="10987"/>
                  <a:pt x="7938" y="11137"/>
                </a:cubicBezTo>
                <a:cubicBezTo>
                  <a:pt x="8079" y="11202"/>
                  <a:pt x="8238" y="11137"/>
                  <a:pt x="8260" y="10939"/>
                </a:cubicBezTo>
                <a:cubicBezTo>
                  <a:pt x="8277" y="10791"/>
                  <a:pt x="8151" y="10708"/>
                  <a:pt x="8037" y="107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2313000"/>
            <a:ext cx="44280" cy="544680"/>
          </a:xfrm>
          <a:custGeom>
            <a:avLst/>
            <a:gdLst/>
            <a:ahLst/>
            <a:rect l="l" t="t" r="r" b="b"/>
            <a:pathLst>
              <a:path w="125" h="1515">
                <a:moveTo>
                  <a:pt x="9599" y="6424"/>
                </a:moveTo>
                <a:lnTo>
                  <a:pt x="9599" y="6424"/>
                </a:lnTo>
                <a:lnTo>
                  <a:pt x="9599" y="6424"/>
                </a:lnTo>
              </a:path>
              <a:path w="125" h="1515">
                <a:moveTo>
                  <a:pt x="9649" y="6747"/>
                </a:moveTo>
                <a:cubicBezTo>
                  <a:pt x="9641" y="6755"/>
                  <a:pt x="9632" y="6764"/>
                  <a:pt x="9624" y="6772"/>
                </a:cubicBezTo>
              </a:path>
              <a:path w="125" h="1515">
                <a:moveTo>
                  <a:pt x="9575" y="7516"/>
                </a:moveTo>
                <a:lnTo>
                  <a:pt x="9575" y="7516"/>
                </a:lnTo>
              </a:path>
              <a:path w="125" h="1515">
                <a:moveTo>
                  <a:pt x="9525" y="7938"/>
                </a:moveTo>
                <a:lnTo>
                  <a:pt x="9525" y="793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02000" y="2295360"/>
            <a:ext cx="268200" cy="562320"/>
          </a:xfrm>
          <a:custGeom>
            <a:avLst/>
            <a:gdLst/>
            <a:ahLst/>
            <a:rect l="l" t="t" r="r" b="b"/>
            <a:pathLst>
              <a:path w="745" h="1564">
                <a:moveTo>
                  <a:pt x="9500" y="6573"/>
                </a:moveTo>
                <a:cubicBezTo>
                  <a:pt x="9430" y="6573"/>
                  <a:pt x="9583" y="6573"/>
                  <a:pt x="9599" y="6573"/>
                </a:cubicBezTo>
                <a:cubicBezTo>
                  <a:pt x="9607" y="6573"/>
                  <a:pt x="9616" y="6573"/>
                  <a:pt x="9624" y="6573"/>
                </a:cubicBezTo>
              </a:path>
              <a:path w="745" h="1564">
                <a:moveTo>
                  <a:pt x="9451" y="7714"/>
                </a:moveTo>
                <a:cubicBezTo>
                  <a:pt x="9507" y="7695"/>
                  <a:pt x="9575" y="7714"/>
                  <a:pt x="9649" y="7714"/>
                </a:cubicBezTo>
              </a:path>
              <a:path w="745" h="1564">
                <a:moveTo>
                  <a:pt x="9996" y="6424"/>
                </a:moveTo>
                <a:cubicBezTo>
                  <a:pt x="10008" y="6388"/>
                  <a:pt x="10096" y="6388"/>
                  <a:pt x="10145" y="6375"/>
                </a:cubicBezTo>
                <a:cubicBezTo>
                  <a:pt x="10192" y="6468"/>
                  <a:pt x="10161" y="6518"/>
                  <a:pt x="10071" y="6573"/>
                </a:cubicBezTo>
                <a:cubicBezTo>
                  <a:pt x="9969" y="6636"/>
                  <a:pt x="10133" y="6598"/>
                  <a:pt x="10195" y="6598"/>
                </a:cubicBezTo>
              </a:path>
              <a:path w="745" h="1564">
                <a:moveTo>
                  <a:pt x="9971" y="7615"/>
                </a:moveTo>
                <a:cubicBezTo>
                  <a:pt x="10041" y="7615"/>
                  <a:pt x="10102" y="7598"/>
                  <a:pt x="10170" y="7590"/>
                </a:cubicBezTo>
                <a:cubicBezTo>
                  <a:pt x="10124" y="7807"/>
                  <a:pt x="10026" y="7786"/>
                  <a:pt x="9872" y="7913"/>
                </a:cubicBezTo>
                <a:cubicBezTo>
                  <a:pt x="9872" y="7921"/>
                  <a:pt x="9872" y="7930"/>
                  <a:pt x="9872" y="7938"/>
                </a:cubicBezTo>
                <a:cubicBezTo>
                  <a:pt x="9957" y="7924"/>
                  <a:pt x="10038" y="7885"/>
                  <a:pt x="10120" y="7863"/>
                </a:cubicBezTo>
                <a:cubicBezTo>
                  <a:pt x="10145" y="7863"/>
                  <a:pt x="10153" y="7863"/>
                  <a:pt x="10170" y="78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02040" y="2554200"/>
            <a:ext cx="90360" cy="44640"/>
          </a:xfrm>
          <a:custGeom>
            <a:avLst/>
            <a:gdLst/>
            <a:ahLst/>
            <a:rect l="l" t="t" r="r" b="b"/>
            <a:pathLst>
              <a:path w="249" h="125">
                <a:moveTo>
                  <a:pt x="10840" y="7119"/>
                </a:moveTo>
                <a:cubicBezTo>
                  <a:pt x="10916" y="7113"/>
                  <a:pt x="10987" y="7094"/>
                  <a:pt x="11063" y="7094"/>
                </a:cubicBezTo>
              </a:path>
              <a:path w="249" h="125">
                <a:moveTo>
                  <a:pt x="10864" y="7218"/>
                </a:moveTo>
                <a:cubicBezTo>
                  <a:pt x="10939" y="7218"/>
                  <a:pt x="11013" y="7218"/>
                  <a:pt x="11088" y="7218"/>
                </a:cubicBezTo>
              </a:path>
            </a:pathLst>
          </a:custGeom>
          <a:noFill/>
          <a:ln cap="rnd" w="1908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a:off x="4143240" y="2303640"/>
            <a:ext cx="349560" cy="438120"/>
          </a:xfrm>
          <a:custGeom>
            <a:avLst/>
            <a:gdLst/>
            <a:ahLst/>
            <a:rect l="l" t="t" r="r" b="b"/>
            <a:pathLst>
              <a:path w="969" h="1216">
                <a:moveTo>
                  <a:pt x="11733" y="6499"/>
                </a:moveTo>
                <a:cubicBezTo>
                  <a:pt x="11773" y="6439"/>
                  <a:pt x="11876" y="6443"/>
                  <a:pt x="11956" y="6449"/>
                </a:cubicBezTo>
                <a:cubicBezTo>
                  <a:pt x="11937" y="6563"/>
                  <a:pt x="11891" y="6609"/>
                  <a:pt x="11782" y="6648"/>
                </a:cubicBezTo>
                <a:cubicBezTo>
                  <a:pt x="11774" y="6648"/>
                  <a:pt x="11765" y="6648"/>
                  <a:pt x="11757" y="6648"/>
                </a:cubicBezTo>
                <a:cubicBezTo>
                  <a:pt x="11818" y="6602"/>
                  <a:pt x="11892" y="6573"/>
                  <a:pt x="11956" y="6648"/>
                </a:cubicBezTo>
                <a:cubicBezTo>
                  <a:pt x="12069" y="6780"/>
                  <a:pt x="11834" y="6896"/>
                  <a:pt x="11733" y="6896"/>
                </a:cubicBezTo>
                <a:cubicBezTo>
                  <a:pt x="11692" y="6876"/>
                  <a:pt x="11676" y="6878"/>
                  <a:pt x="11683" y="6846"/>
                </a:cubicBezTo>
              </a:path>
              <a:path w="969" h="1216">
                <a:moveTo>
                  <a:pt x="12229" y="6400"/>
                </a:moveTo>
                <a:cubicBezTo>
                  <a:pt x="12249" y="6519"/>
                  <a:pt x="12275" y="6624"/>
                  <a:pt x="12278" y="6747"/>
                </a:cubicBezTo>
                <a:cubicBezTo>
                  <a:pt x="12278" y="6805"/>
                  <a:pt x="12278" y="6813"/>
                  <a:pt x="12278" y="6846"/>
                </a:cubicBezTo>
              </a:path>
              <a:path w="969" h="1216">
                <a:moveTo>
                  <a:pt x="11509" y="7045"/>
                </a:moveTo>
                <a:cubicBezTo>
                  <a:pt x="11644" y="7045"/>
                  <a:pt x="11773" y="7026"/>
                  <a:pt x="11906" y="7020"/>
                </a:cubicBezTo>
                <a:cubicBezTo>
                  <a:pt x="12071" y="7013"/>
                  <a:pt x="12237" y="7020"/>
                  <a:pt x="12402" y="7020"/>
                </a:cubicBezTo>
              </a:path>
              <a:path w="969" h="1216">
                <a:moveTo>
                  <a:pt x="11881" y="7218"/>
                </a:moveTo>
                <a:cubicBezTo>
                  <a:pt x="11767" y="7218"/>
                  <a:pt x="11758" y="7199"/>
                  <a:pt x="11708" y="7293"/>
                </a:cubicBezTo>
                <a:cubicBezTo>
                  <a:pt x="11688" y="7333"/>
                  <a:pt x="11679" y="7339"/>
                  <a:pt x="11683" y="7367"/>
                </a:cubicBezTo>
                <a:cubicBezTo>
                  <a:pt x="11745" y="7367"/>
                  <a:pt x="11856" y="7307"/>
                  <a:pt x="11906" y="7342"/>
                </a:cubicBezTo>
                <a:cubicBezTo>
                  <a:pt x="12027" y="7427"/>
                  <a:pt x="11821" y="7565"/>
                  <a:pt x="11757" y="7590"/>
                </a:cubicBezTo>
                <a:cubicBezTo>
                  <a:pt x="11675" y="7623"/>
                  <a:pt x="11609" y="7632"/>
                  <a:pt x="11609" y="7541"/>
                </a:cubicBezTo>
              </a:path>
              <a:path w="969" h="1216">
                <a:moveTo>
                  <a:pt x="12254" y="7268"/>
                </a:moveTo>
                <a:cubicBezTo>
                  <a:pt x="12223" y="7237"/>
                  <a:pt x="12156" y="7281"/>
                  <a:pt x="12129" y="7342"/>
                </a:cubicBezTo>
                <a:cubicBezTo>
                  <a:pt x="12105" y="7417"/>
                  <a:pt x="12097" y="7442"/>
                  <a:pt x="12080" y="7491"/>
                </a:cubicBezTo>
                <a:cubicBezTo>
                  <a:pt x="12187" y="7584"/>
                  <a:pt x="12321" y="7598"/>
                  <a:pt x="12427" y="7466"/>
                </a:cubicBezTo>
                <a:cubicBezTo>
                  <a:pt x="12504" y="7370"/>
                  <a:pt x="12503" y="7262"/>
                  <a:pt x="12378" y="7218"/>
                </a:cubicBezTo>
                <a:cubicBezTo>
                  <a:pt x="12336" y="7218"/>
                  <a:pt x="12328" y="7218"/>
                  <a:pt x="12303" y="72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05200" y="2401920"/>
            <a:ext cx="196920" cy="162000"/>
          </a:xfrm>
          <a:custGeom>
            <a:avLst/>
            <a:gdLst/>
            <a:ahLst/>
            <a:rect l="l" t="t" r="r" b="b"/>
            <a:pathLst>
              <a:path w="547" h="448">
                <a:moveTo>
                  <a:pt x="13072" y="6945"/>
                </a:moveTo>
                <a:cubicBezTo>
                  <a:pt x="13121" y="6994"/>
                  <a:pt x="13199" y="7103"/>
                  <a:pt x="13246" y="7119"/>
                </a:cubicBezTo>
                <a:cubicBezTo>
                  <a:pt x="13342" y="6928"/>
                  <a:pt x="13455" y="6807"/>
                  <a:pt x="13618" y="66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78080" y="3697200"/>
            <a:ext cx="447840" cy="366840"/>
          </a:xfrm>
          <a:custGeom>
            <a:avLst/>
            <a:gdLst/>
            <a:ahLst/>
            <a:rect l="l" t="t" r="r" b="b"/>
            <a:pathLst>
              <a:path w="1242" h="1018">
                <a:moveTo>
                  <a:pt x="8830" y="10889"/>
                </a:moveTo>
                <a:cubicBezTo>
                  <a:pt x="8901" y="10907"/>
                  <a:pt x="8878" y="10926"/>
                  <a:pt x="8905" y="11013"/>
                </a:cubicBezTo>
              </a:path>
              <a:path w="1242" h="1018">
                <a:moveTo>
                  <a:pt x="8830" y="11286"/>
                </a:moveTo>
                <a:cubicBezTo>
                  <a:pt x="8838" y="11286"/>
                  <a:pt x="8847" y="11286"/>
                  <a:pt x="8855" y="11286"/>
                </a:cubicBezTo>
              </a:path>
              <a:path w="1242" h="1018">
                <a:moveTo>
                  <a:pt x="9823" y="10319"/>
                </a:moveTo>
                <a:cubicBezTo>
                  <a:pt x="9907" y="10299"/>
                  <a:pt x="9989" y="10285"/>
                  <a:pt x="10071" y="102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97320" y="2133720"/>
            <a:ext cx="2759400" cy="161640"/>
          </a:xfrm>
          <a:custGeom>
            <a:avLst/>
            <a:gdLst/>
            <a:ahLst/>
            <a:rect l="l" t="t" r="r" b="b"/>
            <a:pathLst>
              <a:path w="7666" h="448">
                <a:moveTo>
                  <a:pt x="14436" y="6226"/>
                </a:moveTo>
                <a:cubicBezTo>
                  <a:pt x="14648" y="6233"/>
                  <a:pt x="14846" y="6282"/>
                  <a:pt x="15056" y="6300"/>
                </a:cubicBezTo>
                <a:cubicBezTo>
                  <a:pt x="15239" y="6316"/>
                  <a:pt x="15420" y="6362"/>
                  <a:pt x="15602" y="6375"/>
                </a:cubicBezTo>
                <a:cubicBezTo>
                  <a:pt x="15843" y="6392"/>
                  <a:pt x="16085" y="6359"/>
                  <a:pt x="16321" y="6350"/>
                </a:cubicBezTo>
                <a:cubicBezTo>
                  <a:pt x="16451" y="6345"/>
                  <a:pt x="16568" y="6349"/>
                  <a:pt x="16694" y="6325"/>
                </a:cubicBezTo>
                <a:cubicBezTo>
                  <a:pt x="16857" y="6295"/>
                  <a:pt x="17031" y="6269"/>
                  <a:pt x="17190" y="6226"/>
                </a:cubicBezTo>
                <a:cubicBezTo>
                  <a:pt x="17394" y="6170"/>
                  <a:pt x="17577" y="6153"/>
                  <a:pt x="17785" y="6127"/>
                </a:cubicBezTo>
                <a:cubicBezTo>
                  <a:pt x="17968" y="6104"/>
                  <a:pt x="18149" y="6077"/>
                  <a:pt x="18331" y="6052"/>
                </a:cubicBezTo>
                <a:cubicBezTo>
                  <a:pt x="18528" y="6025"/>
                  <a:pt x="18728" y="6007"/>
                  <a:pt x="18926" y="6003"/>
                </a:cubicBezTo>
                <a:cubicBezTo>
                  <a:pt x="19077" y="6000"/>
                  <a:pt x="19220" y="5980"/>
                  <a:pt x="19372" y="5978"/>
                </a:cubicBezTo>
                <a:cubicBezTo>
                  <a:pt x="20133" y="5966"/>
                  <a:pt x="20898" y="5990"/>
                  <a:pt x="21654" y="5953"/>
                </a:cubicBezTo>
                <a:cubicBezTo>
                  <a:pt x="21758" y="5948"/>
                  <a:pt x="22011" y="5922"/>
                  <a:pt x="22076" y="5928"/>
                </a:cubicBezTo>
                <a:cubicBezTo>
                  <a:pt x="22101" y="5928"/>
                  <a:pt x="22109" y="5928"/>
                  <a:pt x="22101"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30" name="PlaceHolder 2"/>
          <p:cNvSpPr>
            <a:spLocks noGrp="1"/>
          </p:cNvSpPr>
          <p:nvPr>
            <p:ph type="subTitle"/>
          </p:nvPr>
        </p:nvSpPr>
        <p:spPr>
          <a:xfrm>
            <a:off x="533160" y="1143000"/>
            <a:ext cx="8001000" cy="46483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each as a percen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10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8</a:t>
            </a:r>
            <a:endParaRPr b="0" lang="en-US" sz="3200" spc="-1" strike="noStrike">
              <a:solidFill>
                <a:srgbClr val="000000"/>
              </a:solidFill>
              <a:latin typeface="Times New Roman"/>
            </a:endParaRPr>
          </a:p>
        </p:txBody>
      </p:sp>
      <p:sp>
        <p:nvSpPr>
          <p:cNvPr id="131" name=""/>
          <p:cNvSpPr/>
          <p:nvPr/>
        </p:nvSpPr>
        <p:spPr>
          <a:xfrm>
            <a:off x="3429000" y="1857240"/>
            <a:ext cx="295200" cy="241560"/>
          </a:xfrm>
          <a:custGeom>
            <a:avLst/>
            <a:gdLst/>
            <a:ahLst/>
            <a:rect l="l" t="t" r="r" b="b"/>
            <a:pathLst>
              <a:path w="820" h="671">
                <a:moveTo>
                  <a:pt x="9550" y="5333"/>
                </a:moveTo>
                <a:cubicBezTo>
                  <a:pt x="9550" y="5485"/>
                  <a:pt x="9575" y="5670"/>
                  <a:pt x="9525" y="5804"/>
                </a:cubicBezTo>
              </a:path>
              <a:path w="820" h="671">
                <a:moveTo>
                  <a:pt x="10319" y="5159"/>
                </a:moveTo>
                <a:cubicBezTo>
                  <a:pt x="10220" y="5195"/>
                  <a:pt x="10055" y="5188"/>
                  <a:pt x="9971" y="5234"/>
                </a:cubicBezTo>
                <a:cubicBezTo>
                  <a:pt x="9943" y="5250"/>
                  <a:pt x="9931" y="5364"/>
                  <a:pt x="9922" y="5407"/>
                </a:cubicBezTo>
                <a:cubicBezTo>
                  <a:pt x="10031" y="5407"/>
                  <a:pt x="10206" y="5375"/>
                  <a:pt x="10294" y="5457"/>
                </a:cubicBezTo>
                <a:cubicBezTo>
                  <a:pt x="10486" y="5638"/>
                  <a:pt x="10183" y="5811"/>
                  <a:pt x="10046" y="5829"/>
                </a:cubicBezTo>
                <a:cubicBezTo>
                  <a:pt x="9996" y="5829"/>
                  <a:pt x="9947" y="5829"/>
                  <a:pt x="9897" y="58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259080" y="2178000"/>
            <a:ext cx="5295960" cy="3197160"/>
          </a:xfrm>
          <a:custGeom>
            <a:avLst/>
            <a:gdLst/>
            <a:ahLst/>
            <a:rect l="l" t="t" r="r" b="b"/>
            <a:pathLst>
              <a:path w="14710" h="8881">
                <a:moveTo>
                  <a:pt x="9054" y="6152"/>
                </a:moveTo>
                <a:cubicBezTo>
                  <a:pt x="9423" y="6107"/>
                  <a:pt x="9798" y="6069"/>
                  <a:pt x="10170" y="6052"/>
                </a:cubicBezTo>
                <a:cubicBezTo>
                  <a:pt x="10336" y="6052"/>
                  <a:pt x="10372" y="6044"/>
                  <a:pt x="10468" y="6077"/>
                </a:cubicBezTo>
              </a:path>
              <a:path w="14710" h="8881">
                <a:moveTo>
                  <a:pt x="11261" y="9252"/>
                </a:moveTo>
                <a:cubicBezTo>
                  <a:pt x="11368" y="9225"/>
                  <a:pt x="11408" y="9217"/>
                  <a:pt x="11485" y="9227"/>
                </a:cubicBezTo>
              </a:path>
              <a:path w="14710" h="8881">
                <a:moveTo>
                  <a:pt x="11261" y="9426"/>
                </a:moveTo>
                <a:cubicBezTo>
                  <a:pt x="11311" y="9426"/>
                  <a:pt x="11360" y="9426"/>
                  <a:pt x="11410" y="9426"/>
                </a:cubicBezTo>
              </a:path>
              <a:path w="14710" h="8881">
                <a:moveTo>
                  <a:pt x="11410" y="9426"/>
                </a:moveTo>
                <a:lnTo>
                  <a:pt x="11410" y="9426"/>
                </a:lnTo>
              </a:path>
              <a:path w="14710" h="8881">
                <a:moveTo>
                  <a:pt x="12005" y="9302"/>
                </a:moveTo>
                <a:cubicBezTo>
                  <a:pt x="11987" y="9449"/>
                  <a:pt x="11915" y="9752"/>
                  <a:pt x="11931" y="9847"/>
                </a:cubicBezTo>
              </a:path>
              <a:path w="14710" h="8881">
                <a:moveTo>
                  <a:pt x="13891" y="9079"/>
                </a:moveTo>
                <a:cubicBezTo>
                  <a:pt x="13984" y="9052"/>
                  <a:pt x="14067" y="9036"/>
                  <a:pt x="14163" y="9029"/>
                </a:cubicBezTo>
              </a:path>
              <a:path w="14710" h="8881">
                <a:moveTo>
                  <a:pt x="13915" y="9178"/>
                </a:moveTo>
                <a:cubicBezTo>
                  <a:pt x="14039" y="9153"/>
                  <a:pt x="14080" y="9145"/>
                  <a:pt x="14163" y="9128"/>
                </a:cubicBezTo>
              </a:path>
              <a:path w="14710" h="8881">
                <a:moveTo>
                  <a:pt x="19000" y="9004"/>
                </a:moveTo>
                <a:cubicBezTo>
                  <a:pt x="18963" y="9215"/>
                  <a:pt x="18940" y="9249"/>
                  <a:pt x="19050" y="9426"/>
                </a:cubicBezTo>
                <a:cubicBezTo>
                  <a:pt x="19249" y="9352"/>
                  <a:pt x="19372" y="9282"/>
                  <a:pt x="19298" y="9054"/>
                </a:cubicBezTo>
                <a:cubicBezTo>
                  <a:pt x="19281" y="9021"/>
                  <a:pt x="19265" y="8987"/>
                  <a:pt x="19248" y="8954"/>
                </a:cubicBezTo>
              </a:path>
              <a:path w="14710" h="8881">
                <a:moveTo>
                  <a:pt x="19918" y="8806"/>
                </a:moveTo>
                <a:cubicBezTo>
                  <a:pt x="20069" y="8806"/>
                  <a:pt x="20137" y="8799"/>
                  <a:pt x="20241" y="8756"/>
                </a:cubicBezTo>
              </a:path>
              <a:path w="14710" h="8881">
                <a:moveTo>
                  <a:pt x="23589" y="8458"/>
                </a:moveTo>
                <a:cubicBezTo>
                  <a:pt x="23664" y="8458"/>
                  <a:pt x="23706" y="8453"/>
                  <a:pt x="23763" y="8434"/>
                </a:cubicBezTo>
              </a:path>
              <a:path w="14710" h="8881">
                <a:moveTo>
                  <a:pt x="23763" y="8434"/>
                </a:moveTo>
                <a:lnTo>
                  <a:pt x="23763" y="8434"/>
                </a:lnTo>
              </a:path>
              <a:path w="14710" h="8881">
                <a:moveTo>
                  <a:pt x="11733" y="14908"/>
                </a:moveTo>
                <a:cubicBezTo>
                  <a:pt x="11864" y="14933"/>
                  <a:pt x="11913" y="14941"/>
                  <a:pt x="12005" y="149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1800" y="3081240"/>
            <a:ext cx="706320" cy="490680"/>
          </a:xfrm>
          <a:custGeom>
            <a:avLst/>
            <a:gdLst/>
            <a:ahLst/>
            <a:rect l="l" t="t" r="r" b="b"/>
            <a:pathLst>
              <a:path w="1961" h="1365">
                <a:moveTo>
                  <a:pt x="9128" y="8607"/>
                </a:moveTo>
                <a:cubicBezTo>
                  <a:pt x="9171" y="8551"/>
                  <a:pt x="9318" y="8533"/>
                  <a:pt x="9401" y="8558"/>
                </a:cubicBezTo>
                <a:cubicBezTo>
                  <a:pt x="9541" y="8600"/>
                  <a:pt x="9318" y="8793"/>
                  <a:pt x="9302" y="8806"/>
                </a:cubicBezTo>
                <a:cubicBezTo>
                  <a:pt x="9294" y="8814"/>
                  <a:pt x="9285" y="8822"/>
                  <a:pt x="9277" y="8830"/>
                </a:cubicBezTo>
                <a:cubicBezTo>
                  <a:pt x="9277" y="8718"/>
                  <a:pt x="9452" y="8828"/>
                  <a:pt x="9525" y="8880"/>
                </a:cubicBezTo>
                <a:cubicBezTo>
                  <a:pt x="9432" y="9066"/>
                  <a:pt x="9351" y="9048"/>
                  <a:pt x="9153" y="9029"/>
                </a:cubicBezTo>
              </a:path>
              <a:path w="1961" h="1365">
                <a:moveTo>
                  <a:pt x="9004" y="9351"/>
                </a:moveTo>
                <a:cubicBezTo>
                  <a:pt x="9281" y="9302"/>
                  <a:pt x="9542" y="9252"/>
                  <a:pt x="9823" y="9252"/>
                </a:cubicBezTo>
              </a:path>
              <a:path w="1961" h="1365">
                <a:moveTo>
                  <a:pt x="9103" y="9401"/>
                </a:moveTo>
                <a:cubicBezTo>
                  <a:pt x="9131" y="9575"/>
                  <a:pt x="9128" y="9745"/>
                  <a:pt x="9128" y="9922"/>
                </a:cubicBezTo>
                <a:cubicBezTo>
                  <a:pt x="9128" y="9914"/>
                  <a:pt x="9128" y="9905"/>
                  <a:pt x="9128" y="9897"/>
                </a:cubicBezTo>
              </a:path>
              <a:path w="1961" h="1365">
                <a:moveTo>
                  <a:pt x="9575" y="9426"/>
                </a:moveTo>
                <a:cubicBezTo>
                  <a:pt x="9510" y="9571"/>
                  <a:pt x="9448" y="9693"/>
                  <a:pt x="9475" y="9847"/>
                </a:cubicBezTo>
                <a:cubicBezTo>
                  <a:pt x="9601" y="9818"/>
                  <a:pt x="9869" y="9694"/>
                  <a:pt x="9723" y="9500"/>
                </a:cubicBezTo>
                <a:cubicBezTo>
                  <a:pt x="9627" y="9453"/>
                  <a:pt x="9598" y="9436"/>
                  <a:pt x="9525" y="9451"/>
                </a:cubicBezTo>
              </a:path>
              <a:path w="1961" h="1365">
                <a:moveTo>
                  <a:pt x="9847" y="9203"/>
                </a:moveTo>
                <a:cubicBezTo>
                  <a:pt x="9872" y="9178"/>
                  <a:pt x="9880" y="9170"/>
                  <a:pt x="9897" y="9153"/>
                </a:cubicBezTo>
                <a:cubicBezTo>
                  <a:pt x="9958" y="9220"/>
                  <a:pt x="10017" y="9336"/>
                  <a:pt x="10071" y="9376"/>
                </a:cubicBezTo>
              </a:path>
              <a:path w="1961" h="1365">
                <a:moveTo>
                  <a:pt x="10120" y="9128"/>
                </a:moveTo>
                <a:cubicBezTo>
                  <a:pt x="10036" y="9234"/>
                  <a:pt x="9958" y="9348"/>
                  <a:pt x="9872" y="9451"/>
                </a:cubicBezTo>
              </a:path>
              <a:path w="1961" h="1365">
                <a:moveTo>
                  <a:pt x="10592" y="9376"/>
                </a:moveTo>
                <a:cubicBezTo>
                  <a:pt x="10577" y="9492"/>
                  <a:pt x="10555" y="9607"/>
                  <a:pt x="10542" y="9723"/>
                </a:cubicBezTo>
                <a:cubicBezTo>
                  <a:pt x="10542" y="9715"/>
                  <a:pt x="10542" y="9707"/>
                  <a:pt x="10542" y="9699"/>
                </a:cubicBezTo>
              </a:path>
              <a:path w="1961" h="1365">
                <a:moveTo>
                  <a:pt x="10790" y="9401"/>
                </a:moveTo>
                <a:cubicBezTo>
                  <a:pt x="10727" y="9542"/>
                  <a:pt x="10701" y="9551"/>
                  <a:pt x="10740" y="9699"/>
                </a:cubicBezTo>
                <a:cubicBezTo>
                  <a:pt x="10826" y="9679"/>
                  <a:pt x="11095" y="9545"/>
                  <a:pt x="10914" y="9426"/>
                </a:cubicBezTo>
                <a:cubicBezTo>
                  <a:pt x="10873" y="9418"/>
                  <a:pt x="10831" y="9409"/>
                  <a:pt x="10790" y="9401"/>
                </a:cubicBezTo>
              </a:path>
              <a:path w="1961" h="1365">
                <a:moveTo>
                  <a:pt x="10542" y="9178"/>
                </a:moveTo>
                <a:cubicBezTo>
                  <a:pt x="10646" y="9148"/>
                  <a:pt x="10756" y="9112"/>
                  <a:pt x="10864" y="9103"/>
                </a:cubicBezTo>
                <a:cubicBezTo>
                  <a:pt x="10872" y="9103"/>
                  <a:pt x="10881" y="9103"/>
                  <a:pt x="10889" y="9103"/>
                </a:cubicBezTo>
              </a:path>
              <a:path w="1961" h="1365">
                <a:moveTo>
                  <a:pt x="10592" y="8756"/>
                </a:moveTo>
                <a:cubicBezTo>
                  <a:pt x="10592" y="8845"/>
                  <a:pt x="10568" y="8919"/>
                  <a:pt x="10542" y="9004"/>
                </a:cubicBezTo>
              </a:path>
              <a:path w="1961" h="1365">
                <a:moveTo>
                  <a:pt x="10740" y="8731"/>
                </a:moveTo>
                <a:cubicBezTo>
                  <a:pt x="10708" y="8846"/>
                  <a:pt x="10681" y="8886"/>
                  <a:pt x="10716" y="9004"/>
                </a:cubicBezTo>
                <a:cubicBezTo>
                  <a:pt x="10803" y="8986"/>
                  <a:pt x="10998" y="8911"/>
                  <a:pt x="10889" y="8781"/>
                </a:cubicBezTo>
                <a:cubicBezTo>
                  <a:pt x="10873" y="8781"/>
                  <a:pt x="10856" y="8781"/>
                  <a:pt x="10840"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24240" y="3098880"/>
            <a:ext cx="527040" cy="419040"/>
          </a:xfrm>
          <a:custGeom>
            <a:avLst/>
            <a:gdLst/>
            <a:ahLst/>
            <a:rect l="l" t="t" r="r" b="b"/>
            <a:pathLst>
              <a:path w="1464" h="1167">
                <a:moveTo>
                  <a:pt x="12452" y="9351"/>
                </a:moveTo>
                <a:cubicBezTo>
                  <a:pt x="12328" y="9460"/>
                  <a:pt x="12319" y="9585"/>
                  <a:pt x="12303" y="9748"/>
                </a:cubicBezTo>
                <a:cubicBezTo>
                  <a:pt x="12451" y="9759"/>
                  <a:pt x="12642" y="9706"/>
                  <a:pt x="12626" y="9500"/>
                </a:cubicBezTo>
                <a:cubicBezTo>
                  <a:pt x="12585" y="9419"/>
                  <a:pt x="12589" y="9386"/>
                  <a:pt x="12526" y="9401"/>
                </a:cubicBezTo>
              </a:path>
              <a:path w="1464" h="1167">
                <a:moveTo>
                  <a:pt x="13047" y="9327"/>
                </a:moveTo>
                <a:cubicBezTo>
                  <a:pt x="12911" y="9463"/>
                  <a:pt x="12873" y="9555"/>
                  <a:pt x="12898" y="9748"/>
                </a:cubicBezTo>
                <a:cubicBezTo>
                  <a:pt x="13060" y="9714"/>
                  <a:pt x="13232" y="9633"/>
                  <a:pt x="13196" y="9426"/>
                </a:cubicBezTo>
                <a:cubicBezTo>
                  <a:pt x="13140" y="9342"/>
                  <a:pt x="13112" y="9317"/>
                  <a:pt x="13022" y="9351"/>
                </a:cubicBezTo>
              </a:path>
              <a:path w="1464" h="1167">
                <a:moveTo>
                  <a:pt x="11733" y="9128"/>
                </a:moveTo>
                <a:cubicBezTo>
                  <a:pt x="12189" y="9077"/>
                  <a:pt x="12639" y="9079"/>
                  <a:pt x="13097" y="9079"/>
                </a:cubicBezTo>
              </a:path>
              <a:path w="1464" h="1167">
                <a:moveTo>
                  <a:pt x="11956" y="8706"/>
                </a:moveTo>
                <a:cubicBezTo>
                  <a:pt x="11977" y="8680"/>
                  <a:pt x="12178" y="8541"/>
                  <a:pt x="12229" y="8607"/>
                </a:cubicBezTo>
                <a:cubicBezTo>
                  <a:pt x="12284" y="8677"/>
                  <a:pt x="12154" y="8717"/>
                  <a:pt x="12154" y="8806"/>
                </a:cubicBezTo>
                <a:cubicBezTo>
                  <a:pt x="12266" y="8828"/>
                  <a:pt x="12297" y="8829"/>
                  <a:pt x="12353" y="8880"/>
                </a:cubicBezTo>
                <a:cubicBezTo>
                  <a:pt x="12257" y="9029"/>
                  <a:pt x="12155" y="9049"/>
                  <a:pt x="11981" y="8979"/>
                </a:cubicBezTo>
                <a:cubicBezTo>
                  <a:pt x="11973" y="8971"/>
                  <a:pt x="11964" y="8962"/>
                  <a:pt x="11956" y="8954"/>
                </a:cubicBezTo>
              </a:path>
              <a:path w="1464" h="1167">
                <a:moveTo>
                  <a:pt x="12576" y="8607"/>
                </a:moveTo>
                <a:cubicBezTo>
                  <a:pt x="12434" y="8741"/>
                  <a:pt x="12427" y="8741"/>
                  <a:pt x="12427" y="8930"/>
                </a:cubicBezTo>
                <a:cubicBezTo>
                  <a:pt x="12511" y="8935"/>
                  <a:pt x="12870" y="8899"/>
                  <a:pt x="12750" y="8706"/>
                </a:cubicBezTo>
                <a:cubicBezTo>
                  <a:pt x="12654" y="8659"/>
                  <a:pt x="12624" y="8642"/>
                  <a:pt x="12551" y="86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13240" y="3071880"/>
            <a:ext cx="633600" cy="285840"/>
          </a:xfrm>
          <a:custGeom>
            <a:avLst/>
            <a:gdLst/>
            <a:ahLst/>
            <a:rect l="l" t="t" r="r" b="b"/>
            <a:pathLst>
              <a:path w="1762" h="795">
                <a:moveTo>
                  <a:pt x="14833" y="8756"/>
                </a:moveTo>
                <a:cubicBezTo>
                  <a:pt x="14864" y="8731"/>
                  <a:pt x="15087" y="8652"/>
                  <a:pt x="15131" y="8756"/>
                </a:cubicBezTo>
                <a:cubicBezTo>
                  <a:pt x="15161" y="8827"/>
                  <a:pt x="14949" y="8902"/>
                  <a:pt x="14908" y="8930"/>
                </a:cubicBezTo>
                <a:cubicBezTo>
                  <a:pt x="15041" y="8918"/>
                  <a:pt x="15088" y="8957"/>
                  <a:pt x="15205" y="9029"/>
                </a:cubicBezTo>
                <a:cubicBezTo>
                  <a:pt x="15155" y="9187"/>
                  <a:pt x="15020" y="9332"/>
                  <a:pt x="14808" y="9277"/>
                </a:cubicBezTo>
                <a:cubicBezTo>
                  <a:pt x="14792" y="9260"/>
                  <a:pt x="14775" y="9244"/>
                  <a:pt x="14759" y="9227"/>
                </a:cubicBezTo>
              </a:path>
              <a:path w="1762" h="795">
                <a:moveTo>
                  <a:pt x="15354" y="8756"/>
                </a:moveTo>
                <a:cubicBezTo>
                  <a:pt x="15249" y="8966"/>
                  <a:pt x="15185" y="9077"/>
                  <a:pt x="15304" y="9277"/>
                </a:cubicBezTo>
                <a:cubicBezTo>
                  <a:pt x="15419" y="9222"/>
                  <a:pt x="15824" y="9050"/>
                  <a:pt x="15577" y="8880"/>
                </a:cubicBezTo>
                <a:cubicBezTo>
                  <a:pt x="15519" y="8863"/>
                  <a:pt x="15462" y="8847"/>
                  <a:pt x="15404" y="8830"/>
                </a:cubicBezTo>
              </a:path>
              <a:path w="1762" h="795">
                <a:moveTo>
                  <a:pt x="15825" y="8582"/>
                </a:moveTo>
                <a:cubicBezTo>
                  <a:pt x="15766" y="8701"/>
                  <a:pt x="15724" y="8701"/>
                  <a:pt x="15776" y="8806"/>
                </a:cubicBezTo>
                <a:cubicBezTo>
                  <a:pt x="15916" y="8732"/>
                  <a:pt x="15993" y="8720"/>
                  <a:pt x="15900" y="8558"/>
                </a:cubicBezTo>
                <a:cubicBezTo>
                  <a:pt x="16082" y="8489"/>
                  <a:pt x="16217" y="8624"/>
                  <a:pt x="16197" y="8830"/>
                </a:cubicBezTo>
                <a:cubicBezTo>
                  <a:pt x="16179" y="9009"/>
                  <a:pt x="16055" y="9173"/>
                  <a:pt x="15974" y="9327"/>
                </a:cubicBezTo>
              </a:path>
              <a:path w="1762" h="795">
                <a:moveTo>
                  <a:pt x="16346" y="9153"/>
                </a:moveTo>
                <a:cubicBezTo>
                  <a:pt x="16318" y="9208"/>
                  <a:pt x="16310" y="9231"/>
                  <a:pt x="16321" y="9277"/>
                </a:cubicBezTo>
                <a:cubicBezTo>
                  <a:pt x="16343" y="9274"/>
                  <a:pt x="16601" y="9222"/>
                  <a:pt x="16495" y="9178"/>
                </a:cubicBezTo>
                <a:cubicBezTo>
                  <a:pt x="16470" y="9170"/>
                  <a:pt x="16446" y="9161"/>
                  <a:pt x="16421" y="91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97800" y="2830680"/>
            <a:ext cx="2357280" cy="554040"/>
          </a:xfrm>
          <a:custGeom>
            <a:avLst/>
            <a:gdLst/>
            <a:ahLst/>
            <a:rect l="l" t="t" r="r" b="b"/>
            <a:pathLst>
              <a:path w="6549" h="1539">
                <a:moveTo>
                  <a:pt x="19000" y="7913"/>
                </a:moveTo>
                <a:cubicBezTo>
                  <a:pt x="19097" y="7899"/>
                  <a:pt x="19188" y="7867"/>
                  <a:pt x="19273" y="7888"/>
                </a:cubicBezTo>
                <a:cubicBezTo>
                  <a:pt x="19217" y="7992"/>
                  <a:pt x="19168" y="8072"/>
                  <a:pt x="19050" y="8111"/>
                </a:cubicBezTo>
                <a:cubicBezTo>
                  <a:pt x="19135" y="8111"/>
                  <a:pt x="19451" y="8079"/>
                  <a:pt x="19323" y="8260"/>
                </a:cubicBezTo>
                <a:cubicBezTo>
                  <a:pt x="19218" y="8409"/>
                  <a:pt x="19055" y="8396"/>
                  <a:pt x="18901" y="8409"/>
                </a:cubicBezTo>
              </a:path>
              <a:path w="6549" h="1539">
                <a:moveTo>
                  <a:pt x="18678" y="8657"/>
                </a:moveTo>
                <a:cubicBezTo>
                  <a:pt x="18804" y="8644"/>
                  <a:pt x="19576" y="8469"/>
                  <a:pt x="19645" y="8607"/>
                </a:cubicBezTo>
                <a:cubicBezTo>
                  <a:pt x="19629" y="8632"/>
                  <a:pt x="19612" y="8657"/>
                  <a:pt x="19596" y="8682"/>
                </a:cubicBezTo>
              </a:path>
              <a:path w="6549" h="1539">
                <a:moveTo>
                  <a:pt x="18728" y="8905"/>
                </a:moveTo>
                <a:cubicBezTo>
                  <a:pt x="18698" y="9063"/>
                  <a:pt x="18626" y="9264"/>
                  <a:pt x="18604" y="9401"/>
                </a:cubicBezTo>
                <a:cubicBezTo>
                  <a:pt x="18612" y="9401"/>
                  <a:pt x="18620" y="9401"/>
                  <a:pt x="18628" y="9401"/>
                </a:cubicBezTo>
              </a:path>
              <a:path w="6549" h="1539">
                <a:moveTo>
                  <a:pt x="20067" y="8508"/>
                </a:moveTo>
                <a:cubicBezTo>
                  <a:pt x="20194" y="8490"/>
                  <a:pt x="20310" y="8483"/>
                  <a:pt x="20439" y="8483"/>
                </a:cubicBezTo>
              </a:path>
              <a:path w="6549" h="1539">
                <a:moveTo>
                  <a:pt x="21109" y="8235"/>
                </a:moveTo>
                <a:cubicBezTo>
                  <a:pt x="20940" y="8494"/>
                  <a:pt x="20817" y="8672"/>
                  <a:pt x="20910" y="8954"/>
                </a:cubicBezTo>
                <a:cubicBezTo>
                  <a:pt x="21145" y="8901"/>
                  <a:pt x="21416" y="8741"/>
                  <a:pt x="21382" y="8434"/>
                </a:cubicBezTo>
                <a:cubicBezTo>
                  <a:pt x="21310" y="8315"/>
                  <a:pt x="21291" y="8275"/>
                  <a:pt x="21183" y="8285"/>
                </a:cubicBezTo>
              </a:path>
              <a:path w="6549" h="1539">
                <a:moveTo>
                  <a:pt x="21481" y="8657"/>
                </a:moveTo>
                <a:cubicBezTo>
                  <a:pt x="21433" y="8767"/>
                  <a:pt x="21395" y="8881"/>
                  <a:pt x="21555" y="8781"/>
                </a:cubicBezTo>
                <a:cubicBezTo>
                  <a:pt x="21578" y="8758"/>
                  <a:pt x="21586" y="8754"/>
                  <a:pt x="21580" y="8731"/>
                </a:cubicBezTo>
                <a:cubicBezTo>
                  <a:pt x="21534" y="8731"/>
                  <a:pt x="21526" y="8749"/>
                  <a:pt x="21555" y="8706"/>
                </a:cubicBezTo>
              </a:path>
              <a:path w="6549" h="1539">
                <a:moveTo>
                  <a:pt x="22002" y="8210"/>
                </a:moveTo>
                <a:cubicBezTo>
                  <a:pt x="22145" y="8110"/>
                  <a:pt x="22201" y="8118"/>
                  <a:pt x="22324" y="8210"/>
                </a:cubicBezTo>
                <a:cubicBezTo>
                  <a:pt x="22293" y="8276"/>
                  <a:pt x="22150" y="8516"/>
                  <a:pt x="22151" y="8384"/>
                </a:cubicBezTo>
                <a:cubicBezTo>
                  <a:pt x="22317" y="8458"/>
                  <a:pt x="22472" y="8631"/>
                  <a:pt x="22225" y="8781"/>
                </a:cubicBezTo>
                <a:cubicBezTo>
                  <a:pt x="22133" y="8837"/>
                  <a:pt x="22052" y="8799"/>
                  <a:pt x="21977" y="8756"/>
                </a:cubicBezTo>
              </a:path>
              <a:path w="6549" h="1539">
                <a:moveTo>
                  <a:pt x="21481" y="8706"/>
                </a:moveTo>
                <a:cubicBezTo>
                  <a:pt x="21474" y="8746"/>
                  <a:pt x="21453" y="8842"/>
                  <a:pt x="21530" y="8731"/>
                </a:cubicBezTo>
                <a:cubicBezTo>
                  <a:pt x="21553" y="8698"/>
                  <a:pt x="21409" y="8706"/>
                  <a:pt x="21530" y="8731"/>
                </a:cubicBezTo>
              </a:path>
              <a:path w="6549" h="1539">
                <a:moveTo>
                  <a:pt x="21506" y="8830"/>
                </a:moveTo>
                <a:cubicBezTo>
                  <a:pt x="21506" y="8832"/>
                  <a:pt x="21509" y="8899"/>
                  <a:pt x="21555" y="8954"/>
                </a:cubicBezTo>
                <a:cubicBezTo>
                  <a:pt x="21665" y="9084"/>
                  <a:pt x="21757" y="9133"/>
                  <a:pt x="21927" y="9153"/>
                </a:cubicBezTo>
                <a:cubicBezTo>
                  <a:pt x="22041" y="9166"/>
                  <a:pt x="22168" y="9113"/>
                  <a:pt x="22275" y="9079"/>
                </a:cubicBezTo>
                <a:cubicBezTo>
                  <a:pt x="22337" y="9059"/>
                  <a:pt x="22371" y="9032"/>
                  <a:pt x="22399" y="9004"/>
                </a:cubicBezTo>
                <a:cubicBezTo>
                  <a:pt x="22412" y="8991"/>
                  <a:pt x="22410" y="8967"/>
                  <a:pt x="22423" y="8954"/>
                </a:cubicBezTo>
                <a:cubicBezTo>
                  <a:pt x="22501" y="8983"/>
                  <a:pt x="22523" y="9053"/>
                  <a:pt x="22622" y="9079"/>
                </a:cubicBezTo>
                <a:cubicBezTo>
                  <a:pt x="22794" y="9125"/>
                  <a:pt x="22963" y="9034"/>
                  <a:pt x="23118" y="8979"/>
                </a:cubicBezTo>
                <a:cubicBezTo>
                  <a:pt x="23270" y="8926"/>
                  <a:pt x="23307" y="8893"/>
                  <a:pt x="23391" y="8781"/>
                </a:cubicBezTo>
              </a:path>
              <a:path w="6549" h="1539">
                <a:moveTo>
                  <a:pt x="23589" y="8310"/>
                </a:moveTo>
                <a:cubicBezTo>
                  <a:pt x="23639" y="8285"/>
                  <a:pt x="23677" y="8285"/>
                  <a:pt x="23738" y="8285"/>
                </a:cubicBezTo>
              </a:path>
              <a:path w="6549" h="1539">
                <a:moveTo>
                  <a:pt x="24061" y="8136"/>
                </a:moveTo>
                <a:cubicBezTo>
                  <a:pt x="24151" y="8109"/>
                  <a:pt x="24192" y="8115"/>
                  <a:pt x="24284" y="8136"/>
                </a:cubicBezTo>
                <a:cubicBezTo>
                  <a:pt x="24284" y="8333"/>
                  <a:pt x="24194" y="8295"/>
                  <a:pt x="24036" y="8384"/>
                </a:cubicBezTo>
                <a:cubicBezTo>
                  <a:pt x="24064" y="8384"/>
                  <a:pt x="24075" y="8382"/>
                  <a:pt x="24085" y="8359"/>
                </a:cubicBezTo>
                <a:cubicBezTo>
                  <a:pt x="24228" y="8437"/>
                  <a:pt x="24242" y="8510"/>
                  <a:pt x="24110" y="8632"/>
                </a:cubicBezTo>
                <a:cubicBezTo>
                  <a:pt x="24028" y="8708"/>
                  <a:pt x="24023" y="8701"/>
                  <a:pt x="24011" y="8632"/>
                </a:cubicBezTo>
              </a:path>
              <a:path w="6549" h="1539">
                <a:moveTo>
                  <a:pt x="24507" y="8136"/>
                </a:moveTo>
                <a:cubicBezTo>
                  <a:pt x="24367" y="8164"/>
                  <a:pt x="24350" y="8311"/>
                  <a:pt x="24333" y="8434"/>
                </a:cubicBezTo>
                <a:cubicBezTo>
                  <a:pt x="24333" y="8467"/>
                  <a:pt x="24333" y="8500"/>
                  <a:pt x="24333" y="8533"/>
                </a:cubicBezTo>
                <a:cubicBezTo>
                  <a:pt x="24481" y="8522"/>
                  <a:pt x="24646" y="8481"/>
                  <a:pt x="24631" y="8285"/>
                </a:cubicBezTo>
                <a:cubicBezTo>
                  <a:pt x="24622" y="8170"/>
                  <a:pt x="24515" y="8146"/>
                  <a:pt x="24433" y="8111"/>
                </a:cubicBezTo>
              </a:path>
              <a:path w="6549" h="1539">
                <a:moveTo>
                  <a:pt x="24730" y="7987"/>
                </a:moveTo>
                <a:cubicBezTo>
                  <a:pt x="24719" y="8040"/>
                  <a:pt x="24705" y="8079"/>
                  <a:pt x="24705" y="8136"/>
                </a:cubicBezTo>
                <a:cubicBezTo>
                  <a:pt x="24776" y="8077"/>
                  <a:pt x="24707" y="7983"/>
                  <a:pt x="24755" y="7938"/>
                </a:cubicBezTo>
                <a:cubicBezTo>
                  <a:pt x="24915" y="7788"/>
                  <a:pt x="24965" y="8106"/>
                  <a:pt x="24954" y="8186"/>
                </a:cubicBezTo>
                <a:cubicBezTo>
                  <a:pt x="24931" y="8350"/>
                  <a:pt x="24754" y="8526"/>
                  <a:pt x="24755" y="8682"/>
                </a:cubicBezTo>
                <a:cubicBezTo>
                  <a:pt x="24763" y="8682"/>
                  <a:pt x="24772" y="8682"/>
                  <a:pt x="24780" y="8682"/>
                </a:cubicBezTo>
              </a:path>
              <a:path w="6549" h="1539">
                <a:moveTo>
                  <a:pt x="25028" y="8458"/>
                </a:moveTo>
                <a:cubicBezTo>
                  <a:pt x="24993" y="8493"/>
                  <a:pt x="24985" y="8543"/>
                  <a:pt x="24978" y="8607"/>
                </a:cubicBezTo>
                <a:cubicBezTo>
                  <a:pt x="25024" y="8620"/>
                  <a:pt x="25250" y="8565"/>
                  <a:pt x="25127" y="8483"/>
                </a:cubicBezTo>
                <a:cubicBezTo>
                  <a:pt x="25094" y="8475"/>
                  <a:pt x="25061" y="8466"/>
                  <a:pt x="25028" y="845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76720" y="2303640"/>
            <a:ext cx="19080" cy="152280"/>
          </a:xfrm>
          <a:custGeom>
            <a:avLst/>
            <a:gdLst/>
            <a:ahLst/>
            <a:rect l="l" t="t" r="r" b="b"/>
            <a:pathLst>
              <a:path w="51" h="422">
                <a:moveTo>
                  <a:pt x="9103" y="6400"/>
                </a:moveTo>
                <a:cubicBezTo>
                  <a:pt x="9135" y="6544"/>
                  <a:pt x="9153" y="6673"/>
                  <a:pt x="9153" y="68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11360" y="2276640"/>
            <a:ext cx="357480" cy="188640"/>
          </a:xfrm>
          <a:custGeom>
            <a:avLst/>
            <a:gdLst/>
            <a:ahLst/>
            <a:rect l="l" t="t" r="r" b="b"/>
            <a:pathLst>
              <a:path w="994" h="522">
                <a:moveTo>
                  <a:pt x="9599" y="6375"/>
                </a:moveTo>
                <a:cubicBezTo>
                  <a:pt x="9475" y="6545"/>
                  <a:pt x="9437" y="6622"/>
                  <a:pt x="9550" y="6796"/>
                </a:cubicBezTo>
                <a:cubicBezTo>
                  <a:pt x="9745" y="6728"/>
                  <a:pt x="9890" y="6659"/>
                  <a:pt x="9773" y="6424"/>
                </a:cubicBezTo>
                <a:cubicBezTo>
                  <a:pt x="9715" y="6366"/>
                  <a:pt x="9707" y="6358"/>
                  <a:pt x="9674" y="6325"/>
                </a:cubicBezTo>
              </a:path>
              <a:path w="994" h="522">
                <a:moveTo>
                  <a:pt x="10244" y="6375"/>
                </a:moveTo>
                <a:cubicBezTo>
                  <a:pt x="10085" y="6519"/>
                  <a:pt x="10053" y="6603"/>
                  <a:pt x="10096" y="6796"/>
                </a:cubicBezTo>
                <a:cubicBezTo>
                  <a:pt x="10291" y="6862"/>
                  <a:pt x="10442" y="6794"/>
                  <a:pt x="10468" y="6548"/>
                </a:cubicBezTo>
                <a:cubicBezTo>
                  <a:pt x="10488" y="6351"/>
                  <a:pt x="10364" y="6393"/>
                  <a:pt x="10244" y="64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19840" y="4402080"/>
            <a:ext cx="9360" cy="1800"/>
          </a:xfrm>
          <a:custGeom>
            <a:avLst/>
            <a:gdLst/>
            <a:ahLst/>
            <a:rect l="l" t="t" r="r" b="b"/>
            <a:pathLst>
              <a:path w="25" h="1">
                <a:moveTo>
                  <a:pt x="16470" y="12229"/>
                </a:moveTo>
                <a:cubicBezTo>
                  <a:pt x="16462" y="12229"/>
                  <a:pt x="16454" y="12229"/>
                  <a:pt x="16446" y="12229"/>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5419800" y="4241880"/>
            <a:ext cx="162000" cy="44280"/>
          </a:xfrm>
          <a:custGeom>
            <a:avLst/>
            <a:gdLst/>
            <a:ahLst/>
            <a:rect l="l" t="t" r="r" b="b"/>
            <a:pathLst>
              <a:path w="448" h="125">
                <a:moveTo>
                  <a:pt x="15056" y="11782"/>
                </a:moveTo>
                <a:cubicBezTo>
                  <a:pt x="15205" y="11782"/>
                  <a:pt x="15354" y="11782"/>
                  <a:pt x="15503" y="11782"/>
                </a:cubicBezTo>
              </a:path>
              <a:path w="448" h="125">
                <a:moveTo>
                  <a:pt x="15106" y="11906"/>
                </a:moveTo>
                <a:cubicBezTo>
                  <a:pt x="15214" y="11906"/>
                  <a:pt x="15321" y="11906"/>
                  <a:pt x="15429" y="11906"/>
                </a:cubicBezTo>
              </a:path>
            </a:pathLst>
          </a:custGeom>
          <a:noFill/>
          <a:ln cap="rnd" w="1908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
          <p:cNvSpPr/>
          <p:nvPr/>
        </p:nvSpPr>
        <p:spPr>
          <a:xfrm>
            <a:off x="3089160" y="4295880"/>
            <a:ext cx="250920" cy="527040"/>
          </a:xfrm>
          <a:custGeom>
            <a:avLst/>
            <a:gdLst/>
            <a:ahLst/>
            <a:rect l="l" t="t" r="r" b="b"/>
            <a:pathLst>
              <a:path w="696" h="1465">
                <a:moveTo>
                  <a:pt x="8830" y="12005"/>
                </a:moveTo>
                <a:cubicBezTo>
                  <a:pt x="8869" y="11910"/>
                  <a:pt x="8977" y="11892"/>
                  <a:pt x="9054" y="11981"/>
                </a:cubicBezTo>
                <a:cubicBezTo>
                  <a:pt x="9150" y="12093"/>
                  <a:pt x="8963" y="12163"/>
                  <a:pt x="8905" y="12204"/>
                </a:cubicBezTo>
                <a:cubicBezTo>
                  <a:pt x="8897" y="12204"/>
                  <a:pt x="8888" y="12204"/>
                  <a:pt x="8880" y="12204"/>
                </a:cubicBezTo>
                <a:cubicBezTo>
                  <a:pt x="8978" y="12145"/>
                  <a:pt x="9038" y="12198"/>
                  <a:pt x="9128" y="12278"/>
                </a:cubicBezTo>
                <a:cubicBezTo>
                  <a:pt x="9051" y="12384"/>
                  <a:pt x="8913" y="12464"/>
                  <a:pt x="8756" y="12427"/>
                </a:cubicBezTo>
                <a:cubicBezTo>
                  <a:pt x="8756" y="12419"/>
                  <a:pt x="8756" y="12410"/>
                  <a:pt x="8756" y="12402"/>
                </a:cubicBezTo>
              </a:path>
              <a:path w="696" h="1465">
                <a:moveTo>
                  <a:pt x="8582" y="12626"/>
                </a:moveTo>
                <a:cubicBezTo>
                  <a:pt x="8807" y="12601"/>
                  <a:pt x="9026" y="12576"/>
                  <a:pt x="9252" y="12576"/>
                </a:cubicBezTo>
                <a:cubicBezTo>
                  <a:pt x="9260" y="12576"/>
                  <a:pt x="9269" y="12576"/>
                  <a:pt x="9277" y="12576"/>
                </a:cubicBezTo>
              </a:path>
              <a:path w="696" h="1465">
                <a:moveTo>
                  <a:pt x="8930" y="12824"/>
                </a:moveTo>
                <a:cubicBezTo>
                  <a:pt x="8864" y="12853"/>
                  <a:pt x="8563" y="12989"/>
                  <a:pt x="8731" y="13097"/>
                </a:cubicBezTo>
                <a:cubicBezTo>
                  <a:pt x="8890" y="13200"/>
                  <a:pt x="8918" y="13141"/>
                  <a:pt x="9029" y="13295"/>
                </a:cubicBezTo>
                <a:cubicBezTo>
                  <a:pt x="8972" y="13380"/>
                  <a:pt x="8944" y="13407"/>
                  <a:pt x="8855" y="13395"/>
                </a:cubicBezTo>
                <a:cubicBezTo>
                  <a:pt x="8816" y="13240"/>
                  <a:pt x="8917" y="13110"/>
                  <a:pt x="9004" y="12973"/>
                </a:cubicBezTo>
                <a:cubicBezTo>
                  <a:pt x="9063" y="12879"/>
                  <a:pt x="9077" y="12896"/>
                  <a:pt x="9054" y="12849"/>
                </a:cubicBezTo>
                <a:cubicBezTo>
                  <a:pt x="9054" y="12841"/>
                  <a:pt x="9054" y="12832"/>
                  <a:pt x="9054" y="128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03760" y="3946680"/>
            <a:ext cx="928440" cy="1527120"/>
          </a:xfrm>
          <a:custGeom>
            <a:avLst/>
            <a:gdLst/>
            <a:ahLst/>
            <a:rect l="l" t="t" r="r" b="b"/>
            <a:pathLst>
              <a:path w="2580" h="4242">
                <a:moveTo>
                  <a:pt x="11435" y="12204"/>
                </a:moveTo>
                <a:cubicBezTo>
                  <a:pt x="11456" y="12247"/>
                  <a:pt x="11581" y="12090"/>
                  <a:pt x="11658" y="12080"/>
                </a:cubicBezTo>
                <a:cubicBezTo>
                  <a:pt x="11851" y="12056"/>
                  <a:pt x="11679" y="12288"/>
                  <a:pt x="11658" y="12328"/>
                </a:cubicBezTo>
                <a:cubicBezTo>
                  <a:pt x="11642" y="12345"/>
                  <a:pt x="11625" y="12361"/>
                  <a:pt x="11609" y="12378"/>
                </a:cubicBezTo>
                <a:cubicBezTo>
                  <a:pt x="11642" y="12294"/>
                  <a:pt x="11761" y="12247"/>
                  <a:pt x="11807" y="12378"/>
                </a:cubicBezTo>
                <a:cubicBezTo>
                  <a:pt x="11867" y="12549"/>
                  <a:pt x="11671" y="12811"/>
                  <a:pt x="11485" y="12700"/>
                </a:cubicBezTo>
                <a:cubicBezTo>
                  <a:pt x="11477" y="12675"/>
                  <a:pt x="11468" y="12651"/>
                  <a:pt x="11460" y="12626"/>
                </a:cubicBezTo>
              </a:path>
              <a:path w="2580" h="4242">
                <a:moveTo>
                  <a:pt x="11261" y="12998"/>
                </a:moveTo>
                <a:cubicBezTo>
                  <a:pt x="11287" y="12705"/>
                  <a:pt x="11238" y="12441"/>
                  <a:pt x="11162" y="12154"/>
                </a:cubicBezTo>
                <a:cubicBezTo>
                  <a:pt x="11126" y="12031"/>
                  <a:pt x="11110" y="12025"/>
                  <a:pt x="11112" y="11956"/>
                </a:cubicBezTo>
                <a:cubicBezTo>
                  <a:pt x="11311" y="11925"/>
                  <a:pt x="11597" y="11919"/>
                  <a:pt x="11807" y="11906"/>
                </a:cubicBezTo>
                <a:cubicBezTo>
                  <a:pt x="12189" y="11882"/>
                  <a:pt x="12568" y="11852"/>
                  <a:pt x="12948" y="11807"/>
                </a:cubicBezTo>
                <a:cubicBezTo>
                  <a:pt x="12956" y="11807"/>
                  <a:pt x="12965" y="11807"/>
                  <a:pt x="12973" y="11807"/>
                </a:cubicBezTo>
              </a:path>
              <a:path w="2580" h="4242">
                <a:moveTo>
                  <a:pt x="10914" y="12179"/>
                </a:moveTo>
                <a:cubicBezTo>
                  <a:pt x="10784" y="12212"/>
                  <a:pt x="10563" y="12332"/>
                  <a:pt x="10567" y="12502"/>
                </a:cubicBezTo>
                <a:cubicBezTo>
                  <a:pt x="10569" y="12587"/>
                  <a:pt x="10925" y="12692"/>
                  <a:pt x="10988" y="12750"/>
                </a:cubicBezTo>
                <a:cubicBezTo>
                  <a:pt x="10905" y="12860"/>
                  <a:pt x="10868" y="12900"/>
                  <a:pt x="10765" y="12923"/>
                </a:cubicBezTo>
                <a:cubicBezTo>
                  <a:pt x="10660" y="12714"/>
                  <a:pt x="10824" y="12519"/>
                  <a:pt x="10914" y="12278"/>
                </a:cubicBezTo>
                <a:cubicBezTo>
                  <a:pt x="10914" y="12254"/>
                  <a:pt x="10914" y="12246"/>
                  <a:pt x="10889" y="12254"/>
                </a:cubicBezTo>
              </a:path>
              <a:path w="2580" h="4242">
                <a:moveTo>
                  <a:pt x="11584" y="11286"/>
                </a:moveTo>
                <a:cubicBezTo>
                  <a:pt x="11564" y="11345"/>
                  <a:pt x="11495" y="11272"/>
                  <a:pt x="11460" y="11336"/>
                </a:cubicBezTo>
                <a:cubicBezTo>
                  <a:pt x="11376" y="11491"/>
                  <a:pt x="11326" y="11703"/>
                  <a:pt x="11410" y="11832"/>
                </a:cubicBezTo>
                <a:cubicBezTo>
                  <a:pt x="11590" y="11753"/>
                  <a:pt x="11708" y="11610"/>
                  <a:pt x="11683" y="11385"/>
                </a:cubicBezTo>
                <a:cubicBezTo>
                  <a:pt x="11665" y="11229"/>
                  <a:pt x="11545" y="11275"/>
                  <a:pt x="11460" y="11311"/>
                </a:cubicBezTo>
              </a:path>
              <a:path w="2580" h="4242">
                <a:moveTo>
                  <a:pt x="12005" y="12576"/>
                </a:moveTo>
                <a:cubicBezTo>
                  <a:pt x="11961" y="12610"/>
                  <a:pt x="11932" y="12667"/>
                  <a:pt x="11981" y="12700"/>
                </a:cubicBezTo>
                <a:cubicBezTo>
                  <a:pt x="12086" y="12594"/>
                  <a:pt x="12064" y="12588"/>
                  <a:pt x="11931" y="12551"/>
                </a:cubicBezTo>
              </a:path>
              <a:path w="2580" h="4242">
                <a:moveTo>
                  <a:pt x="12030" y="11708"/>
                </a:moveTo>
                <a:cubicBezTo>
                  <a:pt x="11997" y="11700"/>
                  <a:pt x="11960" y="11655"/>
                  <a:pt x="11956" y="11708"/>
                </a:cubicBezTo>
                <a:cubicBezTo>
                  <a:pt x="11956" y="11724"/>
                  <a:pt x="11956" y="11741"/>
                  <a:pt x="11956" y="11757"/>
                </a:cubicBezTo>
                <a:cubicBezTo>
                  <a:pt x="12018" y="11695"/>
                  <a:pt x="12010" y="11699"/>
                  <a:pt x="11981" y="11609"/>
                </a:cubicBezTo>
                <a:cubicBezTo>
                  <a:pt x="11981" y="11666"/>
                  <a:pt x="11953" y="11748"/>
                  <a:pt x="12005" y="11658"/>
                </a:cubicBezTo>
              </a:path>
              <a:path w="2580" h="4242">
                <a:moveTo>
                  <a:pt x="12452" y="12229"/>
                </a:moveTo>
                <a:cubicBezTo>
                  <a:pt x="12437" y="12184"/>
                  <a:pt x="12366" y="12155"/>
                  <a:pt x="12328" y="12229"/>
                </a:cubicBezTo>
                <a:cubicBezTo>
                  <a:pt x="12240" y="12400"/>
                  <a:pt x="12231" y="12572"/>
                  <a:pt x="12328" y="12725"/>
                </a:cubicBezTo>
                <a:cubicBezTo>
                  <a:pt x="12416" y="12608"/>
                  <a:pt x="12542" y="12434"/>
                  <a:pt x="12452" y="12278"/>
                </a:cubicBezTo>
                <a:cubicBezTo>
                  <a:pt x="12408" y="12257"/>
                  <a:pt x="12397" y="12244"/>
                  <a:pt x="12378" y="12278"/>
                </a:cubicBezTo>
              </a:path>
              <a:path w="2580" h="4242">
                <a:moveTo>
                  <a:pt x="12278" y="11261"/>
                </a:moveTo>
                <a:cubicBezTo>
                  <a:pt x="12262" y="11313"/>
                  <a:pt x="12256" y="11277"/>
                  <a:pt x="12278" y="11237"/>
                </a:cubicBezTo>
                <a:cubicBezTo>
                  <a:pt x="12342" y="11118"/>
                  <a:pt x="12354" y="11101"/>
                  <a:pt x="12477" y="11112"/>
                </a:cubicBezTo>
                <a:cubicBezTo>
                  <a:pt x="12486" y="11258"/>
                  <a:pt x="12483" y="11374"/>
                  <a:pt x="12353" y="11460"/>
                </a:cubicBezTo>
                <a:cubicBezTo>
                  <a:pt x="12422" y="11390"/>
                  <a:pt x="12520" y="11346"/>
                  <a:pt x="12576" y="11485"/>
                </a:cubicBezTo>
                <a:cubicBezTo>
                  <a:pt x="12641" y="11647"/>
                  <a:pt x="12464" y="11697"/>
                  <a:pt x="12353" y="11708"/>
                </a:cubicBezTo>
              </a:path>
              <a:path w="2580" h="4242">
                <a:moveTo>
                  <a:pt x="11584" y="13022"/>
                </a:moveTo>
                <a:cubicBezTo>
                  <a:pt x="11584" y="13065"/>
                  <a:pt x="11594" y="13060"/>
                  <a:pt x="11559" y="13072"/>
                </a:cubicBezTo>
                <a:cubicBezTo>
                  <a:pt x="11572" y="13032"/>
                  <a:pt x="11624" y="12913"/>
                  <a:pt x="11708" y="12923"/>
                </a:cubicBezTo>
                <a:cubicBezTo>
                  <a:pt x="11994" y="12957"/>
                  <a:pt x="11693" y="13399"/>
                  <a:pt x="11609" y="13469"/>
                </a:cubicBezTo>
                <a:cubicBezTo>
                  <a:pt x="11516" y="13516"/>
                  <a:pt x="11489" y="13537"/>
                  <a:pt x="11435" y="13469"/>
                </a:cubicBezTo>
                <a:cubicBezTo>
                  <a:pt x="11460" y="13343"/>
                  <a:pt x="11561" y="13176"/>
                  <a:pt x="11733" y="13295"/>
                </a:cubicBezTo>
                <a:cubicBezTo>
                  <a:pt x="11829" y="13361"/>
                  <a:pt x="11783" y="13434"/>
                  <a:pt x="11881" y="13395"/>
                </a:cubicBezTo>
              </a:path>
              <a:path w="2580" h="4242">
                <a:moveTo>
                  <a:pt x="12154" y="12998"/>
                </a:moveTo>
                <a:cubicBezTo>
                  <a:pt x="12154" y="13055"/>
                  <a:pt x="12133" y="13128"/>
                  <a:pt x="12179" y="13146"/>
                </a:cubicBezTo>
                <a:cubicBezTo>
                  <a:pt x="12298" y="13192"/>
                  <a:pt x="12357" y="13134"/>
                  <a:pt x="12452" y="13097"/>
                </a:cubicBezTo>
              </a:path>
              <a:path w="2580" h="4242">
                <a:moveTo>
                  <a:pt x="12328" y="12874"/>
                </a:moveTo>
                <a:cubicBezTo>
                  <a:pt x="12353" y="13066"/>
                  <a:pt x="12360" y="13252"/>
                  <a:pt x="12328" y="13444"/>
                </a:cubicBezTo>
                <a:cubicBezTo>
                  <a:pt x="12328" y="13428"/>
                  <a:pt x="12328" y="13411"/>
                  <a:pt x="12328" y="13395"/>
                </a:cubicBezTo>
              </a:path>
              <a:path w="2580" h="4242">
                <a:moveTo>
                  <a:pt x="11013" y="13246"/>
                </a:moveTo>
                <a:cubicBezTo>
                  <a:pt x="11088" y="13246"/>
                  <a:pt x="11112" y="13246"/>
                  <a:pt x="11162" y="13246"/>
                </a:cubicBezTo>
              </a:path>
              <a:path w="2580" h="4242">
                <a:moveTo>
                  <a:pt x="11509" y="13618"/>
                </a:moveTo>
                <a:cubicBezTo>
                  <a:pt x="11789" y="13623"/>
                  <a:pt x="12102" y="13610"/>
                  <a:pt x="12378" y="13667"/>
                </a:cubicBezTo>
                <a:cubicBezTo>
                  <a:pt x="12394" y="13675"/>
                  <a:pt x="12411" y="13684"/>
                  <a:pt x="12427" y="13692"/>
                </a:cubicBezTo>
              </a:path>
              <a:path w="2580" h="4242">
                <a:moveTo>
                  <a:pt x="12328" y="13940"/>
                </a:moveTo>
                <a:cubicBezTo>
                  <a:pt x="12296" y="14068"/>
                  <a:pt x="12251" y="14243"/>
                  <a:pt x="12254" y="14387"/>
                </a:cubicBezTo>
                <a:cubicBezTo>
                  <a:pt x="12262" y="14412"/>
                  <a:pt x="12270" y="14436"/>
                  <a:pt x="12278" y="14461"/>
                </a:cubicBezTo>
                <a:cubicBezTo>
                  <a:pt x="12477" y="14362"/>
                  <a:pt x="12517" y="14281"/>
                  <a:pt x="12551" y="14064"/>
                </a:cubicBezTo>
                <a:cubicBezTo>
                  <a:pt x="12447" y="14134"/>
                  <a:pt x="12373" y="14259"/>
                  <a:pt x="12452" y="14337"/>
                </a:cubicBezTo>
              </a:path>
              <a:path w="2580" h="4242">
                <a:moveTo>
                  <a:pt x="12898" y="12105"/>
                </a:moveTo>
                <a:cubicBezTo>
                  <a:pt x="12728" y="12189"/>
                  <a:pt x="12703" y="12306"/>
                  <a:pt x="12700" y="12502"/>
                </a:cubicBezTo>
                <a:cubicBezTo>
                  <a:pt x="12708" y="12543"/>
                  <a:pt x="12717" y="12585"/>
                  <a:pt x="12725" y="12626"/>
                </a:cubicBezTo>
                <a:cubicBezTo>
                  <a:pt x="12911" y="12607"/>
                  <a:pt x="13147" y="12466"/>
                  <a:pt x="13022" y="12204"/>
                </a:cubicBezTo>
                <a:cubicBezTo>
                  <a:pt x="12928" y="12133"/>
                  <a:pt x="12899" y="12103"/>
                  <a:pt x="12849" y="12204"/>
                </a:cubicBezTo>
              </a:path>
              <a:path w="2580" h="4242">
                <a:moveTo>
                  <a:pt x="12898" y="12774"/>
                </a:moveTo>
                <a:cubicBezTo>
                  <a:pt x="12874" y="12703"/>
                  <a:pt x="12895" y="12849"/>
                  <a:pt x="12898" y="12923"/>
                </a:cubicBezTo>
                <a:cubicBezTo>
                  <a:pt x="12909" y="13153"/>
                  <a:pt x="12858" y="13431"/>
                  <a:pt x="12923" y="13643"/>
                </a:cubicBezTo>
                <a:cubicBezTo>
                  <a:pt x="12923" y="13651"/>
                  <a:pt x="12923" y="13659"/>
                  <a:pt x="12923" y="13667"/>
                </a:cubicBezTo>
              </a:path>
              <a:path w="2580" h="4242">
                <a:moveTo>
                  <a:pt x="12998" y="14089"/>
                </a:moveTo>
                <a:cubicBezTo>
                  <a:pt x="12945" y="14089"/>
                  <a:pt x="12860" y="14355"/>
                  <a:pt x="12874" y="14461"/>
                </a:cubicBezTo>
                <a:cubicBezTo>
                  <a:pt x="12890" y="14478"/>
                  <a:pt x="12907" y="14494"/>
                  <a:pt x="12923" y="14511"/>
                </a:cubicBezTo>
                <a:cubicBezTo>
                  <a:pt x="13147" y="14497"/>
                  <a:pt x="13213" y="14331"/>
                  <a:pt x="13072" y="14114"/>
                </a:cubicBezTo>
                <a:cubicBezTo>
                  <a:pt x="13047" y="14097"/>
                  <a:pt x="13023" y="14081"/>
                  <a:pt x="12998" y="14064"/>
                </a:cubicBezTo>
              </a:path>
              <a:path w="2580" h="4242">
                <a:moveTo>
                  <a:pt x="12824" y="11112"/>
                </a:moveTo>
                <a:cubicBezTo>
                  <a:pt x="12835" y="11167"/>
                  <a:pt x="12844" y="11201"/>
                  <a:pt x="12849" y="11261"/>
                </a:cubicBezTo>
                <a:cubicBezTo>
                  <a:pt x="12818" y="11154"/>
                  <a:pt x="12742" y="11106"/>
                  <a:pt x="12824" y="11063"/>
                </a:cubicBezTo>
                <a:cubicBezTo>
                  <a:pt x="12893" y="11027"/>
                  <a:pt x="13001" y="10977"/>
                  <a:pt x="13072" y="10964"/>
                </a:cubicBezTo>
                <a:cubicBezTo>
                  <a:pt x="13080" y="10964"/>
                  <a:pt x="13089" y="10964"/>
                  <a:pt x="13097" y="10964"/>
                </a:cubicBezTo>
                <a:cubicBezTo>
                  <a:pt x="13097" y="11171"/>
                  <a:pt x="13048" y="11355"/>
                  <a:pt x="13022" y="11559"/>
                </a:cubicBezTo>
                <a:cubicBezTo>
                  <a:pt x="13021" y="11565"/>
                  <a:pt x="13022" y="11713"/>
                  <a:pt x="13022" y="11584"/>
                </a:cubicBezTo>
              </a:path>
              <a:path w="2580" h="4242">
                <a:moveTo>
                  <a:pt x="12526" y="14709"/>
                </a:moveTo>
                <a:cubicBezTo>
                  <a:pt x="12447" y="14719"/>
                  <a:pt x="12240" y="14724"/>
                  <a:pt x="12179" y="14784"/>
                </a:cubicBezTo>
                <a:cubicBezTo>
                  <a:pt x="12127" y="14835"/>
                  <a:pt x="12237" y="14912"/>
                  <a:pt x="12254" y="14982"/>
                </a:cubicBezTo>
                <a:cubicBezTo>
                  <a:pt x="12254" y="14990"/>
                  <a:pt x="12254" y="14999"/>
                  <a:pt x="12254" y="15007"/>
                </a:cubicBezTo>
                <a:cubicBezTo>
                  <a:pt x="12392" y="14937"/>
                  <a:pt x="12444" y="14909"/>
                  <a:pt x="12576" y="14982"/>
                </a:cubicBezTo>
                <a:cubicBezTo>
                  <a:pt x="12497" y="15161"/>
                  <a:pt x="12453" y="15191"/>
                  <a:pt x="12254" y="15205"/>
                </a:cubicBezTo>
              </a:path>
              <a:path w="2580" h="4242">
                <a:moveTo>
                  <a:pt x="12774" y="14759"/>
                </a:moveTo>
                <a:cubicBezTo>
                  <a:pt x="12774" y="14700"/>
                  <a:pt x="12754" y="14824"/>
                  <a:pt x="12750" y="14883"/>
                </a:cubicBezTo>
                <a:cubicBezTo>
                  <a:pt x="12742" y="14989"/>
                  <a:pt x="12721" y="15103"/>
                  <a:pt x="12799" y="15180"/>
                </a:cubicBezTo>
                <a:cubicBezTo>
                  <a:pt x="12877" y="15136"/>
                  <a:pt x="13096" y="15059"/>
                  <a:pt x="12998" y="14932"/>
                </a:cubicBezTo>
                <a:cubicBezTo>
                  <a:pt x="12990" y="14932"/>
                  <a:pt x="12981" y="14932"/>
                  <a:pt x="12973" y="14932"/>
                </a:cubicBezTo>
                <a:cubicBezTo>
                  <a:pt x="12858" y="15005"/>
                  <a:pt x="12849" y="15033"/>
                  <a:pt x="12849"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05640" y="4000680"/>
            <a:ext cx="2546280" cy="544320"/>
          </a:xfrm>
          <a:custGeom>
            <a:avLst/>
            <a:gdLst/>
            <a:ahLst/>
            <a:rect l="l" t="t" r="r" b="b"/>
            <a:pathLst>
              <a:path w="7071" h="1515">
                <a:moveTo>
                  <a:pt x="16049" y="11658"/>
                </a:moveTo>
                <a:cubicBezTo>
                  <a:pt x="15979" y="11658"/>
                  <a:pt x="15984" y="11653"/>
                  <a:pt x="15925" y="11708"/>
                </a:cubicBezTo>
                <a:cubicBezTo>
                  <a:pt x="15913" y="11719"/>
                  <a:pt x="15853" y="11818"/>
                  <a:pt x="15850" y="11832"/>
                </a:cubicBezTo>
                <a:cubicBezTo>
                  <a:pt x="15835" y="11904"/>
                  <a:pt x="15830" y="12094"/>
                  <a:pt x="15875" y="12154"/>
                </a:cubicBezTo>
              </a:path>
              <a:path w="7071" h="1515">
                <a:moveTo>
                  <a:pt x="16123" y="12204"/>
                </a:moveTo>
                <a:cubicBezTo>
                  <a:pt x="16140" y="12204"/>
                  <a:pt x="16156" y="12204"/>
                  <a:pt x="16173" y="12204"/>
                </a:cubicBezTo>
                <a:cubicBezTo>
                  <a:pt x="16186" y="12164"/>
                  <a:pt x="16197" y="12147"/>
                  <a:pt x="16197" y="12080"/>
                </a:cubicBezTo>
                <a:cubicBezTo>
                  <a:pt x="16197" y="12028"/>
                  <a:pt x="16226" y="11809"/>
                  <a:pt x="16173" y="11782"/>
                </a:cubicBezTo>
                <a:cubicBezTo>
                  <a:pt x="16165" y="11782"/>
                  <a:pt x="16156" y="11782"/>
                  <a:pt x="16148" y="11782"/>
                </a:cubicBezTo>
                <a:cubicBezTo>
                  <a:pt x="16148" y="11740"/>
                  <a:pt x="16158" y="11744"/>
                  <a:pt x="16123" y="11733"/>
                </a:cubicBezTo>
                <a:cubicBezTo>
                  <a:pt x="16111" y="11698"/>
                  <a:pt x="16116" y="11708"/>
                  <a:pt x="16073" y="11708"/>
                </a:cubicBezTo>
                <a:cubicBezTo>
                  <a:pt x="16073" y="11683"/>
                  <a:pt x="16073" y="11675"/>
                  <a:pt x="16073" y="11658"/>
                </a:cubicBezTo>
              </a:path>
              <a:path w="7071" h="1515">
                <a:moveTo>
                  <a:pt x="16694" y="11708"/>
                </a:moveTo>
                <a:cubicBezTo>
                  <a:pt x="16694" y="11675"/>
                  <a:pt x="16681" y="11627"/>
                  <a:pt x="16718" y="11609"/>
                </a:cubicBezTo>
                <a:cubicBezTo>
                  <a:pt x="16747" y="11595"/>
                  <a:pt x="16780" y="11604"/>
                  <a:pt x="16818" y="11584"/>
                </a:cubicBezTo>
                <a:cubicBezTo>
                  <a:pt x="16859" y="11563"/>
                  <a:pt x="16856" y="11539"/>
                  <a:pt x="16892" y="11534"/>
                </a:cubicBezTo>
                <a:cubicBezTo>
                  <a:pt x="16916" y="11531"/>
                  <a:pt x="16942" y="11534"/>
                  <a:pt x="16966" y="11534"/>
                </a:cubicBezTo>
                <a:cubicBezTo>
                  <a:pt x="16966" y="11623"/>
                  <a:pt x="16967" y="11705"/>
                  <a:pt x="16942" y="11782"/>
                </a:cubicBezTo>
                <a:cubicBezTo>
                  <a:pt x="16929" y="11822"/>
                  <a:pt x="16830" y="11813"/>
                  <a:pt x="16867" y="11832"/>
                </a:cubicBezTo>
                <a:cubicBezTo>
                  <a:pt x="16908" y="11852"/>
                  <a:pt x="16992" y="11845"/>
                  <a:pt x="17016" y="11857"/>
                </a:cubicBezTo>
                <a:cubicBezTo>
                  <a:pt x="17045" y="11871"/>
                  <a:pt x="17044" y="11916"/>
                  <a:pt x="17066" y="11931"/>
                </a:cubicBezTo>
                <a:cubicBezTo>
                  <a:pt x="17096" y="11952"/>
                  <a:pt x="17090" y="11955"/>
                  <a:pt x="17090" y="12005"/>
                </a:cubicBezTo>
                <a:cubicBezTo>
                  <a:pt x="17090" y="12091"/>
                  <a:pt x="17075" y="12104"/>
                  <a:pt x="17041" y="12179"/>
                </a:cubicBezTo>
                <a:cubicBezTo>
                  <a:pt x="17027" y="12210"/>
                  <a:pt x="17006" y="12260"/>
                  <a:pt x="16966" y="12278"/>
                </a:cubicBezTo>
                <a:cubicBezTo>
                  <a:pt x="16928" y="12295"/>
                  <a:pt x="16888" y="12323"/>
                  <a:pt x="16842" y="12328"/>
                </a:cubicBezTo>
                <a:cubicBezTo>
                  <a:pt x="16801" y="12332"/>
                  <a:pt x="16790" y="12320"/>
                  <a:pt x="16768" y="12303"/>
                </a:cubicBezTo>
                <a:cubicBezTo>
                  <a:pt x="16736" y="12279"/>
                  <a:pt x="16726" y="12262"/>
                  <a:pt x="16718" y="12229"/>
                </a:cubicBezTo>
              </a:path>
              <a:path w="7071" h="1515">
                <a:moveTo>
                  <a:pt x="17264" y="11609"/>
                </a:moveTo>
                <a:cubicBezTo>
                  <a:pt x="17380" y="11609"/>
                  <a:pt x="17495" y="11609"/>
                  <a:pt x="17611" y="11609"/>
                </a:cubicBezTo>
                <a:cubicBezTo>
                  <a:pt x="17611" y="11758"/>
                  <a:pt x="17611" y="11906"/>
                  <a:pt x="17611" y="12055"/>
                </a:cubicBezTo>
                <a:cubicBezTo>
                  <a:pt x="17575" y="12068"/>
                  <a:pt x="17587" y="12085"/>
                  <a:pt x="17587" y="12129"/>
                </a:cubicBezTo>
                <a:cubicBezTo>
                  <a:pt x="17587" y="12154"/>
                  <a:pt x="17587" y="12162"/>
                  <a:pt x="17587" y="12179"/>
                </a:cubicBezTo>
              </a:path>
              <a:path w="7071" h="1515">
                <a:moveTo>
                  <a:pt x="18256" y="11485"/>
                </a:moveTo>
                <a:cubicBezTo>
                  <a:pt x="18189" y="11485"/>
                  <a:pt x="18140" y="11493"/>
                  <a:pt x="18083" y="11509"/>
                </a:cubicBezTo>
                <a:cubicBezTo>
                  <a:pt x="18041" y="11521"/>
                  <a:pt x="17978" y="11509"/>
                  <a:pt x="17934" y="11509"/>
                </a:cubicBezTo>
                <a:cubicBezTo>
                  <a:pt x="17934" y="11650"/>
                  <a:pt x="17934" y="11790"/>
                  <a:pt x="17934" y="11931"/>
                </a:cubicBezTo>
                <a:cubicBezTo>
                  <a:pt x="17974" y="11921"/>
                  <a:pt x="17985" y="11898"/>
                  <a:pt x="18008" y="11881"/>
                </a:cubicBezTo>
                <a:cubicBezTo>
                  <a:pt x="18040" y="11858"/>
                  <a:pt x="18094" y="11836"/>
                  <a:pt x="18132" y="11832"/>
                </a:cubicBezTo>
                <a:cubicBezTo>
                  <a:pt x="18198" y="11825"/>
                  <a:pt x="18250" y="11841"/>
                  <a:pt x="18281" y="11857"/>
                </a:cubicBezTo>
                <a:cubicBezTo>
                  <a:pt x="18316" y="11874"/>
                  <a:pt x="18306" y="11882"/>
                  <a:pt x="18306" y="11931"/>
                </a:cubicBezTo>
                <a:cubicBezTo>
                  <a:pt x="18306" y="11997"/>
                  <a:pt x="18325" y="12080"/>
                  <a:pt x="18281" y="12129"/>
                </a:cubicBezTo>
                <a:cubicBezTo>
                  <a:pt x="18264" y="12148"/>
                  <a:pt x="18206" y="12193"/>
                  <a:pt x="18182" y="12204"/>
                </a:cubicBezTo>
                <a:cubicBezTo>
                  <a:pt x="18132" y="12226"/>
                  <a:pt x="18070" y="12191"/>
                  <a:pt x="18033" y="12179"/>
                </a:cubicBezTo>
                <a:cubicBezTo>
                  <a:pt x="18025" y="12179"/>
                  <a:pt x="18016" y="12179"/>
                  <a:pt x="18008" y="12179"/>
                </a:cubicBezTo>
              </a:path>
              <a:path w="7071" h="1515">
                <a:moveTo>
                  <a:pt x="16570" y="12477"/>
                </a:moveTo>
                <a:cubicBezTo>
                  <a:pt x="16595" y="12512"/>
                  <a:pt x="16594" y="12508"/>
                  <a:pt x="16594" y="12551"/>
                </a:cubicBezTo>
                <a:cubicBezTo>
                  <a:pt x="16628" y="12562"/>
                  <a:pt x="16625" y="12586"/>
                  <a:pt x="16669" y="12601"/>
                </a:cubicBezTo>
                <a:cubicBezTo>
                  <a:pt x="16677" y="12601"/>
                  <a:pt x="16686" y="12601"/>
                  <a:pt x="16694" y="12601"/>
                </a:cubicBezTo>
                <a:cubicBezTo>
                  <a:pt x="16706" y="12639"/>
                  <a:pt x="16723" y="12626"/>
                  <a:pt x="16768" y="12626"/>
                </a:cubicBezTo>
                <a:cubicBezTo>
                  <a:pt x="16873" y="12626"/>
                  <a:pt x="16975" y="12632"/>
                  <a:pt x="17066" y="12601"/>
                </a:cubicBezTo>
                <a:cubicBezTo>
                  <a:pt x="17074" y="12601"/>
                  <a:pt x="17082" y="12601"/>
                  <a:pt x="17090" y="12601"/>
                </a:cubicBezTo>
                <a:cubicBezTo>
                  <a:pt x="17103" y="12561"/>
                  <a:pt x="17102" y="12591"/>
                  <a:pt x="17115" y="12551"/>
                </a:cubicBezTo>
                <a:cubicBezTo>
                  <a:pt x="17153" y="12538"/>
                  <a:pt x="17136" y="12526"/>
                  <a:pt x="17190" y="12526"/>
                </a:cubicBezTo>
                <a:cubicBezTo>
                  <a:pt x="17231" y="12526"/>
                  <a:pt x="17255" y="12536"/>
                  <a:pt x="17289" y="12551"/>
                </a:cubicBezTo>
                <a:cubicBezTo>
                  <a:pt x="17341" y="12574"/>
                  <a:pt x="17359" y="12576"/>
                  <a:pt x="17413" y="12576"/>
                </a:cubicBezTo>
                <a:cubicBezTo>
                  <a:pt x="17487" y="12576"/>
                  <a:pt x="17562" y="12576"/>
                  <a:pt x="17636" y="12576"/>
                </a:cubicBezTo>
                <a:cubicBezTo>
                  <a:pt x="17656" y="12545"/>
                  <a:pt x="17662" y="12551"/>
                  <a:pt x="17711" y="12551"/>
                </a:cubicBezTo>
                <a:cubicBezTo>
                  <a:pt x="17730" y="12522"/>
                  <a:pt x="17741" y="12530"/>
                  <a:pt x="17760" y="12502"/>
                </a:cubicBezTo>
                <a:cubicBezTo>
                  <a:pt x="17798" y="12489"/>
                  <a:pt x="17781" y="12477"/>
                  <a:pt x="17835" y="12477"/>
                </a:cubicBezTo>
                <a:cubicBezTo>
                  <a:pt x="17835" y="12452"/>
                  <a:pt x="17835" y="12427"/>
                  <a:pt x="17835" y="12402"/>
                </a:cubicBezTo>
              </a:path>
              <a:path w="7071" h="1515">
                <a:moveTo>
                  <a:pt x="18802" y="11857"/>
                </a:moveTo>
                <a:cubicBezTo>
                  <a:pt x="18885" y="11857"/>
                  <a:pt x="18967" y="11857"/>
                  <a:pt x="19050" y="11857"/>
                </a:cubicBezTo>
              </a:path>
              <a:path w="7071" h="1515">
                <a:moveTo>
                  <a:pt x="18876" y="12055"/>
                </a:moveTo>
                <a:cubicBezTo>
                  <a:pt x="18975" y="12055"/>
                  <a:pt x="19075" y="12055"/>
                  <a:pt x="19174" y="12055"/>
                </a:cubicBezTo>
              </a:path>
              <a:path w="7071" h="1515">
                <a:moveTo>
                  <a:pt x="19397" y="11509"/>
                </a:moveTo>
                <a:cubicBezTo>
                  <a:pt x="19494" y="11509"/>
                  <a:pt x="19612" y="11505"/>
                  <a:pt x="19670" y="11534"/>
                </a:cubicBezTo>
                <a:cubicBezTo>
                  <a:pt x="19708" y="11553"/>
                  <a:pt x="19695" y="11577"/>
                  <a:pt x="19695" y="11633"/>
                </a:cubicBezTo>
                <a:cubicBezTo>
                  <a:pt x="19695" y="11682"/>
                  <a:pt x="19631" y="11713"/>
                  <a:pt x="19621" y="11733"/>
                </a:cubicBezTo>
                <a:cubicBezTo>
                  <a:pt x="19621" y="11757"/>
                  <a:pt x="19621" y="11765"/>
                  <a:pt x="19596" y="11757"/>
                </a:cubicBezTo>
                <a:cubicBezTo>
                  <a:pt x="19636" y="11757"/>
                  <a:pt x="19662" y="11735"/>
                  <a:pt x="19670" y="11733"/>
                </a:cubicBezTo>
                <a:cubicBezTo>
                  <a:pt x="19735" y="11716"/>
                  <a:pt x="19825" y="11733"/>
                  <a:pt x="19893" y="11733"/>
                </a:cubicBezTo>
                <a:cubicBezTo>
                  <a:pt x="19893" y="11776"/>
                  <a:pt x="19900" y="11782"/>
                  <a:pt x="19918" y="11807"/>
                </a:cubicBezTo>
                <a:cubicBezTo>
                  <a:pt x="19947" y="11845"/>
                  <a:pt x="19943" y="11858"/>
                  <a:pt x="19943" y="11906"/>
                </a:cubicBezTo>
                <a:cubicBezTo>
                  <a:pt x="19943" y="11950"/>
                  <a:pt x="19966" y="12056"/>
                  <a:pt x="19918" y="12080"/>
                </a:cubicBezTo>
                <a:cubicBezTo>
                  <a:pt x="19880" y="12099"/>
                  <a:pt x="19835" y="12140"/>
                  <a:pt x="19794" y="12154"/>
                </a:cubicBezTo>
                <a:cubicBezTo>
                  <a:pt x="19742" y="12171"/>
                  <a:pt x="19702" y="12179"/>
                  <a:pt x="19645" y="12179"/>
                </a:cubicBezTo>
                <a:cubicBezTo>
                  <a:pt x="19604" y="12179"/>
                  <a:pt x="19562" y="12179"/>
                  <a:pt x="19521" y="12179"/>
                </a:cubicBezTo>
              </a:path>
              <a:path w="7071" h="1515">
                <a:moveTo>
                  <a:pt x="20092" y="11485"/>
                </a:moveTo>
                <a:cubicBezTo>
                  <a:pt x="20092" y="11460"/>
                  <a:pt x="20092" y="11452"/>
                  <a:pt x="20092" y="11435"/>
                </a:cubicBezTo>
                <a:cubicBezTo>
                  <a:pt x="20282" y="11435"/>
                  <a:pt x="20472" y="11435"/>
                  <a:pt x="20662" y="11435"/>
                </a:cubicBezTo>
                <a:cubicBezTo>
                  <a:pt x="20631" y="11443"/>
                  <a:pt x="20580" y="11474"/>
                  <a:pt x="20563" y="11509"/>
                </a:cubicBezTo>
                <a:cubicBezTo>
                  <a:pt x="20533" y="11571"/>
                  <a:pt x="20462" y="11649"/>
                  <a:pt x="20439" y="11708"/>
                </a:cubicBezTo>
                <a:cubicBezTo>
                  <a:pt x="20421" y="11754"/>
                  <a:pt x="20408" y="11810"/>
                  <a:pt x="20389" y="11857"/>
                </a:cubicBezTo>
                <a:cubicBezTo>
                  <a:pt x="20376" y="11888"/>
                  <a:pt x="20384" y="11928"/>
                  <a:pt x="20365" y="11956"/>
                </a:cubicBezTo>
                <a:cubicBezTo>
                  <a:pt x="20339" y="11996"/>
                  <a:pt x="20340" y="12005"/>
                  <a:pt x="20340" y="12055"/>
                </a:cubicBezTo>
                <a:cubicBezTo>
                  <a:pt x="20340" y="12105"/>
                  <a:pt x="20340" y="12154"/>
                  <a:pt x="20340" y="12204"/>
                </a:cubicBezTo>
              </a:path>
              <a:path w="7071" h="1515">
                <a:moveTo>
                  <a:pt x="20762" y="12030"/>
                </a:moveTo>
                <a:cubicBezTo>
                  <a:pt x="20751" y="12030"/>
                  <a:pt x="20645" y="12030"/>
                  <a:pt x="20712" y="12030"/>
                </a:cubicBezTo>
              </a:path>
              <a:path w="7071" h="1515">
                <a:moveTo>
                  <a:pt x="21431" y="11286"/>
                </a:moveTo>
                <a:cubicBezTo>
                  <a:pt x="21380" y="11286"/>
                  <a:pt x="21345" y="11277"/>
                  <a:pt x="21307" y="11311"/>
                </a:cubicBezTo>
                <a:cubicBezTo>
                  <a:pt x="21272" y="11342"/>
                  <a:pt x="21254" y="11336"/>
                  <a:pt x="21208" y="11336"/>
                </a:cubicBezTo>
                <a:cubicBezTo>
                  <a:pt x="21200" y="11336"/>
                  <a:pt x="21191" y="11336"/>
                  <a:pt x="21183" y="11336"/>
                </a:cubicBezTo>
                <a:cubicBezTo>
                  <a:pt x="21183" y="11468"/>
                  <a:pt x="21183" y="11601"/>
                  <a:pt x="21183" y="11733"/>
                </a:cubicBezTo>
                <a:cubicBezTo>
                  <a:pt x="21211" y="11733"/>
                  <a:pt x="21268" y="11722"/>
                  <a:pt x="21282" y="11708"/>
                </a:cubicBezTo>
                <a:cubicBezTo>
                  <a:pt x="21293" y="11697"/>
                  <a:pt x="21349" y="11693"/>
                  <a:pt x="21357" y="11683"/>
                </a:cubicBezTo>
                <a:cubicBezTo>
                  <a:pt x="21380" y="11654"/>
                  <a:pt x="21378" y="11658"/>
                  <a:pt x="21431" y="11658"/>
                </a:cubicBezTo>
                <a:cubicBezTo>
                  <a:pt x="21498" y="11658"/>
                  <a:pt x="21546" y="11666"/>
                  <a:pt x="21580" y="11683"/>
                </a:cubicBezTo>
                <a:cubicBezTo>
                  <a:pt x="21612" y="11699"/>
                  <a:pt x="21605" y="11687"/>
                  <a:pt x="21605" y="11733"/>
                </a:cubicBezTo>
              </a:path>
              <a:path w="7071" h="1515">
                <a:moveTo>
                  <a:pt x="21382" y="12005"/>
                </a:moveTo>
                <a:cubicBezTo>
                  <a:pt x="21343" y="12015"/>
                  <a:pt x="21322" y="12048"/>
                  <a:pt x="21307" y="12055"/>
                </a:cubicBezTo>
                <a:cubicBezTo>
                  <a:pt x="21275" y="12071"/>
                  <a:pt x="21194" y="12055"/>
                  <a:pt x="21158" y="12055"/>
                </a:cubicBezTo>
                <a:cubicBezTo>
                  <a:pt x="21170" y="12019"/>
                  <a:pt x="21194" y="12022"/>
                  <a:pt x="21233" y="12005"/>
                </a:cubicBezTo>
                <a:cubicBezTo>
                  <a:pt x="21271" y="11989"/>
                  <a:pt x="21318" y="11963"/>
                  <a:pt x="21332" y="11956"/>
                </a:cubicBezTo>
                <a:cubicBezTo>
                  <a:pt x="21373" y="11936"/>
                  <a:pt x="21420" y="11912"/>
                  <a:pt x="21456" y="11881"/>
                </a:cubicBezTo>
                <a:cubicBezTo>
                  <a:pt x="21490" y="11852"/>
                  <a:pt x="21515" y="11854"/>
                  <a:pt x="21530" y="11807"/>
                </a:cubicBezTo>
                <a:cubicBezTo>
                  <a:pt x="21530" y="11782"/>
                  <a:pt x="21530" y="11774"/>
                  <a:pt x="21530" y="11757"/>
                </a:cubicBezTo>
              </a:path>
              <a:path w="7071" h="1515">
                <a:moveTo>
                  <a:pt x="22275" y="11112"/>
                </a:moveTo>
                <a:cubicBezTo>
                  <a:pt x="22213" y="11112"/>
                  <a:pt x="22153" y="11101"/>
                  <a:pt x="22126" y="11137"/>
                </a:cubicBezTo>
                <a:cubicBezTo>
                  <a:pt x="22103" y="11168"/>
                  <a:pt x="22080" y="11198"/>
                  <a:pt x="22076" y="11237"/>
                </a:cubicBezTo>
                <a:cubicBezTo>
                  <a:pt x="22071" y="11278"/>
                  <a:pt x="22059" y="11389"/>
                  <a:pt x="22101" y="11410"/>
                </a:cubicBezTo>
                <a:cubicBezTo>
                  <a:pt x="22133" y="11426"/>
                  <a:pt x="22149" y="11457"/>
                  <a:pt x="22175" y="11460"/>
                </a:cubicBezTo>
                <a:cubicBezTo>
                  <a:pt x="22226" y="11467"/>
                  <a:pt x="22212" y="11480"/>
                  <a:pt x="22250" y="11485"/>
                </a:cubicBezTo>
                <a:cubicBezTo>
                  <a:pt x="22281" y="11489"/>
                  <a:pt x="22319" y="11485"/>
                  <a:pt x="22349" y="11485"/>
                </a:cubicBezTo>
                <a:cubicBezTo>
                  <a:pt x="22349" y="11414"/>
                  <a:pt x="22367" y="11292"/>
                  <a:pt x="22324" y="11261"/>
                </a:cubicBezTo>
                <a:cubicBezTo>
                  <a:pt x="22301" y="11239"/>
                  <a:pt x="22293" y="11234"/>
                  <a:pt x="22299" y="11212"/>
                </a:cubicBezTo>
                <a:cubicBezTo>
                  <a:pt x="22423" y="11212"/>
                  <a:pt x="22547" y="11212"/>
                  <a:pt x="22671" y="11212"/>
                </a:cubicBezTo>
                <a:cubicBezTo>
                  <a:pt x="22671" y="11286"/>
                  <a:pt x="22659" y="11350"/>
                  <a:pt x="22647" y="11410"/>
                </a:cubicBezTo>
                <a:cubicBezTo>
                  <a:pt x="22636" y="11468"/>
                  <a:pt x="22644" y="11508"/>
                  <a:pt x="22622" y="11559"/>
                </a:cubicBezTo>
                <a:cubicBezTo>
                  <a:pt x="22598" y="11616"/>
                  <a:pt x="22591" y="11655"/>
                  <a:pt x="22572" y="11708"/>
                </a:cubicBezTo>
                <a:cubicBezTo>
                  <a:pt x="22554" y="11757"/>
                  <a:pt x="22521" y="11791"/>
                  <a:pt x="22498" y="11832"/>
                </a:cubicBezTo>
                <a:cubicBezTo>
                  <a:pt x="22478" y="11866"/>
                  <a:pt x="22452" y="11920"/>
                  <a:pt x="22448" y="11956"/>
                </a:cubicBezTo>
                <a:cubicBezTo>
                  <a:pt x="22448" y="11981"/>
                  <a:pt x="22448" y="11989"/>
                  <a:pt x="22448" y="12005"/>
                </a:cubicBezTo>
              </a:path>
              <a:path w="7071" h="1515">
                <a:moveTo>
                  <a:pt x="22746" y="11906"/>
                </a:moveTo>
                <a:cubicBezTo>
                  <a:pt x="22746" y="11955"/>
                  <a:pt x="22721" y="12105"/>
                  <a:pt x="22771" y="12129"/>
                </a:cubicBezTo>
                <a:cubicBezTo>
                  <a:pt x="22804" y="12145"/>
                  <a:pt x="22830" y="12154"/>
                  <a:pt x="22870" y="12154"/>
                </a:cubicBezTo>
                <a:cubicBezTo>
                  <a:pt x="22895" y="12154"/>
                  <a:pt x="22903" y="12154"/>
                  <a:pt x="22920" y="12154"/>
                </a:cubicBezTo>
                <a:cubicBezTo>
                  <a:pt x="22920" y="12077"/>
                  <a:pt x="22917" y="12020"/>
                  <a:pt x="22895" y="11956"/>
                </a:cubicBezTo>
                <a:cubicBezTo>
                  <a:pt x="22884" y="11923"/>
                  <a:pt x="22855" y="11926"/>
                  <a:pt x="22845" y="11906"/>
                </a:cubicBezTo>
                <a:cubicBezTo>
                  <a:pt x="22832" y="11879"/>
                  <a:pt x="22814" y="11862"/>
                  <a:pt x="22771" y="11857"/>
                </a:cubicBezTo>
                <a:cubicBezTo>
                  <a:pt x="22747" y="11854"/>
                  <a:pt x="22720" y="11857"/>
                  <a:pt x="22696"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49800" y="3956040"/>
            <a:ext cx="822240" cy="2394000"/>
          </a:xfrm>
          <a:custGeom>
            <a:avLst/>
            <a:gdLst/>
            <a:ahLst/>
            <a:rect l="l" t="t" r="r" b="b"/>
            <a:pathLst>
              <a:path w="2283" h="6649">
                <a:moveTo>
                  <a:pt x="11807" y="15404"/>
                </a:moveTo>
                <a:cubicBezTo>
                  <a:pt x="12196" y="15392"/>
                  <a:pt x="12583" y="15358"/>
                  <a:pt x="12973" y="15354"/>
                </a:cubicBezTo>
                <a:cubicBezTo>
                  <a:pt x="13131" y="15352"/>
                  <a:pt x="13266" y="15366"/>
                  <a:pt x="13419" y="15379"/>
                </a:cubicBezTo>
              </a:path>
              <a:path w="2283" h="6649">
                <a:moveTo>
                  <a:pt x="12824" y="15528"/>
                </a:moveTo>
                <a:cubicBezTo>
                  <a:pt x="12888" y="15464"/>
                  <a:pt x="12795" y="15638"/>
                  <a:pt x="12774" y="15726"/>
                </a:cubicBezTo>
                <a:cubicBezTo>
                  <a:pt x="12774" y="15743"/>
                  <a:pt x="12774" y="15759"/>
                  <a:pt x="12774" y="15776"/>
                </a:cubicBezTo>
                <a:cubicBezTo>
                  <a:pt x="12835" y="15776"/>
                  <a:pt x="12945" y="15788"/>
                  <a:pt x="12998" y="15751"/>
                </a:cubicBezTo>
                <a:cubicBezTo>
                  <a:pt x="13014" y="15734"/>
                  <a:pt x="13031" y="15718"/>
                  <a:pt x="13047" y="15701"/>
                </a:cubicBezTo>
              </a:path>
              <a:path w="2283" h="6649">
                <a:moveTo>
                  <a:pt x="13047" y="15553"/>
                </a:moveTo>
                <a:cubicBezTo>
                  <a:pt x="13009" y="15725"/>
                  <a:pt x="12917" y="16240"/>
                  <a:pt x="12973" y="16073"/>
                </a:cubicBezTo>
                <a:cubicBezTo>
                  <a:pt x="12981" y="16032"/>
                  <a:pt x="12990" y="15990"/>
                  <a:pt x="12998" y="15949"/>
                </a:cubicBezTo>
              </a:path>
              <a:path w="2283" h="6649">
                <a:moveTo>
                  <a:pt x="13444" y="12179"/>
                </a:moveTo>
                <a:cubicBezTo>
                  <a:pt x="13335" y="12179"/>
                  <a:pt x="13342" y="12157"/>
                  <a:pt x="13295" y="12303"/>
                </a:cubicBezTo>
                <a:cubicBezTo>
                  <a:pt x="13273" y="12418"/>
                  <a:pt x="13265" y="12450"/>
                  <a:pt x="13271" y="12526"/>
                </a:cubicBezTo>
                <a:cubicBezTo>
                  <a:pt x="13463" y="12488"/>
                  <a:pt x="13492" y="12368"/>
                  <a:pt x="13444" y="12179"/>
                </a:cubicBezTo>
                <a:cubicBezTo>
                  <a:pt x="13411" y="12179"/>
                  <a:pt x="13395" y="12179"/>
                  <a:pt x="13370" y="12179"/>
                </a:cubicBezTo>
              </a:path>
              <a:path w="2283" h="6649">
                <a:moveTo>
                  <a:pt x="13395" y="12650"/>
                </a:moveTo>
                <a:cubicBezTo>
                  <a:pt x="13395" y="13014"/>
                  <a:pt x="13357" y="13379"/>
                  <a:pt x="13370" y="13742"/>
                </a:cubicBezTo>
                <a:cubicBezTo>
                  <a:pt x="13384" y="14131"/>
                  <a:pt x="13395" y="14518"/>
                  <a:pt x="13395" y="14908"/>
                </a:cubicBezTo>
                <a:cubicBezTo>
                  <a:pt x="13395" y="15055"/>
                  <a:pt x="13388" y="15192"/>
                  <a:pt x="13370" y="15329"/>
                </a:cubicBezTo>
                <a:cubicBezTo>
                  <a:pt x="13370" y="15404"/>
                  <a:pt x="13370" y="15428"/>
                  <a:pt x="13370" y="15478"/>
                </a:cubicBezTo>
              </a:path>
              <a:path w="2283" h="6649">
                <a:moveTo>
                  <a:pt x="13593" y="10988"/>
                </a:moveTo>
                <a:cubicBezTo>
                  <a:pt x="13494" y="10988"/>
                  <a:pt x="13394" y="10988"/>
                  <a:pt x="13295" y="10988"/>
                </a:cubicBezTo>
                <a:cubicBezTo>
                  <a:pt x="13295" y="11079"/>
                  <a:pt x="13295" y="11170"/>
                  <a:pt x="13295" y="11261"/>
                </a:cubicBezTo>
                <a:cubicBezTo>
                  <a:pt x="13411" y="11261"/>
                  <a:pt x="13527" y="11261"/>
                  <a:pt x="13643" y="11261"/>
                </a:cubicBezTo>
                <a:cubicBezTo>
                  <a:pt x="13643" y="11334"/>
                  <a:pt x="13638" y="11396"/>
                  <a:pt x="13618" y="11435"/>
                </a:cubicBezTo>
                <a:cubicBezTo>
                  <a:pt x="13601" y="11469"/>
                  <a:pt x="13607" y="11504"/>
                  <a:pt x="13568" y="11509"/>
                </a:cubicBezTo>
                <a:cubicBezTo>
                  <a:pt x="13527" y="11514"/>
                  <a:pt x="13520" y="11527"/>
                  <a:pt x="13494" y="11559"/>
                </a:cubicBezTo>
                <a:cubicBezTo>
                  <a:pt x="13475" y="11583"/>
                  <a:pt x="13483" y="11604"/>
                  <a:pt x="13444" y="11609"/>
                </a:cubicBezTo>
                <a:cubicBezTo>
                  <a:pt x="13404" y="11614"/>
                  <a:pt x="13390" y="11633"/>
                  <a:pt x="13345" y="11633"/>
                </a:cubicBezTo>
                <a:cubicBezTo>
                  <a:pt x="13309" y="11633"/>
                  <a:pt x="13241" y="11649"/>
                  <a:pt x="13221" y="11609"/>
                </a:cubicBezTo>
                <a:cubicBezTo>
                  <a:pt x="13205" y="11577"/>
                  <a:pt x="13196" y="11584"/>
                  <a:pt x="13196" y="11534"/>
                </a:cubicBezTo>
              </a:path>
              <a:path w="2283" h="6649">
                <a:moveTo>
                  <a:pt x="13419" y="15677"/>
                </a:moveTo>
                <a:cubicBezTo>
                  <a:pt x="13384" y="15677"/>
                  <a:pt x="13346" y="15684"/>
                  <a:pt x="13320" y="15701"/>
                </a:cubicBezTo>
                <a:cubicBezTo>
                  <a:pt x="13286" y="15724"/>
                  <a:pt x="13278" y="15747"/>
                  <a:pt x="13246" y="15776"/>
                </a:cubicBezTo>
                <a:cubicBezTo>
                  <a:pt x="13212" y="15806"/>
                  <a:pt x="13221" y="15832"/>
                  <a:pt x="13221" y="15875"/>
                </a:cubicBezTo>
                <a:cubicBezTo>
                  <a:pt x="13221" y="15900"/>
                  <a:pt x="13221" y="15908"/>
                  <a:pt x="13221" y="15925"/>
                </a:cubicBezTo>
                <a:cubicBezTo>
                  <a:pt x="13252" y="15925"/>
                  <a:pt x="13287" y="15932"/>
                  <a:pt x="13295" y="15949"/>
                </a:cubicBezTo>
                <a:cubicBezTo>
                  <a:pt x="13312" y="15984"/>
                  <a:pt x="13322" y="15974"/>
                  <a:pt x="13370" y="15974"/>
                </a:cubicBezTo>
                <a:cubicBezTo>
                  <a:pt x="13411" y="15974"/>
                  <a:pt x="13456" y="15974"/>
                  <a:pt x="13469" y="15949"/>
                </a:cubicBezTo>
                <a:cubicBezTo>
                  <a:pt x="13493" y="15903"/>
                  <a:pt x="13472" y="15735"/>
                  <a:pt x="13444" y="15726"/>
                </a:cubicBezTo>
              </a:path>
              <a:path w="2283" h="6649">
                <a:moveTo>
                  <a:pt x="12923" y="16421"/>
                </a:moveTo>
                <a:cubicBezTo>
                  <a:pt x="12909" y="16474"/>
                  <a:pt x="12879" y="16482"/>
                  <a:pt x="12874" y="16545"/>
                </a:cubicBezTo>
                <a:cubicBezTo>
                  <a:pt x="12871" y="16586"/>
                  <a:pt x="12874" y="16628"/>
                  <a:pt x="12874" y="16669"/>
                </a:cubicBezTo>
                <a:cubicBezTo>
                  <a:pt x="12940" y="16669"/>
                  <a:pt x="13006" y="16669"/>
                  <a:pt x="13072" y="16669"/>
                </a:cubicBezTo>
              </a:path>
              <a:path w="2283" h="6649">
                <a:moveTo>
                  <a:pt x="13022" y="16594"/>
                </a:moveTo>
                <a:cubicBezTo>
                  <a:pt x="13022" y="16718"/>
                  <a:pt x="13022" y="16842"/>
                  <a:pt x="13022" y="16966"/>
                </a:cubicBezTo>
              </a:path>
              <a:path w="2283" h="6649">
                <a:moveTo>
                  <a:pt x="13444" y="16495"/>
                </a:moveTo>
                <a:cubicBezTo>
                  <a:pt x="13393" y="16495"/>
                  <a:pt x="13358" y="16486"/>
                  <a:pt x="13320" y="16520"/>
                </a:cubicBezTo>
                <a:cubicBezTo>
                  <a:pt x="13289" y="16547"/>
                  <a:pt x="13258" y="16609"/>
                  <a:pt x="13246" y="16644"/>
                </a:cubicBezTo>
                <a:cubicBezTo>
                  <a:pt x="13222" y="16717"/>
                  <a:pt x="13249" y="16781"/>
                  <a:pt x="13295" y="16818"/>
                </a:cubicBezTo>
                <a:cubicBezTo>
                  <a:pt x="13335" y="16850"/>
                  <a:pt x="13369" y="16842"/>
                  <a:pt x="13419" y="16842"/>
                </a:cubicBezTo>
                <a:cubicBezTo>
                  <a:pt x="13452" y="16842"/>
                  <a:pt x="13486" y="16842"/>
                  <a:pt x="13519" y="16842"/>
                </a:cubicBezTo>
                <a:cubicBezTo>
                  <a:pt x="13519" y="16769"/>
                  <a:pt x="13514" y="16708"/>
                  <a:pt x="13494" y="16669"/>
                </a:cubicBezTo>
                <a:cubicBezTo>
                  <a:pt x="13468" y="16617"/>
                  <a:pt x="13470" y="16651"/>
                  <a:pt x="13444" y="16619"/>
                </a:cubicBezTo>
                <a:cubicBezTo>
                  <a:pt x="13423" y="16592"/>
                  <a:pt x="13445" y="16594"/>
                  <a:pt x="13395" y="16594"/>
                </a:cubicBezTo>
              </a:path>
              <a:path w="2283" h="6649">
                <a:moveTo>
                  <a:pt x="12254" y="16644"/>
                </a:moveTo>
                <a:cubicBezTo>
                  <a:pt x="12303" y="16644"/>
                  <a:pt x="12353" y="16644"/>
                  <a:pt x="12402" y="16644"/>
                </a:cubicBezTo>
              </a:path>
              <a:path w="2283" h="6649">
                <a:moveTo>
                  <a:pt x="12675" y="17140"/>
                </a:moveTo>
                <a:cubicBezTo>
                  <a:pt x="12696" y="17109"/>
                  <a:pt x="12841" y="17095"/>
                  <a:pt x="12898" y="17090"/>
                </a:cubicBezTo>
                <a:cubicBezTo>
                  <a:pt x="13250" y="17060"/>
                  <a:pt x="13688" y="17173"/>
                  <a:pt x="14015" y="17066"/>
                </a:cubicBezTo>
                <a:cubicBezTo>
                  <a:pt x="14034" y="17060"/>
                  <a:pt x="14069" y="17066"/>
                  <a:pt x="14089" y="17066"/>
                </a:cubicBezTo>
              </a:path>
              <a:path w="2283" h="6649">
                <a:moveTo>
                  <a:pt x="13667" y="17264"/>
                </a:moveTo>
                <a:cubicBezTo>
                  <a:pt x="13613" y="17264"/>
                  <a:pt x="13618" y="17271"/>
                  <a:pt x="13593" y="17289"/>
                </a:cubicBezTo>
                <a:cubicBezTo>
                  <a:pt x="13536" y="17331"/>
                  <a:pt x="13547" y="17325"/>
                  <a:pt x="13519" y="17363"/>
                </a:cubicBezTo>
                <a:cubicBezTo>
                  <a:pt x="13503" y="17385"/>
                  <a:pt x="13479" y="17433"/>
                  <a:pt x="13469" y="17438"/>
                </a:cubicBezTo>
                <a:cubicBezTo>
                  <a:pt x="13434" y="17455"/>
                  <a:pt x="13444" y="17463"/>
                  <a:pt x="13444" y="17512"/>
                </a:cubicBezTo>
                <a:cubicBezTo>
                  <a:pt x="13444" y="17564"/>
                  <a:pt x="13458" y="17565"/>
                  <a:pt x="13469" y="17587"/>
                </a:cubicBezTo>
                <a:cubicBezTo>
                  <a:pt x="13482" y="17612"/>
                  <a:pt x="13501" y="17631"/>
                  <a:pt x="13543" y="17636"/>
                </a:cubicBezTo>
                <a:cubicBezTo>
                  <a:pt x="13582" y="17640"/>
                  <a:pt x="13672" y="17651"/>
                  <a:pt x="13692" y="17611"/>
                </a:cubicBezTo>
                <a:cubicBezTo>
                  <a:pt x="13708" y="17579"/>
                  <a:pt x="13717" y="17587"/>
                  <a:pt x="13717" y="17537"/>
                </a:cubicBezTo>
                <a:cubicBezTo>
                  <a:pt x="13717" y="17463"/>
                  <a:pt x="13737" y="17323"/>
                  <a:pt x="13692" y="17289"/>
                </a:cubicBezTo>
                <a:cubicBezTo>
                  <a:pt x="13656" y="17262"/>
                  <a:pt x="13654" y="17272"/>
                  <a:pt x="13643" y="172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00680" y="2214720"/>
            <a:ext cx="134640" cy="80640"/>
          </a:xfrm>
          <a:custGeom>
            <a:avLst/>
            <a:gdLst/>
            <a:ahLst/>
            <a:rect l="l" t="t" r="r" b="b"/>
            <a:pathLst>
              <a:path w="374" h="224">
                <a:moveTo>
                  <a:pt x="11137" y="6226"/>
                </a:moveTo>
                <a:cubicBezTo>
                  <a:pt x="11091" y="6180"/>
                  <a:pt x="11332" y="6190"/>
                  <a:pt x="11385" y="6176"/>
                </a:cubicBezTo>
                <a:cubicBezTo>
                  <a:pt x="11425" y="6165"/>
                  <a:pt x="11417" y="6125"/>
                  <a:pt x="11435" y="6176"/>
                </a:cubicBezTo>
              </a:path>
              <a:path w="374" h="224">
                <a:moveTo>
                  <a:pt x="11187" y="6375"/>
                </a:moveTo>
                <a:cubicBezTo>
                  <a:pt x="11293" y="6375"/>
                  <a:pt x="11383" y="6367"/>
                  <a:pt x="11485" y="6350"/>
                </a:cubicBezTo>
              </a:path>
            </a:pathLst>
          </a:custGeom>
          <a:noFill/>
          <a:ln cap="rnd" w="19080">
            <a:solidFill>
              <a:srgbClr val="ff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4303800" y="2125800"/>
            <a:ext cx="36360" cy="231480"/>
          </a:xfrm>
          <a:custGeom>
            <a:avLst/>
            <a:gdLst/>
            <a:ahLst/>
            <a:rect l="l" t="t" r="r" b="b"/>
            <a:pathLst>
              <a:path w="100" h="645">
                <a:moveTo>
                  <a:pt x="12055" y="5953"/>
                </a:moveTo>
                <a:cubicBezTo>
                  <a:pt x="12055" y="5928"/>
                  <a:pt x="12055" y="5920"/>
                  <a:pt x="12055" y="5904"/>
                </a:cubicBezTo>
                <a:cubicBezTo>
                  <a:pt x="12012" y="6052"/>
                  <a:pt x="11985" y="6164"/>
                  <a:pt x="11981" y="6325"/>
                </a:cubicBezTo>
                <a:cubicBezTo>
                  <a:pt x="11979" y="6408"/>
                  <a:pt x="11972" y="6471"/>
                  <a:pt x="11956" y="65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46720" y="2098800"/>
            <a:ext cx="519120" cy="347400"/>
          </a:xfrm>
          <a:custGeom>
            <a:avLst/>
            <a:gdLst/>
            <a:ahLst/>
            <a:rect l="l" t="t" r="r" b="b"/>
            <a:pathLst>
              <a:path w="1439" h="968">
                <a:moveTo>
                  <a:pt x="12750" y="5854"/>
                </a:moveTo>
                <a:cubicBezTo>
                  <a:pt x="12694" y="5854"/>
                  <a:pt x="12545" y="5839"/>
                  <a:pt x="12502" y="5879"/>
                </a:cubicBezTo>
                <a:cubicBezTo>
                  <a:pt x="12414" y="5961"/>
                  <a:pt x="12402" y="6089"/>
                  <a:pt x="12402" y="6201"/>
                </a:cubicBezTo>
                <a:cubicBezTo>
                  <a:pt x="12475" y="6201"/>
                  <a:pt x="12526" y="6162"/>
                  <a:pt x="12601" y="6152"/>
                </a:cubicBezTo>
                <a:cubicBezTo>
                  <a:pt x="12734" y="6134"/>
                  <a:pt x="12786" y="6198"/>
                  <a:pt x="12799" y="6325"/>
                </a:cubicBezTo>
                <a:cubicBezTo>
                  <a:pt x="12823" y="6559"/>
                  <a:pt x="12668" y="6601"/>
                  <a:pt x="12477" y="6573"/>
                </a:cubicBezTo>
                <a:cubicBezTo>
                  <a:pt x="12403" y="6554"/>
                  <a:pt x="12396" y="6546"/>
                  <a:pt x="12353" y="6548"/>
                </a:cubicBezTo>
              </a:path>
              <a:path w="1439" h="968">
                <a:moveTo>
                  <a:pt x="13271" y="5978"/>
                </a:moveTo>
                <a:cubicBezTo>
                  <a:pt x="13246" y="5902"/>
                  <a:pt x="13175" y="5982"/>
                  <a:pt x="13146" y="6028"/>
                </a:cubicBezTo>
                <a:cubicBezTo>
                  <a:pt x="13068" y="6155"/>
                  <a:pt x="13100" y="6149"/>
                  <a:pt x="13196" y="6226"/>
                </a:cubicBezTo>
                <a:cubicBezTo>
                  <a:pt x="13359" y="6123"/>
                  <a:pt x="13281" y="6088"/>
                  <a:pt x="13295" y="5928"/>
                </a:cubicBezTo>
                <a:cubicBezTo>
                  <a:pt x="13312" y="5739"/>
                  <a:pt x="13540" y="5850"/>
                  <a:pt x="13568" y="5978"/>
                </a:cubicBezTo>
                <a:cubicBezTo>
                  <a:pt x="13615" y="6196"/>
                  <a:pt x="13441" y="6455"/>
                  <a:pt x="13320" y="6623"/>
                </a:cubicBezTo>
                <a:cubicBezTo>
                  <a:pt x="13304" y="6639"/>
                  <a:pt x="13287" y="6656"/>
                  <a:pt x="13271" y="6672"/>
                </a:cubicBezTo>
              </a:path>
              <a:path w="1439" h="968">
                <a:moveTo>
                  <a:pt x="13692" y="6573"/>
                </a:moveTo>
                <a:cubicBezTo>
                  <a:pt x="13621" y="6649"/>
                  <a:pt x="13574" y="6680"/>
                  <a:pt x="13543" y="6772"/>
                </a:cubicBezTo>
                <a:cubicBezTo>
                  <a:pt x="13672" y="6787"/>
                  <a:pt x="13687" y="6796"/>
                  <a:pt x="13791" y="6722"/>
                </a:cubicBezTo>
                <a:cubicBezTo>
                  <a:pt x="13770" y="6638"/>
                  <a:pt x="13734" y="6627"/>
                  <a:pt x="13667" y="65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29080" y="1616040"/>
            <a:ext cx="1822320" cy="135000"/>
          </a:xfrm>
          <a:custGeom>
            <a:avLst/>
            <a:gdLst/>
            <a:ahLst/>
            <a:rect l="l" t="t" r="r" b="b"/>
            <a:pathLst>
              <a:path w="5061" h="373">
                <a:moveTo>
                  <a:pt x="12303" y="4837"/>
                </a:moveTo>
                <a:cubicBezTo>
                  <a:pt x="12432" y="4848"/>
                  <a:pt x="12544" y="4852"/>
                  <a:pt x="12675" y="4837"/>
                </a:cubicBezTo>
                <a:cubicBezTo>
                  <a:pt x="12800" y="4823"/>
                  <a:pt x="12918" y="4812"/>
                  <a:pt x="13047" y="4812"/>
                </a:cubicBezTo>
                <a:cubicBezTo>
                  <a:pt x="13198" y="4812"/>
                  <a:pt x="13345" y="4807"/>
                  <a:pt x="13494" y="4787"/>
                </a:cubicBezTo>
                <a:cubicBezTo>
                  <a:pt x="13599" y="4773"/>
                  <a:pt x="13710" y="4755"/>
                  <a:pt x="13816" y="4738"/>
                </a:cubicBezTo>
                <a:cubicBezTo>
                  <a:pt x="13959" y="4715"/>
                  <a:pt x="14091" y="4673"/>
                  <a:pt x="14238" y="4663"/>
                </a:cubicBezTo>
                <a:cubicBezTo>
                  <a:pt x="14430" y="4650"/>
                  <a:pt x="14616" y="4661"/>
                  <a:pt x="14808" y="4638"/>
                </a:cubicBezTo>
                <a:cubicBezTo>
                  <a:pt x="15229" y="4588"/>
                  <a:pt x="15650" y="4533"/>
                  <a:pt x="16073" y="4514"/>
                </a:cubicBezTo>
                <a:cubicBezTo>
                  <a:pt x="16462" y="4497"/>
                  <a:pt x="16851" y="4516"/>
                  <a:pt x="17239" y="4490"/>
                </a:cubicBezTo>
                <a:cubicBezTo>
                  <a:pt x="17329" y="4484"/>
                  <a:pt x="17344" y="4512"/>
                  <a:pt x="17363"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50" name=""/>
          <p:cNvGraphicFramePr/>
          <p:nvPr/>
        </p:nvGraphicFramePr>
        <p:xfrm>
          <a:off x="3200400" y="1523880"/>
          <a:ext cx="371520" cy="959040"/>
        </p:xfrm>
        <a:graphic>
          <a:graphicData uri="http://schemas.openxmlformats.org/presentationml/2006/ole">
            <p:oleObj r:id="rId1" spid="">
              <p:embed/>
              <p:pic>
                <p:nvPicPr>
                  <p:cNvPr id="151" name="" descr=""/>
                  <p:cNvPicPr/>
                  <p:nvPr/>
                </p:nvPicPr>
                <p:blipFill>
                  <a:blip r:embed="rId2"/>
                  <a:stretch/>
                </p:blipFill>
                <p:spPr>
                  <a:xfrm>
                    <a:off x="3200400" y="1523880"/>
                    <a:ext cx="371520" cy="959040"/>
                  </a:xfrm>
                  <a:prstGeom prst="rect">
                    <a:avLst/>
                  </a:prstGeom>
                  <a:ln w="0">
                    <a:noFill/>
                  </a:ln>
                </p:spPr>
              </p:pic>
            </p:oleObj>
          </a:graphicData>
        </a:graphic>
      </p:graphicFrame>
      <p:graphicFrame>
        <p:nvGraphicFramePr>
          <p:cNvPr id="152" name=""/>
          <p:cNvGraphicFramePr/>
          <p:nvPr/>
        </p:nvGraphicFramePr>
        <p:xfrm>
          <a:off x="3200400" y="3809880"/>
          <a:ext cx="297000" cy="838440"/>
        </p:xfrm>
        <a:graphic>
          <a:graphicData uri="http://schemas.openxmlformats.org/presentationml/2006/ole">
            <p:oleObj r:id="rId3" spid="">
              <p:embed/>
              <p:pic>
                <p:nvPicPr>
                  <p:cNvPr id="153" name="" descr=""/>
                  <p:cNvPicPr/>
                  <p:nvPr/>
                </p:nvPicPr>
                <p:blipFill>
                  <a:blip r:embed="rId4"/>
                  <a:stretch/>
                </p:blipFill>
                <p:spPr>
                  <a:xfrm>
                    <a:off x="3200400" y="3809880"/>
                    <a:ext cx="297000" cy="838440"/>
                  </a:xfrm>
                  <a:prstGeom prst="rect">
                    <a:avLst/>
                  </a:prstGeom>
                  <a:ln w="0">
                    <a:noFill/>
                  </a:ln>
                </p:spPr>
              </p:pic>
            </p:oleObj>
          </a:graphicData>
        </a:graphic>
      </p:graphicFrame>
      <p:sp>
        <p:nvSpPr>
          <p:cNvPr id="154" name=""/>
          <p:cNvSpPr/>
          <p:nvPr/>
        </p:nvSpPr>
        <p:spPr>
          <a:xfrm>
            <a:off x="609480" y="1676520"/>
            <a:ext cx="6477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228600" y="1447920"/>
            <a:ext cx="834696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 fraction, decimal and percent cube.</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fraction cube and record the fraction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decimal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decimal cube and record the decimal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fraction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until you have filled the entire chart.</a:t>
            </a:r>
            <a:endParaRPr b="0" lang="en-US" sz="2400" spc="-1" strike="noStrike">
              <a:solidFill>
                <a:srgbClr val="000000"/>
              </a:solidFill>
              <a:latin typeface="Times New Roman"/>
            </a:endParaRPr>
          </a:p>
        </p:txBody>
      </p:sp>
      <p:sp>
        <p:nvSpPr>
          <p:cNvPr id="156" name=""/>
          <p:cNvSpPr/>
          <p:nvPr/>
        </p:nvSpPr>
        <p:spPr>
          <a:xfrm>
            <a:off x="152280" y="5638680"/>
            <a:ext cx="8686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8" name="" descr=""/>
          <p:cNvPicPr/>
          <p:nvPr/>
        </p:nvPicPr>
        <p:blipFill>
          <a:blip r:embed="rId5"/>
          <a:stretch/>
        </p:blipFill>
        <p:spPr>
          <a:xfrm>
            <a:off x="7310520" y="304920"/>
            <a:ext cx="1473120" cy="19047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60" name="PlaceHolder 2"/>
          <p:cNvSpPr>
            <a:spLocks noGrp="1"/>
          </p:cNvSpPr>
          <p:nvPr>
            <p:ph type="subTitle"/>
          </p:nvPr>
        </p:nvSpPr>
        <p:spPr>
          <a:xfrm>
            <a:off x="837720" y="1828440"/>
            <a:ext cx="7543800" cy="3886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old Italic"/>
              </a:rPr>
              <a:t>Exit Ticket time</a:t>
            </a:r>
            <a:r>
              <a:rPr b="0" lang="en-US" sz="3200" spc="-1" strike="noStrike">
                <a:solidFill>
                  <a:srgbClr val="000000"/>
                </a:solidFill>
                <a:latin typeface="Arial Bold Ital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762120"/>
            <a:ext cx="79246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mework:</a:t>
            </a:r>
            <a:br>
              <a:rPr sz="4000"/>
            </a:br>
            <a:r>
              <a:rPr b="0" lang="en-US" sz="4000" spc="-1" strike="noStrike">
                <a:solidFill>
                  <a:srgbClr val="000000"/>
                </a:solidFill>
                <a:latin typeface="Times New Roman"/>
              </a:rPr>
              <a:t>Fractions, Decimals % Review Worksheet</a:t>
            </a:r>
            <a:br>
              <a:rPr sz="4000"/>
            </a:br>
            <a:br>
              <a:rPr sz="4000"/>
            </a:br>
            <a:r>
              <a:rPr b="0" lang="en-US" sz="4000" spc="-1" strike="noStrike">
                <a:solidFill>
                  <a:srgbClr val="000000"/>
                </a:solidFill>
                <a:latin typeface="Times New Roman"/>
              </a:rPr>
              <a:t>QUIZ TOMORROW</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 will be Tuesday, October 18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1:02:49Z</dcterms:created>
  <dc:creator>Brian McGrath</dc:creator>
  <dc:description/>
  <dc:language>en-US</dc:language>
  <cp:lastModifiedBy>deanne e mcgrath</cp:lastModifiedBy>
  <dcterms:modified xsi:type="dcterms:W3CDTF">2011-10-10T15:32:56Z</dcterms:modified>
  <cp:revision>4</cp:revision>
  <dc:subject/>
  <dc:title>PowerPoint Presentation</dc:title>
</cp:coreProperties>
</file>